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CD1D8-3CA1-4026-8F7A-C57D3656975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DDA27-2EE2-45C4-B02A-E25B329759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B42B8-8826-435B-9E6F-4A32D2353A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63396-9691-488D-90B5-F2A67BAD78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8193A-A017-4D1C-BFC1-BA9E9C440D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8084A-D4D5-4886-B02B-FB03C97D8D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335-B4EA-4135-8687-80CC1170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538-7BE2-44A7-B39B-8E7BC238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A21-E9E3-419F-B124-7F0205E4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F6E-71C6-45BB-A418-9E9B6257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352-C138-416A-BA83-C5EE4418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21B-2A4C-4400-8C1B-51B4F5AB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379-26E2-4F9D-B3E6-0B8ECD72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616-BED6-4FB0-8D84-2BBDB923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227B-DD33-4897-9ED5-FC6A6946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9A2-FE33-4175-9353-4B85F493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FEA-7210-4EAF-BE81-6FDBCD90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5EC-B66E-443A-A252-39DDCD71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6586B-68A4-43C5-9AD0-3E0E513CEB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083040" y="2540160"/>
            <a:ext cx="5414760" cy="36144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76640" y="4127040"/>
            <a:ext cx="5398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西游记</a:t>
            </a:r>
            <a:r>
              <a:rPr b="1" lang="en-US" sz="2200" spc="-1" strike="noStrike">
                <a:solidFill>
                  <a:srgbClr val="80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中给我们留下最深刻印象的是孙悟空，这个嫉恶如仇、英勇无畏、极具反抗意识的孙悟空是从哪儿来的？又是怎样成为美猴王的呢？今天，我们就来了解石猴变成美猴王的经过吧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1494000" y="33591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组合 4"/>
          <p:cNvGrpSpPr/>
          <p:nvPr/>
        </p:nvGrpSpPr>
        <p:grpSpPr>
          <a:xfrm>
            <a:off x="2019240" y="2927520"/>
            <a:ext cx="4349880" cy="1373400"/>
            <a:chOff x="2019240" y="2927520"/>
            <a:chExt cx="4349880" cy="1373400"/>
          </a:xfrm>
        </p:grpSpPr>
        <p:sp>
          <p:nvSpPr>
            <p:cNvPr id="177" name="左大括号 2"/>
            <p:cNvSpPr/>
            <p:nvPr/>
          </p:nvSpPr>
          <p:spPr>
            <a:xfrm>
              <a:off x="2019240" y="3170160"/>
              <a:ext cx="342720" cy="928800"/>
            </a:xfrm>
            <a:custGeom>
              <a:avLst/>
              <a:gdLst>
                <a:gd name="textAreaLeft" fmla="*/ 218880 w 342720"/>
                <a:gd name="textAreaRight" fmla="*/ 343080 w 34272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2"/>
                    <a:pt x="10800" y="424"/>
                  </a:cubicBezTo>
                  <a:lnTo>
                    <a:pt x="10800" y="10376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2"/>
                    <a:pt x="10800" y="11224"/>
                  </a:cubicBezTo>
                  <a:lnTo>
                    <a:pt x="10800" y="21176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Box 3"/>
            <p:cNvSpPr/>
            <p:nvPr/>
          </p:nvSpPr>
          <p:spPr>
            <a:xfrm>
              <a:off x="2280960" y="2927520"/>
              <a:ext cx="40881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ě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省吃节用  省心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ǐ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反省  省亲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80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"/>
          <p:cNvSpPr/>
          <p:nvPr/>
        </p:nvSpPr>
        <p:spPr>
          <a:xfrm>
            <a:off x="1274760" y="1949400"/>
            <a:ext cx="74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迸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避暑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化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顽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明明朗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8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矩形 1"/>
          <p:cNvSpPr/>
          <p:nvPr/>
        </p:nvSpPr>
        <p:spPr>
          <a:xfrm>
            <a:off x="2038320" y="1971720"/>
            <a:ext cx="638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文中指石头裂开而往外飞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天气炎热的时候到凉爽的地方去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今年夏天我们全家都到北戴河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避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福气；运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顽固无知。文中指顽皮，不驯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明显，清晰。文中指桥梁显得非常清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1"/>
          <p:cNvSpPr/>
          <p:nvPr/>
        </p:nvSpPr>
        <p:spPr>
          <a:xfrm>
            <a:off x="1258920" y="1981080"/>
            <a:ext cx="74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喜不自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造地设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91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矩形 1"/>
          <p:cNvSpPr/>
          <p:nvPr/>
        </p:nvSpPr>
        <p:spPr>
          <a:xfrm>
            <a:off x="2606760" y="198756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兴得控制不住自己。文中形容石猴非常高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从他脸上那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喜不自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表情，就可以猜出他一定又得到了老师的表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然形成而合乎理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梁山伯与祝英台本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天造地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一对情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1"/>
          <p:cNvSpPr/>
          <p:nvPr/>
        </p:nvSpPr>
        <p:spPr>
          <a:xfrm>
            <a:off x="1258920" y="198108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瞑目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滔滔不竭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力倦神疲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而无信，不知其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97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1"/>
          <p:cNvSpPr/>
          <p:nvPr/>
        </p:nvSpPr>
        <p:spPr>
          <a:xfrm>
            <a:off x="2476440" y="1857240"/>
            <a:ext cx="623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闭上眼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容水势大而连续不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江水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滔滔不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奔向远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太累了而全身无力，精神不好。文中指众猴进洞后搬弄东西而费尽了力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语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论语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为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意思是人如果不讲信用，真不知道怎么能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"/>
          <p:cNvSpPr/>
          <p:nvPr/>
        </p:nvSpPr>
        <p:spPr>
          <a:xfrm>
            <a:off x="3964320" y="19828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炎热　酷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2162160" y="2522520"/>
            <a:ext cx="64454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都表示天气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炎热”表示天气很热；“酷热”表示天气极热，强调热到让人难以忍受的程度，语义比“炎热”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炎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夏日，酸梅汤是我的最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气</a:t>
            </a: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酷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空气仿佛要烧起来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04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4"/>
          <p:cNvGrpSpPr/>
          <p:nvPr/>
        </p:nvGrpSpPr>
        <p:grpSpPr>
          <a:xfrm>
            <a:off x="681120" y="2587680"/>
            <a:ext cx="1670040" cy="459720"/>
            <a:chOff x="681120" y="2587680"/>
            <a:chExt cx="1670040" cy="459720"/>
          </a:xfrm>
        </p:grpSpPr>
        <p:pic>
          <p:nvPicPr>
            <p:cNvPr id="208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420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3"/>
            <p:cNvSpPr/>
            <p:nvPr/>
          </p:nvSpPr>
          <p:spPr>
            <a:xfrm>
              <a:off x="1024200" y="25876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20"/>
          <p:cNvGrpSpPr/>
          <p:nvPr/>
        </p:nvGrpSpPr>
        <p:grpSpPr>
          <a:xfrm>
            <a:off x="681120" y="3218040"/>
            <a:ext cx="1670040" cy="459720"/>
            <a:chOff x="681120" y="3218040"/>
            <a:chExt cx="1670040" cy="459720"/>
          </a:xfrm>
        </p:grpSpPr>
        <p:pic>
          <p:nvPicPr>
            <p:cNvPr id="211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724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22"/>
            <p:cNvSpPr/>
            <p:nvPr/>
          </p:nvSpPr>
          <p:spPr>
            <a:xfrm>
              <a:off x="1024200" y="32180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23"/>
          <p:cNvGrpSpPr/>
          <p:nvPr/>
        </p:nvGrpSpPr>
        <p:grpSpPr>
          <a:xfrm>
            <a:off x="681120" y="4938840"/>
            <a:ext cx="1670040" cy="459720"/>
            <a:chOff x="681120" y="4938840"/>
            <a:chExt cx="1670040" cy="459720"/>
          </a:xfrm>
        </p:grpSpPr>
        <p:pic>
          <p:nvPicPr>
            <p:cNvPr id="214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49932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Box 25"/>
            <p:cNvSpPr/>
            <p:nvPr/>
          </p:nvSpPr>
          <p:spPr>
            <a:xfrm>
              <a:off x="1024200" y="49388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1"/>
          <p:cNvSpPr/>
          <p:nvPr/>
        </p:nvSpPr>
        <p:spPr>
          <a:xfrm>
            <a:off x="887400" y="164628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出世和生活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石猴出世和他的生活情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自告奋勇寻源头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众猴发现涧水源流，石猴自告奋勇前去一探究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被拜为王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石猴领众猴进入水帘洞，被拜为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7"/>
          <p:cNvSpPr/>
          <p:nvPr/>
        </p:nvSpPr>
        <p:spPr>
          <a:xfrm>
            <a:off x="977760" y="2144880"/>
            <a:ext cx="7392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他来历非凡，是一个吸收日月精华的石猴，非一般猴子能比；他能与其他猴子打成一片，具有亲民的特点；他有其他猴子没有的勇气和非凡的本领以及长远的眼光；他还有很强的演讲才能，说话有理有据，令人信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5"/>
          <p:cNvSpPr/>
          <p:nvPr/>
        </p:nvSpPr>
        <p:spPr>
          <a:xfrm>
            <a:off x="819000" y="1266840"/>
            <a:ext cx="7567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石猴有什么特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20" name="矩形 11"/>
          <p:cNvSpPr/>
          <p:nvPr/>
        </p:nvSpPr>
        <p:spPr>
          <a:xfrm>
            <a:off x="1017720" y="290988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写了</a:t>
            </a: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花果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的一块仙石孕育出的一个石猴，因为敢于第一个跳进</a:t>
            </a: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水帘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被群猴拜为猴王的故事，表现了石猴</a:t>
            </a: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勇敢机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特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496200" y="3471840"/>
          <a:ext cx="1469880" cy="733320"/>
        </p:xfrm>
        <a:graphic>
          <a:graphicData uri="http://schemas.openxmlformats.org/drawingml/2006/table">
            <a:tbl>
              <a:tblPr/>
              <a:tblGrid>
                <a:gridCol w="366480"/>
                <a:gridCol w="368280"/>
                <a:gridCol w="366840"/>
                <a:gridCol w="3682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241800" y="3471840"/>
          <a:ext cx="2938320" cy="733320"/>
        </p:xfrm>
        <a:graphic>
          <a:graphicData uri="http://schemas.openxmlformats.org/drawingml/2006/table">
            <a:tbl>
              <a:tblPr/>
              <a:tblGrid>
                <a:gridCol w="366480"/>
                <a:gridCol w="368280"/>
                <a:gridCol w="366840"/>
                <a:gridCol w="368280"/>
                <a:gridCol w="366840"/>
                <a:gridCol w="366480"/>
                <a:gridCol w="368280"/>
                <a:gridCol w="36684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544760" y="3471840"/>
          <a:ext cx="1468440" cy="733320"/>
        </p:xfrm>
        <a:graphic>
          <a:graphicData uri="http://schemas.openxmlformats.org/drawingml/2006/table">
            <a:tbl>
              <a:tblPr/>
              <a:tblGrid>
                <a:gridCol w="366480"/>
                <a:gridCol w="366840"/>
                <a:gridCol w="368280"/>
                <a:gridCol w="36684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矩形 7167"/>
          <p:cNvSpPr/>
          <p:nvPr/>
        </p:nvSpPr>
        <p:spPr>
          <a:xfrm>
            <a:off x="1020600" y="2300400"/>
            <a:ext cx="754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能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ènɡ liè           wàn  shì    jù   bèi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zhē  bì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2"/>
          <p:cNvSpPr/>
          <p:nvPr/>
        </p:nvSpPr>
        <p:spPr>
          <a:xfrm>
            <a:off x="1760400" y="33894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迸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18"/>
          <p:cNvSpPr/>
          <p:nvPr/>
        </p:nvSpPr>
        <p:spPr>
          <a:xfrm>
            <a:off x="6748920" y="3373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遮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19"/>
          <p:cNvSpPr/>
          <p:nvPr/>
        </p:nvSpPr>
        <p:spPr>
          <a:xfrm>
            <a:off x="3665160" y="3373560"/>
            <a:ext cx="21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万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事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俱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1"/>
          <p:cNvSpPr/>
          <p:nvPr/>
        </p:nvSpPr>
        <p:spPr>
          <a:xfrm>
            <a:off x="1411200" y="1911240"/>
            <a:ext cx="72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将下列词语中的错别字圈出来，改正在后面的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树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隽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冥目蹲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猴性玩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2561400" y="30114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椭圆 10"/>
          <p:cNvSpPr/>
          <p:nvPr/>
        </p:nvSpPr>
        <p:spPr>
          <a:xfrm>
            <a:off x="4959360" y="3660840"/>
            <a:ext cx="423720" cy="446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椭圆 11"/>
          <p:cNvSpPr/>
          <p:nvPr/>
        </p:nvSpPr>
        <p:spPr>
          <a:xfrm>
            <a:off x="5253120" y="4216320"/>
            <a:ext cx="423720" cy="446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椭圆 12"/>
          <p:cNvSpPr/>
          <p:nvPr/>
        </p:nvSpPr>
        <p:spPr>
          <a:xfrm>
            <a:off x="4622760" y="3129120"/>
            <a:ext cx="424080" cy="446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椭圆 13"/>
          <p:cNvSpPr/>
          <p:nvPr/>
        </p:nvSpPr>
        <p:spPr>
          <a:xfrm>
            <a:off x="1838160" y="3116160"/>
            <a:ext cx="422280" cy="446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椭圆 14"/>
          <p:cNvSpPr/>
          <p:nvPr/>
        </p:nvSpPr>
        <p:spPr>
          <a:xfrm>
            <a:off x="1469880" y="3662280"/>
            <a:ext cx="424080" cy="446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椭圆 15"/>
          <p:cNvSpPr/>
          <p:nvPr/>
        </p:nvSpPr>
        <p:spPr>
          <a:xfrm>
            <a:off x="1820880" y="4189320"/>
            <a:ext cx="423720" cy="446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16"/>
          <p:cNvSpPr/>
          <p:nvPr/>
        </p:nvSpPr>
        <p:spPr>
          <a:xfrm>
            <a:off x="5598000" y="30002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7"/>
          <p:cNvSpPr/>
          <p:nvPr/>
        </p:nvSpPr>
        <p:spPr>
          <a:xfrm>
            <a:off x="3167640" y="35575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8"/>
          <p:cNvSpPr/>
          <p:nvPr/>
        </p:nvSpPr>
        <p:spPr>
          <a:xfrm>
            <a:off x="5637240" y="35323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9"/>
          <p:cNvSpPr/>
          <p:nvPr/>
        </p:nvSpPr>
        <p:spPr>
          <a:xfrm>
            <a:off x="2529360" y="41068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20"/>
          <p:cNvSpPr/>
          <p:nvPr/>
        </p:nvSpPr>
        <p:spPr>
          <a:xfrm>
            <a:off x="6275160" y="40845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1" descr="C:\Documents and Settings\Administrator\桌面\QQ截图20170611171241.png"/>
          <p:cNvPicPr/>
          <p:nvPr/>
        </p:nvPicPr>
        <p:blipFill>
          <a:blip r:embed="rId1"/>
          <a:stretch/>
        </p:blipFill>
        <p:spPr>
          <a:xfrm>
            <a:off x="1560600" y="2327400"/>
            <a:ext cx="6197400" cy="313200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2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矩形 47" descr=""/>
            <p:cNvPicPr/>
            <p:nvPr/>
          </p:nvPicPr>
          <p:blipFill>
            <a:blip r:embed="rId5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组合 13338"/>
          <p:cNvGrpSpPr/>
          <p:nvPr/>
        </p:nvGrpSpPr>
        <p:grpSpPr>
          <a:xfrm>
            <a:off x="1949400" y="905040"/>
            <a:ext cx="5008680" cy="1180800"/>
            <a:chOff x="1949400" y="905040"/>
            <a:chExt cx="5008680" cy="1180800"/>
          </a:xfrm>
        </p:grpSpPr>
        <p:sp>
          <p:nvSpPr>
            <p:cNvPr id="66" name="Text Box 2"/>
            <p:cNvSpPr/>
            <p:nvPr/>
          </p:nvSpPr>
          <p:spPr>
            <a:xfrm>
              <a:off x="3662280" y="1011240"/>
              <a:ext cx="329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猴王出世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组合 13337"/>
            <p:cNvGrpSpPr/>
            <p:nvPr/>
          </p:nvGrpSpPr>
          <p:grpSpPr>
            <a:xfrm>
              <a:off x="1949400" y="905040"/>
              <a:ext cx="1329480" cy="1180800"/>
              <a:chOff x="1949400" y="905040"/>
              <a:chExt cx="1329480" cy="1180800"/>
            </a:xfrm>
          </p:grpSpPr>
          <p:sp>
            <p:nvSpPr>
              <p:cNvPr id="68" name="AutoShape 11"/>
              <p:cNvSpPr/>
              <p:nvPr/>
            </p:nvSpPr>
            <p:spPr>
              <a:xfrm>
                <a:off x="1949400" y="905040"/>
                <a:ext cx="130752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文本框 13"/>
              <p:cNvSpPr/>
              <p:nvPr/>
            </p:nvSpPr>
            <p:spPr>
              <a:xfrm>
                <a:off x="2129400" y="953640"/>
                <a:ext cx="11494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0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71" name="任意多边形 22" descr=""/>
            <p:cNvPicPr/>
            <p:nvPr/>
          </p:nvPicPr>
          <p:blipFill>
            <a:blip r:embed="rId6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任意多边形 23" descr=""/>
            <p:cNvPicPr/>
            <p:nvPr/>
          </p:nvPicPr>
          <p:blipFill>
            <a:blip r:embed="rId7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任意多边形 24" descr=""/>
            <p:cNvPicPr/>
            <p:nvPr/>
          </p:nvPicPr>
          <p:blipFill>
            <a:blip r:embed="rId8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任意多边形 25" descr=""/>
            <p:cNvPicPr/>
            <p:nvPr/>
          </p:nvPicPr>
          <p:blipFill>
            <a:blip r:embed="rId9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流程图: 摘录 26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流程图: 摘录 27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流程图: 摘录 28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"/>
          <p:cNvSpPr/>
          <p:nvPr/>
        </p:nvSpPr>
        <p:spPr>
          <a:xfrm>
            <a:off x="1459080" y="1913040"/>
            <a:ext cx="71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把成语补充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喜不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　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设　　　　　　滔滔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3"/>
          <p:cNvSpPr/>
          <p:nvPr/>
        </p:nvSpPr>
        <p:spPr>
          <a:xfrm>
            <a:off x="2910600" y="25066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5"/>
          <p:cNvSpPr/>
          <p:nvPr/>
        </p:nvSpPr>
        <p:spPr>
          <a:xfrm>
            <a:off x="5941080" y="25066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6"/>
          <p:cNvSpPr/>
          <p:nvPr/>
        </p:nvSpPr>
        <p:spPr>
          <a:xfrm>
            <a:off x="2910600" y="30592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7"/>
          <p:cNvSpPr/>
          <p:nvPr/>
        </p:nvSpPr>
        <p:spPr>
          <a:xfrm>
            <a:off x="6296040" y="30430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8"/>
          <p:cNvSpPr/>
          <p:nvPr/>
        </p:nvSpPr>
        <p:spPr>
          <a:xfrm>
            <a:off x="7204680" y="30607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9"/>
          <p:cNvSpPr/>
          <p:nvPr/>
        </p:nvSpPr>
        <p:spPr>
          <a:xfrm>
            <a:off x="2254680" y="36050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10"/>
          <p:cNvSpPr/>
          <p:nvPr/>
        </p:nvSpPr>
        <p:spPr>
          <a:xfrm>
            <a:off x="3594600" y="36003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1"/>
          <p:cNvSpPr/>
          <p:nvPr/>
        </p:nvSpPr>
        <p:spPr>
          <a:xfrm>
            <a:off x="787320" y="1249200"/>
            <a:ext cx="7774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解释下列句中画线的内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众猴都道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股水不知是哪里来的水。我们今日趁闲顺涧边往上溜头寻看源流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耍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去耶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好猴！你看他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瞑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蹲身，将身一纵，径跳入瀑布泉中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位啊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人而无信，不知其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你们才说有本事进得来，出得去，不伤身体者就拜他为王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5"/>
          <p:cNvSpPr/>
          <p:nvPr/>
        </p:nvSpPr>
        <p:spPr>
          <a:xfrm>
            <a:off x="7964280" y="233352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8"/>
          <p:cNvSpPr/>
          <p:nvPr/>
        </p:nvSpPr>
        <p:spPr>
          <a:xfrm>
            <a:off x="2543040" y="341640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闭上眼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9"/>
          <p:cNvSpPr/>
          <p:nvPr/>
        </p:nvSpPr>
        <p:spPr>
          <a:xfrm>
            <a:off x="2658240" y="50896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人如果不讲信用，不知道怎么能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1"/>
          <p:cNvSpPr/>
          <p:nvPr/>
        </p:nvSpPr>
        <p:spPr>
          <a:xfrm>
            <a:off x="803160" y="1565280"/>
            <a:ext cx="7774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修改病句，把正确的句子写到横线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成绩的提高，取决于学生自身是否努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国棉花的生产，长期不能自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那崇高的革命品质，经常浮现在我的脑海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3"/>
          <p:cNvSpPr/>
          <p:nvPr/>
        </p:nvSpPr>
        <p:spPr>
          <a:xfrm>
            <a:off x="4216320" y="262404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学习成绩的提高，取决于学生自身的努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5"/>
          <p:cNvSpPr/>
          <p:nvPr/>
        </p:nvSpPr>
        <p:spPr>
          <a:xfrm>
            <a:off x="2287440" y="3713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我国生产的棉花，长期不能自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7"/>
          <p:cNvSpPr/>
          <p:nvPr/>
        </p:nvSpPr>
        <p:spPr>
          <a:xfrm>
            <a:off x="4401360" y="480996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他那伟大的革命形象，经常浮现在我的脑海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771480" y="1722600"/>
            <a:ext cx="7774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面的说法，对的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√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错的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猴王出世》这篇课文选自我国古典小说《西游记》，它的作者是吴承恩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猴王出世》这篇课文的题目揭示了课文的主要内容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猴王出世》这篇课文是按倒叙的顺序写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4433400" y="28144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1702800" y="39178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7771320" y="4478400"/>
            <a:ext cx="3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890640" y="269712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“猿、麋”等生字；会写“迸、蔽”等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在充分默读之后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3827520" y="1933560"/>
            <a:ext cx="482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吴承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00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8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，字汝忠，号射阳山人，出生在一个由书香门第而沦落为商人的家庭。吴承恩自幼敏慧，博览群书，但科举失意，闭门著述。撰写了富有浪漫主义色彩的、中国古典四大名著之一的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西游记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2" descr="http://a4.att.hudong.com/88/33/01200000032024136323338514245.jpg"/>
          <p:cNvPicPr/>
          <p:nvPr/>
        </p:nvPicPr>
        <p:blipFill>
          <a:blip r:embed="rId3"/>
          <a:stretch/>
        </p:blipFill>
        <p:spPr>
          <a:xfrm>
            <a:off x="974880" y="2193840"/>
            <a:ext cx="27381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1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95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辶”平捺伸展托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矩形 3"/>
          <p:cNvSpPr/>
          <p:nvPr/>
        </p:nvSpPr>
        <p:spPr>
          <a:xfrm>
            <a:off x="1951200" y="1947960"/>
            <a:ext cx="146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è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84"/>
          <p:cNvSpPr/>
          <p:nvPr/>
        </p:nvSpPr>
        <p:spPr>
          <a:xfrm>
            <a:off x="6899400" y="3446640"/>
            <a:ext cx="150840" cy="1307880"/>
          </a:xfrm>
          <a:custGeom>
            <a:avLst/>
            <a:gdLst/>
            <a:ahLst/>
            <a:rect l="l" t="t" r="r" b="b"/>
            <a:pathLst>
              <a:path w="190" h="1647">
                <a:moveTo>
                  <a:pt x="61" y="1582"/>
                </a:moveTo>
                <a:lnTo>
                  <a:pt x="57" y="1571"/>
                </a:lnTo>
                <a:lnTo>
                  <a:pt x="52" y="1559"/>
                </a:lnTo>
                <a:lnTo>
                  <a:pt x="50" y="1544"/>
                </a:lnTo>
                <a:lnTo>
                  <a:pt x="46" y="1528"/>
                </a:lnTo>
                <a:lnTo>
                  <a:pt x="42" y="1511"/>
                </a:lnTo>
                <a:lnTo>
                  <a:pt x="40" y="1490"/>
                </a:lnTo>
                <a:lnTo>
                  <a:pt x="38" y="1469"/>
                </a:lnTo>
                <a:lnTo>
                  <a:pt x="36" y="1446"/>
                </a:lnTo>
                <a:lnTo>
                  <a:pt x="34" y="1421"/>
                </a:lnTo>
                <a:lnTo>
                  <a:pt x="32" y="1394"/>
                </a:lnTo>
                <a:lnTo>
                  <a:pt x="32" y="1365"/>
                </a:lnTo>
                <a:lnTo>
                  <a:pt x="32" y="1334"/>
                </a:lnTo>
                <a:lnTo>
                  <a:pt x="32" y="1302"/>
                </a:lnTo>
                <a:lnTo>
                  <a:pt x="34" y="1267"/>
                </a:lnTo>
                <a:lnTo>
                  <a:pt x="34" y="1231"/>
                </a:lnTo>
                <a:lnTo>
                  <a:pt x="36" y="1192"/>
                </a:lnTo>
                <a:lnTo>
                  <a:pt x="40" y="1119"/>
                </a:lnTo>
                <a:lnTo>
                  <a:pt x="44" y="1047"/>
                </a:lnTo>
                <a:lnTo>
                  <a:pt x="46" y="974"/>
                </a:lnTo>
                <a:lnTo>
                  <a:pt x="48" y="901"/>
                </a:lnTo>
                <a:lnTo>
                  <a:pt x="48" y="828"/>
                </a:lnTo>
                <a:lnTo>
                  <a:pt x="48" y="755"/>
                </a:lnTo>
                <a:lnTo>
                  <a:pt x="50" y="611"/>
                </a:lnTo>
                <a:lnTo>
                  <a:pt x="48" y="576"/>
                </a:lnTo>
                <a:lnTo>
                  <a:pt x="48" y="540"/>
                </a:lnTo>
                <a:lnTo>
                  <a:pt x="48" y="505"/>
                </a:lnTo>
                <a:lnTo>
                  <a:pt x="46" y="469"/>
                </a:lnTo>
                <a:lnTo>
                  <a:pt x="44" y="432"/>
                </a:lnTo>
                <a:lnTo>
                  <a:pt x="42" y="396"/>
                </a:lnTo>
                <a:lnTo>
                  <a:pt x="40" y="357"/>
                </a:lnTo>
                <a:lnTo>
                  <a:pt x="38" y="321"/>
                </a:lnTo>
                <a:lnTo>
                  <a:pt x="30" y="242"/>
                </a:lnTo>
                <a:lnTo>
                  <a:pt x="23" y="164"/>
                </a:lnTo>
                <a:lnTo>
                  <a:pt x="17" y="123"/>
                </a:lnTo>
                <a:lnTo>
                  <a:pt x="13" y="83"/>
                </a:lnTo>
                <a:lnTo>
                  <a:pt x="7" y="43"/>
                </a:lnTo>
                <a:lnTo>
                  <a:pt x="0" y="0"/>
                </a:lnTo>
                <a:lnTo>
                  <a:pt x="21" y="14"/>
                </a:lnTo>
                <a:lnTo>
                  <a:pt x="38" y="23"/>
                </a:lnTo>
                <a:lnTo>
                  <a:pt x="55" y="35"/>
                </a:lnTo>
                <a:lnTo>
                  <a:pt x="73" y="45"/>
                </a:lnTo>
                <a:lnTo>
                  <a:pt x="88" y="54"/>
                </a:lnTo>
                <a:lnTo>
                  <a:pt x="101" y="64"/>
                </a:lnTo>
                <a:lnTo>
                  <a:pt x="115" y="71"/>
                </a:lnTo>
                <a:lnTo>
                  <a:pt x="126" y="79"/>
                </a:lnTo>
                <a:lnTo>
                  <a:pt x="138" y="87"/>
                </a:lnTo>
                <a:lnTo>
                  <a:pt x="147" y="93"/>
                </a:lnTo>
                <a:lnTo>
                  <a:pt x="155" y="98"/>
                </a:lnTo>
                <a:lnTo>
                  <a:pt x="163" y="102"/>
                </a:lnTo>
                <a:lnTo>
                  <a:pt x="171" y="108"/>
                </a:lnTo>
                <a:lnTo>
                  <a:pt x="174" y="112"/>
                </a:lnTo>
                <a:lnTo>
                  <a:pt x="178" y="116"/>
                </a:lnTo>
                <a:lnTo>
                  <a:pt x="182" y="117"/>
                </a:lnTo>
                <a:lnTo>
                  <a:pt x="184" y="123"/>
                </a:lnTo>
                <a:lnTo>
                  <a:pt x="186" y="129"/>
                </a:lnTo>
                <a:lnTo>
                  <a:pt x="188" y="135"/>
                </a:lnTo>
                <a:lnTo>
                  <a:pt x="188" y="142"/>
                </a:lnTo>
                <a:lnTo>
                  <a:pt x="190" y="150"/>
                </a:lnTo>
                <a:lnTo>
                  <a:pt x="190" y="158"/>
                </a:lnTo>
                <a:lnTo>
                  <a:pt x="190" y="167"/>
                </a:lnTo>
                <a:lnTo>
                  <a:pt x="190" y="175"/>
                </a:lnTo>
                <a:lnTo>
                  <a:pt x="190" y="187"/>
                </a:lnTo>
                <a:lnTo>
                  <a:pt x="190" y="196"/>
                </a:lnTo>
                <a:lnTo>
                  <a:pt x="190" y="208"/>
                </a:lnTo>
                <a:lnTo>
                  <a:pt x="188" y="219"/>
                </a:lnTo>
                <a:lnTo>
                  <a:pt x="188" y="233"/>
                </a:lnTo>
                <a:lnTo>
                  <a:pt x="186" y="244"/>
                </a:lnTo>
                <a:lnTo>
                  <a:pt x="184" y="260"/>
                </a:lnTo>
                <a:lnTo>
                  <a:pt x="182" y="273"/>
                </a:lnTo>
                <a:lnTo>
                  <a:pt x="180" y="283"/>
                </a:lnTo>
                <a:lnTo>
                  <a:pt x="180" y="292"/>
                </a:lnTo>
                <a:lnTo>
                  <a:pt x="178" y="302"/>
                </a:lnTo>
                <a:lnTo>
                  <a:pt x="178" y="313"/>
                </a:lnTo>
                <a:lnTo>
                  <a:pt x="176" y="325"/>
                </a:lnTo>
                <a:lnTo>
                  <a:pt x="176" y="338"/>
                </a:lnTo>
                <a:lnTo>
                  <a:pt x="176" y="352"/>
                </a:lnTo>
                <a:lnTo>
                  <a:pt x="174" y="365"/>
                </a:lnTo>
                <a:lnTo>
                  <a:pt x="174" y="380"/>
                </a:lnTo>
                <a:lnTo>
                  <a:pt x="174" y="396"/>
                </a:lnTo>
                <a:lnTo>
                  <a:pt x="174" y="413"/>
                </a:lnTo>
                <a:lnTo>
                  <a:pt x="172" y="430"/>
                </a:lnTo>
                <a:lnTo>
                  <a:pt x="172" y="448"/>
                </a:lnTo>
                <a:lnTo>
                  <a:pt x="172" y="467"/>
                </a:lnTo>
                <a:lnTo>
                  <a:pt x="172" y="486"/>
                </a:lnTo>
                <a:lnTo>
                  <a:pt x="172" y="507"/>
                </a:lnTo>
                <a:lnTo>
                  <a:pt x="172" y="526"/>
                </a:lnTo>
                <a:lnTo>
                  <a:pt x="172" y="549"/>
                </a:lnTo>
                <a:lnTo>
                  <a:pt x="172" y="572"/>
                </a:lnTo>
                <a:lnTo>
                  <a:pt x="172" y="595"/>
                </a:lnTo>
                <a:lnTo>
                  <a:pt x="174" y="618"/>
                </a:lnTo>
                <a:lnTo>
                  <a:pt x="174" y="643"/>
                </a:lnTo>
                <a:lnTo>
                  <a:pt x="174" y="670"/>
                </a:lnTo>
                <a:lnTo>
                  <a:pt x="174" y="695"/>
                </a:lnTo>
                <a:lnTo>
                  <a:pt x="176" y="722"/>
                </a:lnTo>
                <a:lnTo>
                  <a:pt x="176" y="751"/>
                </a:lnTo>
                <a:lnTo>
                  <a:pt x="176" y="780"/>
                </a:lnTo>
                <a:lnTo>
                  <a:pt x="178" y="809"/>
                </a:lnTo>
                <a:lnTo>
                  <a:pt x="178" y="839"/>
                </a:lnTo>
                <a:lnTo>
                  <a:pt x="180" y="870"/>
                </a:lnTo>
                <a:lnTo>
                  <a:pt x="180" y="901"/>
                </a:lnTo>
                <a:lnTo>
                  <a:pt x="182" y="933"/>
                </a:lnTo>
                <a:lnTo>
                  <a:pt x="182" y="968"/>
                </a:lnTo>
                <a:lnTo>
                  <a:pt x="184" y="1000"/>
                </a:lnTo>
                <a:lnTo>
                  <a:pt x="184" y="1031"/>
                </a:lnTo>
                <a:lnTo>
                  <a:pt x="186" y="1062"/>
                </a:lnTo>
                <a:lnTo>
                  <a:pt x="186" y="1093"/>
                </a:lnTo>
                <a:lnTo>
                  <a:pt x="186" y="1121"/>
                </a:lnTo>
                <a:lnTo>
                  <a:pt x="186" y="1150"/>
                </a:lnTo>
                <a:lnTo>
                  <a:pt x="186" y="1177"/>
                </a:lnTo>
                <a:lnTo>
                  <a:pt x="186" y="1204"/>
                </a:lnTo>
                <a:lnTo>
                  <a:pt x="186" y="1229"/>
                </a:lnTo>
                <a:lnTo>
                  <a:pt x="186" y="1252"/>
                </a:lnTo>
                <a:lnTo>
                  <a:pt x="186" y="1277"/>
                </a:lnTo>
                <a:lnTo>
                  <a:pt x="186" y="1300"/>
                </a:lnTo>
                <a:lnTo>
                  <a:pt x="186" y="1321"/>
                </a:lnTo>
                <a:lnTo>
                  <a:pt x="186" y="1342"/>
                </a:lnTo>
                <a:lnTo>
                  <a:pt x="184" y="1361"/>
                </a:lnTo>
                <a:lnTo>
                  <a:pt x="184" y="1381"/>
                </a:lnTo>
                <a:lnTo>
                  <a:pt x="184" y="1398"/>
                </a:lnTo>
                <a:lnTo>
                  <a:pt x="182" y="1415"/>
                </a:lnTo>
                <a:lnTo>
                  <a:pt x="182" y="1432"/>
                </a:lnTo>
                <a:lnTo>
                  <a:pt x="180" y="1448"/>
                </a:lnTo>
                <a:lnTo>
                  <a:pt x="180" y="1461"/>
                </a:lnTo>
                <a:lnTo>
                  <a:pt x="180" y="1475"/>
                </a:lnTo>
                <a:lnTo>
                  <a:pt x="178" y="1488"/>
                </a:lnTo>
                <a:lnTo>
                  <a:pt x="176" y="1500"/>
                </a:lnTo>
                <a:lnTo>
                  <a:pt x="176" y="1511"/>
                </a:lnTo>
                <a:lnTo>
                  <a:pt x="174" y="1521"/>
                </a:lnTo>
                <a:lnTo>
                  <a:pt x="174" y="1528"/>
                </a:lnTo>
                <a:lnTo>
                  <a:pt x="172" y="1538"/>
                </a:lnTo>
                <a:lnTo>
                  <a:pt x="172" y="1544"/>
                </a:lnTo>
                <a:lnTo>
                  <a:pt x="171" y="1551"/>
                </a:lnTo>
                <a:lnTo>
                  <a:pt x="171" y="1555"/>
                </a:lnTo>
                <a:lnTo>
                  <a:pt x="165" y="1567"/>
                </a:lnTo>
                <a:lnTo>
                  <a:pt x="161" y="1578"/>
                </a:lnTo>
                <a:lnTo>
                  <a:pt x="157" y="1588"/>
                </a:lnTo>
                <a:lnTo>
                  <a:pt x="153" y="1597"/>
                </a:lnTo>
                <a:lnTo>
                  <a:pt x="149" y="1605"/>
                </a:lnTo>
                <a:lnTo>
                  <a:pt x="147" y="1613"/>
                </a:lnTo>
                <a:lnTo>
                  <a:pt x="144" y="1620"/>
                </a:lnTo>
                <a:lnTo>
                  <a:pt x="142" y="1626"/>
                </a:lnTo>
                <a:lnTo>
                  <a:pt x="138" y="1630"/>
                </a:lnTo>
                <a:lnTo>
                  <a:pt x="136" y="1636"/>
                </a:lnTo>
                <a:lnTo>
                  <a:pt x="132" y="1638"/>
                </a:lnTo>
                <a:lnTo>
                  <a:pt x="130" y="1642"/>
                </a:lnTo>
                <a:lnTo>
                  <a:pt x="128" y="1643"/>
                </a:lnTo>
                <a:lnTo>
                  <a:pt x="126" y="1645"/>
                </a:lnTo>
                <a:lnTo>
                  <a:pt x="123" y="1645"/>
                </a:lnTo>
                <a:lnTo>
                  <a:pt x="121" y="1647"/>
                </a:lnTo>
                <a:lnTo>
                  <a:pt x="119" y="1645"/>
                </a:lnTo>
                <a:lnTo>
                  <a:pt x="117" y="1645"/>
                </a:lnTo>
                <a:lnTo>
                  <a:pt x="113" y="1643"/>
                </a:lnTo>
                <a:lnTo>
                  <a:pt x="109" y="1642"/>
                </a:lnTo>
                <a:lnTo>
                  <a:pt x="107" y="1640"/>
                </a:lnTo>
                <a:lnTo>
                  <a:pt x="103" y="1636"/>
                </a:lnTo>
                <a:lnTo>
                  <a:pt x="99" y="1632"/>
                </a:lnTo>
                <a:lnTo>
                  <a:pt x="96" y="1628"/>
                </a:lnTo>
                <a:lnTo>
                  <a:pt x="88" y="1619"/>
                </a:lnTo>
                <a:lnTo>
                  <a:pt x="78" y="1609"/>
                </a:lnTo>
                <a:lnTo>
                  <a:pt x="69" y="1595"/>
                </a:lnTo>
                <a:lnTo>
                  <a:pt x="61" y="15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85"/>
          <p:cNvSpPr/>
          <p:nvPr/>
        </p:nvSpPr>
        <p:spPr>
          <a:xfrm>
            <a:off x="6180120" y="3776760"/>
            <a:ext cx="1314360" cy="277560"/>
          </a:xfrm>
          <a:custGeom>
            <a:avLst/>
            <a:gdLst/>
            <a:ahLst/>
            <a:rect l="l" t="t" r="r" b="b"/>
            <a:pathLst>
              <a:path w="1656" h="351">
                <a:moveTo>
                  <a:pt x="0" y="259"/>
                </a:moveTo>
                <a:lnTo>
                  <a:pt x="71" y="248"/>
                </a:lnTo>
                <a:lnTo>
                  <a:pt x="142" y="236"/>
                </a:lnTo>
                <a:lnTo>
                  <a:pt x="211" y="223"/>
                </a:lnTo>
                <a:lnTo>
                  <a:pt x="278" y="211"/>
                </a:lnTo>
                <a:lnTo>
                  <a:pt x="343" y="200"/>
                </a:lnTo>
                <a:lnTo>
                  <a:pt x="409" y="188"/>
                </a:lnTo>
                <a:lnTo>
                  <a:pt x="472" y="175"/>
                </a:lnTo>
                <a:lnTo>
                  <a:pt x="533" y="163"/>
                </a:lnTo>
                <a:lnTo>
                  <a:pt x="593" y="154"/>
                </a:lnTo>
                <a:lnTo>
                  <a:pt x="650" y="142"/>
                </a:lnTo>
                <a:lnTo>
                  <a:pt x="708" y="131"/>
                </a:lnTo>
                <a:lnTo>
                  <a:pt x="764" y="119"/>
                </a:lnTo>
                <a:lnTo>
                  <a:pt x="817" y="109"/>
                </a:lnTo>
                <a:lnTo>
                  <a:pt x="867" y="98"/>
                </a:lnTo>
                <a:lnTo>
                  <a:pt x="919" y="88"/>
                </a:lnTo>
                <a:lnTo>
                  <a:pt x="967" y="79"/>
                </a:lnTo>
                <a:lnTo>
                  <a:pt x="990" y="73"/>
                </a:lnTo>
                <a:lnTo>
                  <a:pt x="1013" y="69"/>
                </a:lnTo>
                <a:lnTo>
                  <a:pt x="1036" y="63"/>
                </a:lnTo>
                <a:lnTo>
                  <a:pt x="1057" y="60"/>
                </a:lnTo>
                <a:lnTo>
                  <a:pt x="1080" y="56"/>
                </a:lnTo>
                <a:lnTo>
                  <a:pt x="1101" y="52"/>
                </a:lnTo>
                <a:lnTo>
                  <a:pt x="1121" y="48"/>
                </a:lnTo>
                <a:lnTo>
                  <a:pt x="1142" y="44"/>
                </a:lnTo>
                <a:lnTo>
                  <a:pt x="1161" y="40"/>
                </a:lnTo>
                <a:lnTo>
                  <a:pt x="1180" y="36"/>
                </a:lnTo>
                <a:lnTo>
                  <a:pt x="1199" y="33"/>
                </a:lnTo>
                <a:lnTo>
                  <a:pt x="1217" y="31"/>
                </a:lnTo>
                <a:lnTo>
                  <a:pt x="1234" y="27"/>
                </a:lnTo>
                <a:lnTo>
                  <a:pt x="1251" y="25"/>
                </a:lnTo>
                <a:lnTo>
                  <a:pt x="1268" y="23"/>
                </a:lnTo>
                <a:lnTo>
                  <a:pt x="1284" y="19"/>
                </a:lnTo>
                <a:lnTo>
                  <a:pt x="1299" y="17"/>
                </a:lnTo>
                <a:lnTo>
                  <a:pt x="1315" y="15"/>
                </a:lnTo>
                <a:lnTo>
                  <a:pt x="1330" y="13"/>
                </a:lnTo>
                <a:lnTo>
                  <a:pt x="1343" y="12"/>
                </a:lnTo>
                <a:lnTo>
                  <a:pt x="1357" y="10"/>
                </a:lnTo>
                <a:lnTo>
                  <a:pt x="1370" y="8"/>
                </a:lnTo>
                <a:lnTo>
                  <a:pt x="1384" y="6"/>
                </a:lnTo>
                <a:lnTo>
                  <a:pt x="1395" y="6"/>
                </a:lnTo>
                <a:lnTo>
                  <a:pt x="1407" y="4"/>
                </a:lnTo>
                <a:lnTo>
                  <a:pt x="1418" y="4"/>
                </a:lnTo>
                <a:lnTo>
                  <a:pt x="1428" y="2"/>
                </a:lnTo>
                <a:lnTo>
                  <a:pt x="1439" y="2"/>
                </a:lnTo>
                <a:lnTo>
                  <a:pt x="1449" y="2"/>
                </a:lnTo>
                <a:lnTo>
                  <a:pt x="1458" y="0"/>
                </a:lnTo>
                <a:lnTo>
                  <a:pt x="1466" y="0"/>
                </a:lnTo>
                <a:lnTo>
                  <a:pt x="1474" y="0"/>
                </a:lnTo>
                <a:lnTo>
                  <a:pt x="1487" y="0"/>
                </a:lnTo>
                <a:lnTo>
                  <a:pt x="1501" y="2"/>
                </a:lnTo>
                <a:lnTo>
                  <a:pt x="1512" y="2"/>
                </a:lnTo>
                <a:lnTo>
                  <a:pt x="1524" y="2"/>
                </a:lnTo>
                <a:lnTo>
                  <a:pt x="1535" y="4"/>
                </a:lnTo>
                <a:lnTo>
                  <a:pt x="1545" y="6"/>
                </a:lnTo>
                <a:lnTo>
                  <a:pt x="1556" y="8"/>
                </a:lnTo>
                <a:lnTo>
                  <a:pt x="1564" y="8"/>
                </a:lnTo>
                <a:lnTo>
                  <a:pt x="1574" y="10"/>
                </a:lnTo>
                <a:lnTo>
                  <a:pt x="1581" y="13"/>
                </a:lnTo>
                <a:lnTo>
                  <a:pt x="1589" y="15"/>
                </a:lnTo>
                <a:lnTo>
                  <a:pt x="1597" y="17"/>
                </a:lnTo>
                <a:lnTo>
                  <a:pt x="1602" y="19"/>
                </a:lnTo>
                <a:lnTo>
                  <a:pt x="1608" y="21"/>
                </a:lnTo>
                <a:lnTo>
                  <a:pt x="1614" y="25"/>
                </a:lnTo>
                <a:lnTo>
                  <a:pt x="1620" y="27"/>
                </a:lnTo>
                <a:lnTo>
                  <a:pt x="1627" y="36"/>
                </a:lnTo>
                <a:lnTo>
                  <a:pt x="1635" y="46"/>
                </a:lnTo>
                <a:lnTo>
                  <a:pt x="1641" y="56"/>
                </a:lnTo>
                <a:lnTo>
                  <a:pt x="1647" y="63"/>
                </a:lnTo>
                <a:lnTo>
                  <a:pt x="1650" y="73"/>
                </a:lnTo>
                <a:lnTo>
                  <a:pt x="1654" y="79"/>
                </a:lnTo>
                <a:lnTo>
                  <a:pt x="1654" y="86"/>
                </a:lnTo>
                <a:lnTo>
                  <a:pt x="1656" y="92"/>
                </a:lnTo>
                <a:lnTo>
                  <a:pt x="1654" y="100"/>
                </a:lnTo>
                <a:lnTo>
                  <a:pt x="1652" y="108"/>
                </a:lnTo>
                <a:lnTo>
                  <a:pt x="1650" y="115"/>
                </a:lnTo>
                <a:lnTo>
                  <a:pt x="1645" y="123"/>
                </a:lnTo>
                <a:lnTo>
                  <a:pt x="1639" y="129"/>
                </a:lnTo>
                <a:lnTo>
                  <a:pt x="1635" y="131"/>
                </a:lnTo>
                <a:lnTo>
                  <a:pt x="1629" y="132"/>
                </a:lnTo>
                <a:lnTo>
                  <a:pt x="1625" y="136"/>
                </a:lnTo>
                <a:lnTo>
                  <a:pt x="1620" y="138"/>
                </a:lnTo>
                <a:lnTo>
                  <a:pt x="1614" y="140"/>
                </a:lnTo>
                <a:lnTo>
                  <a:pt x="1608" y="144"/>
                </a:lnTo>
                <a:lnTo>
                  <a:pt x="1595" y="148"/>
                </a:lnTo>
                <a:lnTo>
                  <a:pt x="1583" y="152"/>
                </a:lnTo>
                <a:lnTo>
                  <a:pt x="1572" y="154"/>
                </a:lnTo>
                <a:lnTo>
                  <a:pt x="1562" y="155"/>
                </a:lnTo>
                <a:lnTo>
                  <a:pt x="1554" y="155"/>
                </a:lnTo>
                <a:lnTo>
                  <a:pt x="1547" y="155"/>
                </a:lnTo>
                <a:lnTo>
                  <a:pt x="1539" y="155"/>
                </a:lnTo>
                <a:lnTo>
                  <a:pt x="1535" y="155"/>
                </a:lnTo>
                <a:lnTo>
                  <a:pt x="1531" y="155"/>
                </a:lnTo>
                <a:lnTo>
                  <a:pt x="1528" y="155"/>
                </a:lnTo>
                <a:lnTo>
                  <a:pt x="1520" y="155"/>
                </a:lnTo>
                <a:lnTo>
                  <a:pt x="1512" y="155"/>
                </a:lnTo>
                <a:lnTo>
                  <a:pt x="1503" y="155"/>
                </a:lnTo>
                <a:lnTo>
                  <a:pt x="1491" y="157"/>
                </a:lnTo>
                <a:lnTo>
                  <a:pt x="1480" y="157"/>
                </a:lnTo>
                <a:lnTo>
                  <a:pt x="1466" y="157"/>
                </a:lnTo>
                <a:lnTo>
                  <a:pt x="1451" y="157"/>
                </a:lnTo>
                <a:lnTo>
                  <a:pt x="1434" y="159"/>
                </a:lnTo>
                <a:lnTo>
                  <a:pt x="1414" y="159"/>
                </a:lnTo>
                <a:lnTo>
                  <a:pt x="1395" y="161"/>
                </a:lnTo>
                <a:lnTo>
                  <a:pt x="1374" y="163"/>
                </a:lnTo>
                <a:lnTo>
                  <a:pt x="1353" y="165"/>
                </a:lnTo>
                <a:lnTo>
                  <a:pt x="1330" y="167"/>
                </a:lnTo>
                <a:lnTo>
                  <a:pt x="1305" y="169"/>
                </a:lnTo>
                <a:lnTo>
                  <a:pt x="1282" y="171"/>
                </a:lnTo>
                <a:lnTo>
                  <a:pt x="1257" y="175"/>
                </a:lnTo>
                <a:lnTo>
                  <a:pt x="1236" y="177"/>
                </a:lnTo>
                <a:lnTo>
                  <a:pt x="1215" y="179"/>
                </a:lnTo>
                <a:lnTo>
                  <a:pt x="1196" y="180"/>
                </a:lnTo>
                <a:lnTo>
                  <a:pt x="1176" y="182"/>
                </a:lnTo>
                <a:lnTo>
                  <a:pt x="1159" y="184"/>
                </a:lnTo>
                <a:lnTo>
                  <a:pt x="1144" y="186"/>
                </a:lnTo>
                <a:lnTo>
                  <a:pt x="1128" y="188"/>
                </a:lnTo>
                <a:lnTo>
                  <a:pt x="1115" y="190"/>
                </a:lnTo>
                <a:lnTo>
                  <a:pt x="1103" y="192"/>
                </a:lnTo>
                <a:lnTo>
                  <a:pt x="1092" y="192"/>
                </a:lnTo>
                <a:lnTo>
                  <a:pt x="1084" y="194"/>
                </a:lnTo>
                <a:lnTo>
                  <a:pt x="1075" y="194"/>
                </a:lnTo>
                <a:lnTo>
                  <a:pt x="1069" y="194"/>
                </a:lnTo>
                <a:lnTo>
                  <a:pt x="1063" y="196"/>
                </a:lnTo>
                <a:lnTo>
                  <a:pt x="1061" y="196"/>
                </a:lnTo>
                <a:lnTo>
                  <a:pt x="1057" y="196"/>
                </a:lnTo>
                <a:lnTo>
                  <a:pt x="1053" y="196"/>
                </a:lnTo>
                <a:lnTo>
                  <a:pt x="1048" y="196"/>
                </a:lnTo>
                <a:lnTo>
                  <a:pt x="1042" y="196"/>
                </a:lnTo>
                <a:lnTo>
                  <a:pt x="1036" y="198"/>
                </a:lnTo>
                <a:lnTo>
                  <a:pt x="1029" y="198"/>
                </a:lnTo>
                <a:lnTo>
                  <a:pt x="1021" y="200"/>
                </a:lnTo>
                <a:lnTo>
                  <a:pt x="1011" y="202"/>
                </a:lnTo>
                <a:lnTo>
                  <a:pt x="1002" y="202"/>
                </a:lnTo>
                <a:lnTo>
                  <a:pt x="992" y="203"/>
                </a:lnTo>
                <a:lnTo>
                  <a:pt x="981" y="205"/>
                </a:lnTo>
                <a:lnTo>
                  <a:pt x="969" y="207"/>
                </a:lnTo>
                <a:lnTo>
                  <a:pt x="956" y="209"/>
                </a:lnTo>
                <a:lnTo>
                  <a:pt x="942" y="211"/>
                </a:lnTo>
                <a:lnTo>
                  <a:pt x="929" y="213"/>
                </a:lnTo>
                <a:lnTo>
                  <a:pt x="913" y="217"/>
                </a:lnTo>
                <a:lnTo>
                  <a:pt x="898" y="219"/>
                </a:lnTo>
                <a:lnTo>
                  <a:pt x="883" y="223"/>
                </a:lnTo>
                <a:lnTo>
                  <a:pt x="865" y="225"/>
                </a:lnTo>
                <a:lnTo>
                  <a:pt x="848" y="228"/>
                </a:lnTo>
                <a:lnTo>
                  <a:pt x="829" y="230"/>
                </a:lnTo>
                <a:lnTo>
                  <a:pt x="810" y="234"/>
                </a:lnTo>
                <a:lnTo>
                  <a:pt x="789" y="238"/>
                </a:lnTo>
                <a:lnTo>
                  <a:pt x="769" y="242"/>
                </a:lnTo>
                <a:lnTo>
                  <a:pt x="748" y="246"/>
                </a:lnTo>
                <a:lnTo>
                  <a:pt x="725" y="250"/>
                </a:lnTo>
                <a:lnTo>
                  <a:pt x="702" y="253"/>
                </a:lnTo>
                <a:lnTo>
                  <a:pt x="679" y="259"/>
                </a:lnTo>
                <a:lnTo>
                  <a:pt x="654" y="263"/>
                </a:lnTo>
                <a:lnTo>
                  <a:pt x="629" y="267"/>
                </a:lnTo>
                <a:lnTo>
                  <a:pt x="604" y="273"/>
                </a:lnTo>
                <a:lnTo>
                  <a:pt x="577" y="278"/>
                </a:lnTo>
                <a:lnTo>
                  <a:pt x="553" y="282"/>
                </a:lnTo>
                <a:lnTo>
                  <a:pt x="529" y="286"/>
                </a:lnTo>
                <a:lnTo>
                  <a:pt x="505" y="292"/>
                </a:lnTo>
                <a:lnTo>
                  <a:pt x="483" y="296"/>
                </a:lnTo>
                <a:lnTo>
                  <a:pt x="460" y="299"/>
                </a:lnTo>
                <a:lnTo>
                  <a:pt x="439" y="303"/>
                </a:lnTo>
                <a:lnTo>
                  <a:pt x="418" y="307"/>
                </a:lnTo>
                <a:lnTo>
                  <a:pt x="399" y="311"/>
                </a:lnTo>
                <a:lnTo>
                  <a:pt x="378" y="315"/>
                </a:lnTo>
                <a:lnTo>
                  <a:pt x="361" y="317"/>
                </a:lnTo>
                <a:lnTo>
                  <a:pt x="341" y="321"/>
                </a:lnTo>
                <a:lnTo>
                  <a:pt x="324" y="322"/>
                </a:lnTo>
                <a:lnTo>
                  <a:pt x="309" y="326"/>
                </a:lnTo>
                <a:lnTo>
                  <a:pt x="293" y="328"/>
                </a:lnTo>
                <a:lnTo>
                  <a:pt x="278" y="332"/>
                </a:lnTo>
                <a:lnTo>
                  <a:pt x="263" y="334"/>
                </a:lnTo>
                <a:lnTo>
                  <a:pt x="249" y="336"/>
                </a:lnTo>
                <a:lnTo>
                  <a:pt x="236" y="338"/>
                </a:lnTo>
                <a:lnTo>
                  <a:pt x="224" y="340"/>
                </a:lnTo>
                <a:lnTo>
                  <a:pt x="213" y="342"/>
                </a:lnTo>
                <a:lnTo>
                  <a:pt x="201" y="344"/>
                </a:lnTo>
                <a:lnTo>
                  <a:pt x="192" y="344"/>
                </a:lnTo>
                <a:lnTo>
                  <a:pt x="182" y="346"/>
                </a:lnTo>
                <a:lnTo>
                  <a:pt x="174" y="347"/>
                </a:lnTo>
                <a:lnTo>
                  <a:pt x="165" y="347"/>
                </a:lnTo>
                <a:lnTo>
                  <a:pt x="159" y="349"/>
                </a:lnTo>
                <a:lnTo>
                  <a:pt x="151" y="349"/>
                </a:lnTo>
                <a:lnTo>
                  <a:pt x="146" y="349"/>
                </a:lnTo>
                <a:lnTo>
                  <a:pt x="142" y="349"/>
                </a:lnTo>
                <a:lnTo>
                  <a:pt x="136" y="349"/>
                </a:lnTo>
                <a:lnTo>
                  <a:pt x="132" y="351"/>
                </a:lnTo>
                <a:lnTo>
                  <a:pt x="126" y="349"/>
                </a:lnTo>
                <a:lnTo>
                  <a:pt x="119" y="349"/>
                </a:lnTo>
                <a:lnTo>
                  <a:pt x="111" y="347"/>
                </a:lnTo>
                <a:lnTo>
                  <a:pt x="105" y="346"/>
                </a:lnTo>
                <a:lnTo>
                  <a:pt x="98" y="342"/>
                </a:lnTo>
                <a:lnTo>
                  <a:pt x="90" y="340"/>
                </a:lnTo>
                <a:lnTo>
                  <a:pt x="82" y="334"/>
                </a:lnTo>
                <a:lnTo>
                  <a:pt x="75" y="330"/>
                </a:lnTo>
                <a:lnTo>
                  <a:pt x="67" y="324"/>
                </a:lnTo>
                <a:lnTo>
                  <a:pt x="59" y="317"/>
                </a:lnTo>
                <a:lnTo>
                  <a:pt x="50" y="309"/>
                </a:lnTo>
                <a:lnTo>
                  <a:pt x="40" y="301"/>
                </a:lnTo>
                <a:lnTo>
                  <a:pt x="30" y="292"/>
                </a:lnTo>
                <a:lnTo>
                  <a:pt x="21" y="282"/>
                </a:lnTo>
                <a:lnTo>
                  <a:pt x="11" y="271"/>
                </a:lnTo>
                <a:lnTo>
                  <a:pt x="0" y="2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86"/>
          <p:cNvSpPr/>
          <p:nvPr/>
        </p:nvSpPr>
        <p:spPr>
          <a:xfrm>
            <a:off x="6208560" y="3560760"/>
            <a:ext cx="505080" cy="1141560"/>
          </a:xfrm>
          <a:custGeom>
            <a:avLst/>
            <a:gdLst/>
            <a:ahLst/>
            <a:rect l="l" t="t" r="r" b="b"/>
            <a:pathLst>
              <a:path w="636" h="1438">
                <a:moveTo>
                  <a:pt x="628" y="336"/>
                </a:moveTo>
                <a:lnTo>
                  <a:pt x="626" y="359"/>
                </a:lnTo>
                <a:lnTo>
                  <a:pt x="624" y="380"/>
                </a:lnTo>
                <a:lnTo>
                  <a:pt x="622" y="405"/>
                </a:lnTo>
                <a:lnTo>
                  <a:pt x="618" y="428"/>
                </a:lnTo>
                <a:lnTo>
                  <a:pt x="614" y="476"/>
                </a:lnTo>
                <a:lnTo>
                  <a:pt x="607" y="528"/>
                </a:lnTo>
                <a:lnTo>
                  <a:pt x="599" y="578"/>
                </a:lnTo>
                <a:lnTo>
                  <a:pt x="591" y="632"/>
                </a:lnTo>
                <a:lnTo>
                  <a:pt x="580" y="684"/>
                </a:lnTo>
                <a:lnTo>
                  <a:pt x="574" y="711"/>
                </a:lnTo>
                <a:lnTo>
                  <a:pt x="568" y="737"/>
                </a:lnTo>
                <a:lnTo>
                  <a:pt x="553" y="791"/>
                </a:lnTo>
                <a:lnTo>
                  <a:pt x="540" y="843"/>
                </a:lnTo>
                <a:lnTo>
                  <a:pt x="530" y="868"/>
                </a:lnTo>
                <a:lnTo>
                  <a:pt x="522" y="891"/>
                </a:lnTo>
                <a:lnTo>
                  <a:pt x="513" y="916"/>
                </a:lnTo>
                <a:lnTo>
                  <a:pt x="505" y="939"/>
                </a:lnTo>
                <a:lnTo>
                  <a:pt x="495" y="962"/>
                </a:lnTo>
                <a:lnTo>
                  <a:pt x="486" y="983"/>
                </a:lnTo>
                <a:lnTo>
                  <a:pt x="476" y="1004"/>
                </a:lnTo>
                <a:lnTo>
                  <a:pt x="467" y="1025"/>
                </a:lnTo>
                <a:lnTo>
                  <a:pt x="455" y="1046"/>
                </a:lnTo>
                <a:lnTo>
                  <a:pt x="445" y="1066"/>
                </a:lnTo>
                <a:lnTo>
                  <a:pt x="434" y="1083"/>
                </a:lnTo>
                <a:lnTo>
                  <a:pt x="422" y="1100"/>
                </a:lnTo>
                <a:lnTo>
                  <a:pt x="399" y="1135"/>
                </a:lnTo>
                <a:lnTo>
                  <a:pt x="376" y="1167"/>
                </a:lnTo>
                <a:lnTo>
                  <a:pt x="350" y="1198"/>
                </a:lnTo>
                <a:lnTo>
                  <a:pt x="323" y="1227"/>
                </a:lnTo>
                <a:lnTo>
                  <a:pt x="296" y="1256"/>
                </a:lnTo>
                <a:lnTo>
                  <a:pt x="267" y="1283"/>
                </a:lnTo>
                <a:lnTo>
                  <a:pt x="236" y="1309"/>
                </a:lnTo>
                <a:lnTo>
                  <a:pt x="206" y="1334"/>
                </a:lnTo>
                <a:lnTo>
                  <a:pt x="190" y="1346"/>
                </a:lnTo>
                <a:lnTo>
                  <a:pt x="175" y="1357"/>
                </a:lnTo>
                <a:lnTo>
                  <a:pt x="160" y="1367"/>
                </a:lnTo>
                <a:lnTo>
                  <a:pt x="144" y="1379"/>
                </a:lnTo>
                <a:lnTo>
                  <a:pt x="131" y="1386"/>
                </a:lnTo>
                <a:lnTo>
                  <a:pt x="117" y="1396"/>
                </a:lnTo>
                <a:lnTo>
                  <a:pt x="102" y="1404"/>
                </a:lnTo>
                <a:lnTo>
                  <a:pt x="88" y="1411"/>
                </a:lnTo>
                <a:lnTo>
                  <a:pt x="77" y="1417"/>
                </a:lnTo>
                <a:lnTo>
                  <a:pt x="64" y="1423"/>
                </a:lnTo>
                <a:lnTo>
                  <a:pt x="52" y="1427"/>
                </a:lnTo>
                <a:lnTo>
                  <a:pt x="41" y="1430"/>
                </a:lnTo>
                <a:lnTo>
                  <a:pt x="29" y="1434"/>
                </a:lnTo>
                <a:lnTo>
                  <a:pt x="19" y="1436"/>
                </a:lnTo>
                <a:lnTo>
                  <a:pt x="10" y="1438"/>
                </a:lnTo>
                <a:lnTo>
                  <a:pt x="0" y="1438"/>
                </a:lnTo>
                <a:lnTo>
                  <a:pt x="27" y="1411"/>
                </a:lnTo>
                <a:lnTo>
                  <a:pt x="52" y="1384"/>
                </a:lnTo>
                <a:lnTo>
                  <a:pt x="77" y="1357"/>
                </a:lnTo>
                <a:lnTo>
                  <a:pt x="102" y="1331"/>
                </a:lnTo>
                <a:lnTo>
                  <a:pt x="125" y="1304"/>
                </a:lnTo>
                <a:lnTo>
                  <a:pt x="146" y="1277"/>
                </a:lnTo>
                <a:lnTo>
                  <a:pt x="169" y="1252"/>
                </a:lnTo>
                <a:lnTo>
                  <a:pt x="188" y="1225"/>
                </a:lnTo>
                <a:lnTo>
                  <a:pt x="207" y="1200"/>
                </a:lnTo>
                <a:lnTo>
                  <a:pt x="227" y="1173"/>
                </a:lnTo>
                <a:lnTo>
                  <a:pt x="244" y="1148"/>
                </a:lnTo>
                <a:lnTo>
                  <a:pt x="261" y="1123"/>
                </a:lnTo>
                <a:lnTo>
                  <a:pt x="275" y="1096"/>
                </a:lnTo>
                <a:lnTo>
                  <a:pt x="290" y="1071"/>
                </a:lnTo>
                <a:lnTo>
                  <a:pt x="302" y="1048"/>
                </a:lnTo>
                <a:lnTo>
                  <a:pt x="315" y="1023"/>
                </a:lnTo>
                <a:lnTo>
                  <a:pt x="325" y="1000"/>
                </a:lnTo>
                <a:lnTo>
                  <a:pt x="336" y="977"/>
                </a:lnTo>
                <a:lnTo>
                  <a:pt x="346" y="952"/>
                </a:lnTo>
                <a:lnTo>
                  <a:pt x="357" y="927"/>
                </a:lnTo>
                <a:lnTo>
                  <a:pt x="367" y="903"/>
                </a:lnTo>
                <a:lnTo>
                  <a:pt x="376" y="876"/>
                </a:lnTo>
                <a:lnTo>
                  <a:pt x="386" y="849"/>
                </a:lnTo>
                <a:lnTo>
                  <a:pt x="394" y="820"/>
                </a:lnTo>
                <a:lnTo>
                  <a:pt x="403" y="791"/>
                </a:lnTo>
                <a:lnTo>
                  <a:pt x="411" y="762"/>
                </a:lnTo>
                <a:lnTo>
                  <a:pt x="419" y="732"/>
                </a:lnTo>
                <a:lnTo>
                  <a:pt x="424" y="701"/>
                </a:lnTo>
                <a:lnTo>
                  <a:pt x="432" y="668"/>
                </a:lnTo>
                <a:lnTo>
                  <a:pt x="438" y="636"/>
                </a:lnTo>
                <a:lnTo>
                  <a:pt x="444" y="603"/>
                </a:lnTo>
                <a:lnTo>
                  <a:pt x="447" y="570"/>
                </a:lnTo>
                <a:lnTo>
                  <a:pt x="451" y="536"/>
                </a:lnTo>
                <a:lnTo>
                  <a:pt x="455" y="501"/>
                </a:lnTo>
                <a:lnTo>
                  <a:pt x="459" y="467"/>
                </a:lnTo>
                <a:lnTo>
                  <a:pt x="461" y="430"/>
                </a:lnTo>
                <a:lnTo>
                  <a:pt x="463" y="396"/>
                </a:lnTo>
                <a:lnTo>
                  <a:pt x="465" y="361"/>
                </a:lnTo>
                <a:lnTo>
                  <a:pt x="465" y="325"/>
                </a:lnTo>
                <a:lnTo>
                  <a:pt x="465" y="290"/>
                </a:lnTo>
                <a:lnTo>
                  <a:pt x="465" y="254"/>
                </a:lnTo>
                <a:lnTo>
                  <a:pt x="465" y="217"/>
                </a:lnTo>
                <a:lnTo>
                  <a:pt x="463" y="181"/>
                </a:lnTo>
                <a:lnTo>
                  <a:pt x="461" y="144"/>
                </a:lnTo>
                <a:lnTo>
                  <a:pt x="459" y="108"/>
                </a:lnTo>
                <a:lnTo>
                  <a:pt x="455" y="71"/>
                </a:lnTo>
                <a:lnTo>
                  <a:pt x="451" y="37"/>
                </a:lnTo>
                <a:lnTo>
                  <a:pt x="447" y="0"/>
                </a:lnTo>
                <a:lnTo>
                  <a:pt x="463" y="2"/>
                </a:lnTo>
                <a:lnTo>
                  <a:pt x="478" y="4"/>
                </a:lnTo>
                <a:lnTo>
                  <a:pt x="492" y="8"/>
                </a:lnTo>
                <a:lnTo>
                  <a:pt x="505" y="12"/>
                </a:lnTo>
                <a:lnTo>
                  <a:pt x="517" y="16"/>
                </a:lnTo>
                <a:lnTo>
                  <a:pt x="528" y="20"/>
                </a:lnTo>
                <a:lnTo>
                  <a:pt x="540" y="23"/>
                </a:lnTo>
                <a:lnTo>
                  <a:pt x="549" y="29"/>
                </a:lnTo>
                <a:lnTo>
                  <a:pt x="561" y="33"/>
                </a:lnTo>
                <a:lnTo>
                  <a:pt x="570" y="39"/>
                </a:lnTo>
                <a:lnTo>
                  <a:pt x="578" y="45"/>
                </a:lnTo>
                <a:lnTo>
                  <a:pt x="588" y="50"/>
                </a:lnTo>
                <a:lnTo>
                  <a:pt x="603" y="64"/>
                </a:lnTo>
                <a:lnTo>
                  <a:pt x="616" y="77"/>
                </a:lnTo>
                <a:lnTo>
                  <a:pt x="620" y="85"/>
                </a:lnTo>
                <a:lnTo>
                  <a:pt x="624" y="94"/>
                </a:lnTo>
                <a:lnTo>
                  <a:pt x="628" y="104"/>
                </a:lnTo>
                <a:lnTo>
                  <a:pt x="630" y="116"/>
                </a:lnTo>
                <a:lnTo>
                  <a:pt x="632" y="129"/>
                </a:lnTo>
                <a:lnTo>
                  <a:pt x="634" y="142"/>
                </a:lnTo>
                <a:lnTo>
                  <a:pt x="636" y="158"/>
                </a:lnTo>
                <a:lnTo>
                  <a:pt x="636" y="173"/>
                </a:lnTo>
                <a:lnTo>
                  <a:pt x="636" y="190"/>
                </a:lnTo>
                <a:lnTo>
                  <a:pt x="636" y="208"/>
                </a:lnTo>
                <a:lnTo>
                  <a:pt x="636" y="227"/>
                </a:lnTo>
                <a:lnTo>
                  <a:pt x="636" y="246"/>
                </a:lnTo>
                <a:lnTo>
                  <a:pt x="634" y="267"/>
                </a:lnTo>
                <a:lnTo>
                  <a:pt x="632" y="290"/>
                </a:lnTo>
                <a:lnTo>
                  <a:pt x="630" y="313"/>
                </a:lnTo>
                <a:lnTo>
                  <a:pt x="628" y="3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87"/>
          <p:cNvSpPr/>
          <p:nvPr/>
        </p:nvSpPr>
        <p:spPr>
          <a:xfrm>
            <a:off x="6362640" y="3397320"/>
            <a:ext cx="873360" cy="212760"/>
          </a:xfrm>
          <a:custGeom>
            <a:avLst/>
            <a:gdLst/>
            <a:ahLst/>
            <a:rect l="l" t="t" r="r" b="b"/>
            <a:pathLst>
              <a:path w="1100" h="269">
                <a:moveTo>
                  <a:pt x="73" y="259"/>
                </a:moveTo>
                <a:lnTo>
                  <a:pt x="63" y="255"/>
                </a:lnTo>
                <a:lnTo>
                  <a:pt x="56" y="253"/>
                </a:lnTo>
                <a:lnTo>
                  <a:pt x="48" y="250"/>
                </a:lnTo>
                <a:lnTo>
                  <a:pt x="40" y="246"/>
                </a:lnTo>
                <a:lnTo>
                  <a:pt x="35" y="242"/>
                </a:lnTo>
                <a:lnTo>
                  <a:pt x="27" y="238"/>
                </a:lnTo>
                <a:lnTo>
                  <a:pt x="23" y="234"/>
                </a:lnTo>
                <a:lnTo>
                  <a:pt x="17" y="230"/>
                </a:lnTo>
                <a:lnTo>
                  <a:pt x="13" y="227"/>
                </a:lnTo>
                <a:lnTo>
                  <a:pt x="10" y="223"/>
                </a:lnTo>
                <a:lnTo>
                  <a:pt x="6" y="217"/>
                </a:lnTo>
                <a:lnTo>
                  <a:pt x="4" y="213"/>
                </a:lnTo>
                <a:lnTo>
                  <a:pt x="2" y="207"/>
                </a:lnTo>
                <a:lnTo>
                  <a:pt x="0" y="204"/>
                </a:lnTo>
                <a:lnTo>
                  <a:pt x="0" y="198"/>
                </a:lnTo>
                <a:lnTo>
                  <a:pt x="0" y="194"/>
                </a:lnTo>
                <a:lnTo>
                  <a:pt x="44" y="180"/>
                </a:lnTo>
                <a:lnTo>
                  <a:pt x="90" y="169"/>
                </a:lnTo>
                <a:lnTo>
                  <a:pt x="132" y="157"/>
                </a:lnTo>
                <a:lnTo>
                  <a:pt x="177" y="148"/>
                </a:lnTo>
                <a:lnTo>
                  <a:pt x="217" y="136"/>
                </a:lnTo>
                <a:lnTo>
                  <a:pt x="257" y="127"/>
                </a:lnTo>
                <a:lnTo>
                  <a:pt x="296" y="117"/>
                </a:lnTo>
                <a:lnTo>
                  <a:pt x="334" y="108"/>
                </a:lnTo>
                <a:lnTo>
                  <a:pt x="372" y="98"/>
                </a:lnTo>
                <a:lnTo>
                  <a:pt x="407" y="90"/>
                </a:lnTo>
                <a:lnTo>
                  <a:pt x="442" y="83"/>
                </a:lnTo>
                <a:lnTo>
                  <a:pt x="476" y="75"/>
                </a:lnTo>
                <a:lnTo>
                  <a:pt x="509" y="67"/>
                </a:lnTo>
                <a:lnTo>
                  <a:pt x="539" y="60"/>
                </a:lnTo>
                <a:lnTo>
                  <a:pt x="570" y="54"/>
                </a:lnTo>
                <a:lnTo>
                  <a:pt x="599" y="46"/>
                </a:lnTo>
                <a:lnTo>
                  <a:pt x="628" y="40"/>
                </a:lnTo>
                <a:lnTo>
                  <a:pt x="655" y="35"/>
                </a:lnTo>
                <a:lnTo>
                  <a:pt x="680" y="31"/>
                </a:lnTo>
                <a:lnTo>
                  <a:pt x="704" y="25"/>
                </a:lnTo>
                <a:lnTo>
                  <a:pt x="728" y="21"/>
                </a:lnTo>
                <a:lnTo>
                  <a:pt x="751" y="17"/>
                </a:lnTo>
                <a:lnTo>
                  <a:pt x="774" y="14"/>
                </a:lnTo>
                <a:lnTo>
                  <a:pt x="793" y="12"/>
                </a:lnTo>
                <a:lnTo>
                  <a:pt x="812" y="8"/>
                </a:lnTo>
                <a:lnTo>
                  <a:pt x="831" y="6"/>
                </a:lnTo>
                <a:lnTo>
                  <a:pt x="848" y="4"/>
                </a:lnTo>
                <a:lnTo>
                  <a:pt x="864" y="2"/>
                </a:lnTo>
                <a:lnTo>
                  <a:pt x="879" y="0"/>
                </a:lnTo>
                <a:lnTo>
                  <a:pt x="893" y="0"/>
                </a:lnTo>
                <a:lnTo>
                  <a:pt x="906" y="0"/>
                </a:lnTo>
                <a:lnTo>
                  <a:pt x="918" y="0"/>
                </a:lnTo>
                <a:lnTo>
                  <a:pt x="941" y="0"/>
                </a:lnTo>
                <a:lnTo>
                  <a:pt x="960" y="0"/>
                </a:lnTo>
                <a:lnTo>
                  <a:pt x="979" y="0"/>
                </a:lnTo>
                <a:lnTo>
                  <a:pt x="998" y="2"/>
                </a:lnTo>
                <a:lnTo>
                  <a:pt x="1014" y="2"/>
                </a:lnTo>
                <a:lnTo>
                  <a:pt x="1029" y="4"/>
                </a:lnTo>
                <a:lnTo>
                  <a:pt x="1042" y="6"/>
                </a:lnTo>
                <a:lnTo>
                  <a:pt x="1054" y="8"/>
                </a:lnTo>
                <a:lnTo>
                  <a:pt x="1065" y="10"/>
                </a:lnTo>
                <a:lnTo>
                  <a:pt x="1073" y="12"/>
                </a:lnTo>
                <a:lnTo>
                  <a:pt x="1083" y="14"/>
                </a:lnTo>
                <a:lnTo>
                  <a:pt x="1088" y="15"/>
                </a:lnTo>
                <a:lnTo>
                  <a:pt x="1092" y="17"/>
                </a:lnTo>
                <a:lnTo>
                  <a:pt x="1096" y="21"/>
                </a:lnTo>
                <a:lnTo>
                  <a:pt x="1098" y="23"/>
                </a:lnTo>
                <a:lnTo>
                  <a:pt x="1100" y="25"/>
                </a:lnTo>
                <a:lnTo>
                  <a:pt x="1098" y="31"/>
                </a:lnTo>
                <a:lnTo>
                  <a:pt x="1096" y="37"/>
                </a:lnTo>
                <a:lnTo>
                  <a:pt x="1094" y="44"/>
                </a:lnTo>
                <a:lnTo>
                  <a:pt x="1088" y="52"/>
                </a:lnTo>
                <a:lnTo>
                  <a:pt x="1083" y="61"/>
                </a:lnTo>
                <a:lnTo>
                  <a:pt x="1079" y="65"/>
                </a:lnTo>
                <a:lnTo>
                  <a:pt x="1073" y="71"/>
                </a:lnTo>
                <a:lnTo>
                  <a:pt x="1069" y="75"/>
                </a:lnTo>
                <a:lnTo>
                  <a:pt x="1063" y="81"/>
                </a:lnTo>
                <a:lnTo>
                  <a:pt x="1058" y="85"/>
                </a:lnTo>
                <a:lnTo>
                  <a:pt x="1052" y="90"/>
                </a:lnTo>
                <a:lnTo>
                  <a:pt x="1044" y="94"/>
                </a:lnTo>
                <a:lnTo>
                  <a:pt x="1035" y="100"/>
                </a:lnTo>
                <a:lnTo>
                  <a:pt x="1023" y="104"/>
                </a:lnTo>
                <a:lnTo>
                  <a:pt x="1010" y="109"/>
                </a:lnTo>
                <a:lnTo>
                  <a:pt x="996" y="115"/>
                </a:lnTo>
                <a:lnTo>
                  <a:pt x="979" y="119"/>
                </a:lnTo>
                <a:lnTo>
                  <a:pt x="962" y="125"/>
                </a:lnTo>
                <a:lnTo>
                  <a:pt x="941" y="131"/>
                </a:lnTo>
                <a:lnTo>
                  <a:pt x="919" y="136"/>
                </a:lnTo>
                <a:lnTo>
                  <a:pt x="895" y="142"/>
                </a:lnTo>
                <a:lnTo>
                  <a:pt x="870" y="148"/>
                </a:lnTo>
                <a:lnTo>
                  <a:pt x="843" y="154"/>
                </a:lnTo>
                <a:lnTo>
                  <a:pt x="812" y="159"/>
                </a:lnTo>
                <a:lnTo>
                  <a:pt x="797" y="163"/>
                </a:lnTo>
                <a:lnTo>
                  <a:pt x="781" y="167"/>
                </a:lnTo>
                <a:lnTo>
                  <a:pt x="764" y="169"/>
                </a:lnTo>
                <a:lnTo>
                  <a:pt x="749" y="173"/>
                </a:lnTo>
                <a:lnTo>
                  <a:pt x="731" y="177"/>
                </a:lnTo>
                <a:lnTo>
                  <a:pt x="712" y="180"/>
                </a:lnTo>
                <a:lnTo>
                  <a:pt x="678" y="188"/>
                </a:lnTo>
                <a:lnTo>
                  <a:pt x="643" y="194"/>
                </a:lnTo>
                <a:lnTo>
                  <a:pt x="609" y="202"/>
                </a:lnTo>
                <a:lnTo>
                  <a:pt x="578" y="207"/>
                </a:lnTo>
                <a:lnTo>
                  <a:pt x="545" y="213"/>
                </a:lnTo>
                <a:lnTo>
                  <a:pt x="516" y="219"/>
                </a:lnTo>
                <a:lnTo>
                  <a:pt x="488" y="225"/>
                </a:lnTo>
                <a:lnTo>
                  <a:pt x="461" y="230"/>
                </a:lnTo>
                <a:lnTo>
                  <a:pt x="434" y="234"/>
                </a:lnTo>
                <a:lnTo>
                  <a:pt x="409" y="238"/>
                </a:lnTo>
                <a:lnTo>
                  <a:pt x="386" y="242"/>
                </a:lnTo>
                <a:lnTo>
                  <a:pt x="365" y="246"/>
                </a:lnTo>
                <a:lnTo>
                  <a:pt x="344" y="250"/>
                </a:lnTo>
                <a:lnTo>
                  <a:pt x="324" y="253"/>
                </a:lnTo>
                <a:lnTo>
                  <a:pt x="305" y="255"/>
                </a:lnTo>
                <a:lnTo>
                  <a:pt x="290" y="259"/>
                </a:lnTo>
                <a:lnTo>
                  <a:pt x="271" y="261"/>
                </a:lnTo>
                <a:lnTo>
                  <a:pt x="255" y="263"/>
                </a:lnTo>
                <a:lnTo>
                  <a:pt x="238" y="265"/>
                </a:lnTo>
                <a:lnTo>
                  <a:pt x="221" y="265"/>
                </a:lnTo>
                <a:lnTo>
                  <a:pt x="205" y="267"/>
                </a:lnTo>
                <a:lnTo>
                  <a:pt x="190" y="267"/>
                </a:lnTo>
                <a:lnTo>
                  <a:pt x="177" y="269"/>
                </a:lnTo>
                <a:lnTo>
                  <a:pt x="163" y="269"/>
                </a:lnTo>
                <a:lnTo>
                  <a:pt x="150" y="269"/>
                </a:lnTo>
                <a:lnTo>
                  <a:pt x="136" y="267"/>
                </a:lnTo>
                <a:lnTo>
                  <a:pt x="125" y="267"/>
                </a:lnTo>
                <a:lnTo>
                  <a:pt x="113" y="265"/>
                </a:lnTo>
                <a:lnTo>
                  <a:pt x="102" y="265"/>
                </a:lnTo>
                <a:lnTo>
                  <a:pt x="92" y="263"/>
                </a:lnTo>
                <a:lnTo>
                  <a:pt x="81" y="261"/>
                </a:lnTo>
                <a:lnTo>
                  <a:pt x="73" y="2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88"/>
          <p:cNvSpPr/>
          <p:nvPr/>
        </p:nvSpPr>
        <p:spPr>
          <a:xfrm>
            <a:off x="6888240" y="2786040"/>
            <a:ext cx="407880" cy="498600"/>
          </a:xfrm>
          <a:custGeom>
            <a:avLst/>
            <a:gdLst/>
            <a:ahLst/>
            <a:rect l="l" t="t" r="r" b="b"/>
            <a:pathLst>
              <a:path w="515" h="628">
                <a:moveTo>
                  <a:pt x="256" y="83"/>
                </a:moveTo>
                <a:lnTo>
                  <a:pt x="252" y="69"/>
                </a:lnTo>
                <a:lnTo>
                  <a:pt x="250" y="56"/>
                </a:lnTo>
                <a:lnTo>
                  <a:pt x="248" y="45"/>
                </a:lnTo>
                <a:lnTo>
                  <a:pt x="248" y="35"/>
                </a:lnTo>
                <a:lnTo>
                  <a:pt x="250" y="25"/>
                </a:lnTo>
                <a:lnTo>
                  <a:pt x="252" y="21"/>
                </a:lnTo>
                <a:lnTo>
                  <a:pt x="254" y="18"/>
                </a:lnTo>
                <a:lnTo>
                  <a:pt x="257" y="14"/>
                </a:lnTo>
                <a:lnTo>
                  <a:pt x="259" y="10"/>
                </a:lnTo>
                <a:lnTo>
                  <a:pt x="263" y="8"/>
                </a:lnTo>
                <a:lnTo>
                  <a:pt x="269" y="4"/>
                </a:lnTo>
                <a:lnTo>
                  <a:pt x="273" y="2"/>
                </a:lnTo>
                <a:lnTo>
                  <a:pt x="279" y="0"/>
                </a:lnTo>
                <a:lnTo>
                  <a:pt x="284" y="0"/>
                </a:lnTo>
                <a:lnTo>
                  <a:pt x="290" y="0"/>
                </a:lnTo>
                <a:lnTo>
                  <a:pt x="298" y="0"/>
                </a:lnTo>
                <a:lnTo>
                  <a:pt x="305" y="0"/>
                </a:lnTo>
                <a:lnTo>
                  <a:pt x="313" y="2"/>
                </a:lnTo>
                <a:lnTo>
                  <a:pt x="321" y="4"/>
                </a:lnTo>
                <a:lnTo>
                  <a:pt x="330" y="8"/>
                </a:lnTo>
                <a:lnTo>
                  <a:pt x="338" y="10"/>
                </a:lnTo>
                <a:lnTo>
                  <a:pt x="348" y="14"/>
                </a:lnTo>
                <a:lnTo>
                  <a:pt x="359" y="20"/>
                </a:lnTo>
                <a:lnTo>
                  <a:pt x="369" y="23"/>
                </a:lnTo>
                <a:lnTo>
                  <a:pt x="378" y="29"/>
                </a:lnTo>
                <a:lnTo>
                  <a:pt x="390" y="37"/>
                </a:lnTo>
                <a:lnTo>
                  <a:pt x="401" y="45"/>
                </a:lnTo>
                <a:lnTo>
                  <a:pt x="411" y="50"/>
                </a:lnTo>
                <a:lnTo>
                  <a:pt x="423" y="58"/>
                </a:lnTo>
                <a:lnTo>
                  <a:pt x="432" y="64"/>
                </a:lnTo>
                <a:lnTo>
                  <a:pt x="442" y="71"/>
                </a:lnTo>
                <a:lnTo>
                  <a:pt x="451" y="77"/>
                </a:lnTo>
                <a:lnTo>
                  <a:pt x="459" y="83"/>
                </a:lnTo>
                <a:lnTo>
                  <a:pt x="467" y="89"/>
                </a:lnTo>
                <a:lnTo>
                  <a:pt x="474" y="94"/>
                </a:lnTo>
                <a:lnTo>
                  <a:pt x="480" y="100"/>
                </a:lnTo>
                <a:lnTo>
                  <a:pt x="486" y="104"/>
                </a:lnTo>
                <a:lnTo>
                  <a:pt x="492" y="110"/>
                </a:lnTo>
                <a:lnTo>
                  <a:pt x="495" y="116"/>
                </a:lnTo>
                <a:lnTo>
                  <a:pt x="501" y="119"/>
                </a:lnTo>
                <a:lnTo>
                  <a:pt x="505" y="125"/>
                </a:lnTo>
                <a:lnTo>
                  <a:pt x="507" y="129"/>
                </a:lnTo>
                <a:lnTo>
                  <a:pt x="511" y="135"/>
                </a:lnTo>
                <a:lnTo>
                  <a:pt x="513" y="142"/>
                </a:lnTo>
                <a:lnTo>
                  <a:pt x="513" y="148"/>
                </a:lnTo>
                <a:lnTo>
                  <a:pt x="515" y="156"/>
                </a:lnTo>
                <a:lnTo>
                  <a:pt x="515" y="162"/>
                </a:lnTo>
                <a:lnTo>
                  <a:pt x="515" y="167"/>
                </a:lnTo>
                <a:lnTo>
                  <a:pt x="513" y="175"/>
                </a:lnTo>
                <a:lnTo>
                  <a:pt x="511" y="181"/>
                </a:lnTo>
                <a:lnTo>
                  <a:pt x="509" y="187"/>
                </a:lnTo>
                <a:lnTo>
                  <a:pt x="507" y="192"/>
                </a:lnTo>
                <a:lnTo>
                  <a:pt x="503" y="198"/>
                </a:lnTo>
                <a:lnTo>
                  <a:pt x="499" y="204"/>
                </a:lnTo>
                <a:lnTo>
                  <a:pt x="495" y="211"/>
                </a:lnTo>
                <a:lnTo>
                  <a:pt x="492" y="217"/>
                </a:lnTo>
                <a:lnTo>
                  <a:pt x="486" y="223"/>
                </a:lnTo>
                <a:lnTo>
                  <a:pt x="480" y="231"/>
                </a:lnTo>
                <a:lnTo>
                  <a:pt x="474" y="238"/>
                </a:lnTo>
                <a:lnTo>
                  <a:pt x="467" y="246"/>
                </a:lnTo>
                <a:lnTo>
                  <a:pt x="459" y="254"/>
                </a:lnTo>
                <a:lnTo>
                  <a:pt x="449" y="263"/>
                </a:lnTo>
                <a:lnTo>
                  <a:pt x="440" y="275"/>
                </a:lnTo>
                <a:lnTo>
                  <a:pt x="428" y="286"/>
                </a:lnTo>
                <a:lnTo>
                  <a:pt x="417" y="298"/>
                </a:lnTo>
                <a:lnTo>
                  <a:pt x="403" y="311"/>
                </a:lnTo>
                <a:lnTo>
                  <a:pt x="388" y="325"/>
                </a:lnTo>
                <a:lnTo>
                  <a:pt x="373" y="340"/>
                </a:lnTo>
                <a:lnTo>
                  <a:pt x="357" y="355"/>
                </a:lnTo>
                <a:lnTo>
                  <a:pt x="340" y="373"/>
                </a:lnTo>
                <a:lnTo>
                  <a:pt x="321" y="390"/>
                </a:lnTo>
                <a:lnTo>
                  <a:pt x="300" y="409"/>
                </a:lnTo>
                <a:lnTo>
                  <a:pt x="279" y="428"/>
                </a:lnTo>
                <a:lnTo>
                  <a:pt x="256" y="450"/>
                </a:lnTo>
                <a:lnTo>
                  <a:pt x="233" y="471"/>
                </a:lnTo>
                <a:lnTo>
                  <a:pt x="208" y="492"/>
                </a:lnTo>
                <a:lnTo>
                  <a:pt x="185" y="513"/>
                </a:lnTo>
                <a:lnTo>
                  <a:pt x="163" y="530"/>
                </a:lnTo>
                <a:lnTo>
                  <a:pt x="142" y="547"/>
                </a:lnTo>
                <a:lnTo>
                  <a:pt x="123" y="563"/>
                </a:lnTo>
                <a:lnTo>
                  <a:pt x="104" y="576"/>
                </a:lnTo>
                <a:lnTo>
                  <a:pt x="89" y="588"/>
                </a:lnTo>
                <a:lnTo>
                  <a:pt x="71" y="597"/>
                </a:lnTo>
                <a:lnTo>
                  <a:pt x="58" y="607"/>
                </a:lnTo>
                <a:lnTo>
                  <a:pt x="46" y="615"/>
                </a:lnTo>
                <a:lnTo>
                  <a:pt x="35" y="620"/>
                </a:lnTo>
                <a:lnTo>
                  <a:pt x="25" y="624"/>
                </a:lnTo>
                <a:lnTo>
                  <a:pt x="18" y="628"/>
                </a:lnTo>
                <a:lnTo>
                  <a:pt x="10" y="628"/>
                </a:lnTo>
                <a:lnTo>
                  <a:pt x="6" y="628"/>
                </a:lnTo>
                <a:lnTo>
                  <a:pt x="2" y="626"/>
                </a:lnTo>
                <a:lnTo>
                  <a:pt x="0" y="624"/>
                </a:lnTo>
                <a:lnTo>
                  <a:pt x="0" y="620"/>
                </a:lnTo>
                <a:lnTo>
                  <a:pt x="0" y="615"/>
                </a:lnTo>
                <a:lnTo>
                  <a:pt x="0" y="609"/>
                </a:lnTo>
                <a:lnTo>
                  <a:pt x="2" y="603"/>
                </a:lnTo>
                <a:lnTo>
                  <a:pt x="6" y="595"/>
                </a:lnTo>
                <a:lnTo>
                  <a:pt x="10" y="586"/>
                </a:lnTo>
                <a:lnTo>
                  <a:pt x="14" y="576"/>
                </a:lnTo>
                <a:lnTo>
                  <a:pt x="21" y="567"/>
                </a:lnTo>
                <a:lnTo>
                  <a:pt x="29" y="553"/>
                </a:lnTo>
                <a:lnTo>
                  <a:pt x="37" y="542"/>
                </a:lnTo>
                <a:lnTo>
                  <a:pt x="46" y="526"/>
                </a:lnTo>
                <a:lnTo>
                  <a:pt x="58" y="511"/>
                </a:lnTo>
                <a:lnTo>
                  <a:pt x="69" y="496"/>
                </a:lnTo>
                <a:lnTo>
                  <a:pt x="83" y="476"/>
                </a:lnTo>
                <a:lnTo>
                  <a:pt x="98" y="459"/>
                </a:lnTo>
                <a:lnTo>
                  <a:pt x="112" y="440"/>
                </a:lnTo>
                <a:lnTo>
                  <a:pt x="125" y="421"/>
                </a:lnTo>
                <a:lnTo>
                  <a:pt x="137" y="402"/>
                </a:lnTo>
                <a:lnTo>
                  <a:pt x="148" y="384"/>
                </a:lnTo>
                <a:lnTo>
                  <a:pt x="160" y="369"/>
                </a:lnTo>
                <a:lnTo>
                  <a:pt x="169" y="352"/>
                </a:lnTo>
                <a:lnTo>
                  <a:pt x="181" y="336"/>
                </a:lnTo>
                <a:lnTo>
                  <a:pt x="190" y="321"/>
                </a:lnTo>
                <a:lnTo>
                  <a:pt x="198" y="306"/>
                </a:lnTo>
                <a:lnTo>
                  <a:pt x="206" y="290"/>
                </a:lnTo>
                <a:lnTo>
                  <a:pt x="213" y="277"/>
                </a:lnTo>
                <a:lnTo>
                  <a:pt x="221" y="263"/>
                </a:lnTo>
                <a:lnTo>
                  <a:pt x="229" y="250"/>
                </a:lnTo>
                <a:lnTo>
                  <a:pt x="234" y="236"/>
                </a:lnTo>
                <a:lnTo>
                  <a:pt x="240" y="225"/>
                </a:lnTo>
                <a:lnTo>
                  <a:pt x="244" y="211"/>
                </a:lnTo>
                <a:lnTo>
                  <a:pt x="248" y="202"/>
                </a:lnTo>
                <a:lnTo>
                  <a:pt x="252" y="192"/>
                </a:lnTo>
                <a:lnTo>
                  <a:pt x="256" y="185"/>
                </a:lnTo>
                <a:lnTo>
                  <a:pt x="257" y="175"/>
                </a:lnTo>
                <a:lnTo>
                  <a:pt x="261" y="158"/>
                </a:lnTo>
                <a:lnTo>
                  <a:pt x="263" y="142"/>
                </a:lnTo>
                <a:lnTo>
                  <a:pt x="263" y="127"/>
                </a:lnTo>
                <a:lnTo>
                  <a:pt x="263" y="112"/>
                </a:lnTo>
                <a:lnTo>
                  <a:pt x="259" y="96"/>
                </a:lnTo>
                <a:lnTo>
                  <a:pt x="256" y="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89"/>
          <p:cNvSpPr/>
          <p:nvPr/>
        </p:nvSpPr>
        <p:spPr>
          <a:xfrm>
            <a:off x="6456240" y="3011400"/>
            <a:ext cx="258840" cy="273240"/>
          </a:xfrm>
          <a:custGeom>
            <a:avLst/>
            <a:gdLst/>
            <a:ahLst/>
            <a:rect l="l" t="t" r="r" b="b"/>
            <a:pathLst>
              <a:path w="326" h="344">
                <a:moveTo>
                  <a:pt x="317" y="279"/>
                </a:moveTo>
                <a:lnTo>
                  <a:pt x="315" y="285"/>
                </a:lnTo>
                <a:lnTo>
                  <a:pt x="313" y="292"/>
                </a:lnTo>
                <a:lnTo>
                  <a:pt x="311" y="298"/>
                </a:lnTo>
                <a:lnTo>
                  <a:pt x="309" y="302"/>
                </a:lnTo>
                <a:lnTo>
                  <a:pt x="303" y="311"/>
                </a:lnTo>
                <a:lnTo>
                  <a:pt x="298" y="321"/>
                </a:lnTo>
                <a:lnTo>
                  <a:pt x="292" y="327"/>
                </a:lnTo>
                <a:lnTo>
                  <a:pt x="286" y="333"/>
                </a:lnTo>
                <a:lnTo>
                  <a:pt x="278" y="338"/>
                </a:lnTo>
                <a:lnTo>
                  <a:pt x="269" y="342"/>
                </a:lnTo>
                <a:lnTo>
                  <a:pt x="265" y="344"/>
                </a:lnTo>
                <a:lnTo>
                  <a:pt x="259" y="344"/>
                </a:lnTo>
                <a:lnTo>
                  <a:pt x="254" y="344"/>
                </a:lnTo>
                <a:lnTo>
                  <a:pt x="246" y="340"/>
                </a:lnTo>
                <a:lnTo>
                  <a:pt x="238" y="336"/>
                </a:lnTo>
                <a:lnTo>
                  <a:pt x="230" y="331"/>
                </a:lnTo>
                <a:lnTo>
                  <a:pt x="223" y="323"/>
                </a:lnTo>
                <a:lnTo>
                  <a:pt x="213" y="313"/>
                </a:lnTo>
                <a:lnTo>
                  <a:pt x="204" y="304"/>
                </a:lnTo>
                <a:lnTo>
                  <a:pt x="192" y="292"/>
                </a:lnTo>
                <a:lnTo>
                  <a:pt x="181" y="279"/>
                </a:lnTo>
                <a:lnTo>
                  <a:pt x="169" y="263"/>
                </a:lnTo>
                <a:lnTo>
                  <a:pt x="156" y="246"/>
                </a:lnTo>
                <a:lnTo>
                  <a:pt x="142" y="229"/>
                </a:lnTo>
                <a:lnTo>
                  <a:pt x="127" y="208"/>
                </a:lnTo>
                <a:lnTo>
                  <a:pt x="111" y="187"/>
                </a:lnTo>
                <a:lnTo>
                  <a:pt x="96" y="166"/>
                </a:lnTo>
                <a:lnTo>
                  <a:pt x="83" y="146"/>
                </a:lnTo>
                <a:lnTo>
                  <a:pt x="69" y="127"/>
                </a:lnTo>
                <a:lnTo>
                  <a:pt x="58" y="112"/>
                </a:lnTo>
                <a:lnTo>
                  <a:pt x="48" y="96"/>
                </a:lnTo>
                <a:lnTo>
                  <a:pt x="39" y="81"/>
                </a:lnTo>
                <a:lnTo>
                  <a:pt x="29" y="70"/>
                </a:lnTo>
                <a:lnTo>
                  <a:pt x="21" y="58"/>
                </a:lnTo>
                <a:lnTo>
                  <a:pt x="15" y="47"/>
                </a:lnTo>
                <a:lnTo>
                  <a:pt x="10" y="39"/>
                </a:lnTo>
                <a:lnTo>
                  <a:pt x="6" y="31"/>
                </a:lnTo>
                <a:lnTo>
                  <a:pt x="4" y="23"/>
                </a:lnTo>
                <a:lnTo>
                  <a:pt x="2" y="18"/>
                </a:lnTo>
                <a:lnTo>
                  <a:pt x="0" y="12"/>
                </a:lnTo>
                <a:lnTo>
                  <a:pt x="2" y="8"/>
                </a:lnTo>
                <a:lnTo>
                  <a:pt x="4" y="6"/>
                </a:lnTo>
                <a:lnTo>
                  <a:pt x="6" y="4"/>
                </a:lnTo>
                <a:lnTo>
                  <a:pt x="10" y="2"/>
                </a:lnTo>
                <a:lnTo>
                  <a:pt x="14" y="0"/>
                </a:lnTo>
                <a:lnTo>
                  <a:pt x="19" y="0"/>
                </a:lnTo>
                <a:lnTo>
                  <a:pt x="25" y="0"/>
                </a:lnTo>
                <a:lnTo>
                  <a:pt x="33" y="0"/>
                </a:lnTo>
                <a:lnTo>
                  <a:pt x="40" y="2"/>
                </a:lnTo>
                <a:lnTo>
                  <a:pt x="50" y="4"/>
                </a:lnTo>
                <a:lnTo>
                  <a:pt x="60" y="6"/>
                </a:lnTo>
                <a:lnTo>
                  <a:pt x="71" y="8"/>
                </a:lnTo>
                <a:lnTo>
                  <a:pt x="83" y="12"/>
                </a:lnTo>
                <a:lnTo>
                  <a:pt x="96" y="14"/>
                </a:lnTo>
                <a:lnTo>
                  <a:pt x="111" y="18"/>
                </a:lnTo>
                <a:lnTo>
                  <a:pt x="127" y="22"/>
                </a:lnTo>
                <a:lnTo>
                  <a:pt x="142" y="27"/>
                </a:lnTo>
                <a:lnTo>
                  <a:pt x="161" y="31"/>
                </a:lnTo>
                <a:lnTo>
                  <a:pt x="177" y="39"/>
                </a:lnTo>
                <a:lnTo>
                  <a:pt x="190" y="47"/>
                </a:lnTo>
                <a:lnTo>
                  <a:pt x="206" y="54"/>
                </a:lnTo>
                <a:lnTo>
                  <a:pt x="219" y="62"/>
                </a:lnTo>
                <a:lnTo>
                  <a:pt x="232" y="68"/>
                </a:lnTo>
                <a:lnTo>
                  <a:pt x="244" y="75"/>
                </a:lnTo>
                <a:lnTo>
                  <a:pt x="255" y="83"/>
                </a:lnTo>
                <a:lnTo>
                  <a:pt x="267" y="91"/>
                </a:lnTo>
                <a:lnTo>
                  <a:pt x="277" y="98"/>
                </a:lnTo>
                <a:lnTo>
                  <a:pt x="284" y="104"/>
                </a:lnTo>
                <a:lnTo>
                  <a:pt x="294" y="112"/>
                </a:lnTo>
                <a:lnTo>
                  <a:pt x="300" y="119"/>
                </a:lnTo>
                <a:lnTo>
                  <a:pt x="305" y="127"/>
                </a:lnTo>
                <a:lnTo>
                  <a:pt x="311" y="133"/>
                </a:lnTo>
                <a:lnTo>
                  <a:pt x="315" y="141"/>
                </a:lnTo>
                <a:lnTo>
                  <a:pt x="317" y="148"/>
                </a:lnTo>
                <a:lnTo>
                  <a:pt x="321" y="167"/>
                </a:lnTo>
                <a:lnTo>
                  <a:pt x="325" y="185"/>
                </a:lnTo>
                <a:lnTo>
                  <a:pt x="326" y="202"/>
                </a:lnTo>
                <a:lnTo>
                  <a:pt x="326" y="217"/>
                </a:lnTo>
                <a:lnTo>
                  <a:pt x="326" y="233"/>
                </a:lnTo>
                <a:lnTo>
                  <a:pt x="325" y="248"/>
                </a:lnTo>
                <a:lnTo>
                  <a:pt x="321" y="263"/>
                </a:lnTo>
                <a:lnTo>
                  <a:pt x="317" y="2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90"/>
          <p:cNvSpPr/>
          <p:nvPr/>
        </p:nvSpPr>
        <p:spPr>
          <a:xfrm>
            <a:off x="5475240" y="4548240"/>
            <a:ext cx="2268720" cy="507960"/>
          </a:xfrm>
          <a:custGeom>
            <a:avLst/>
            <a:gdLst/>
            <a:ahLst/>
            <a:rect l="l" t="t" r="r" b="b"/>
            <a:pathLst>
              <a:path w="2858" h="639">
                <a:moveTo>
                  <a:pt x="1987" y="634"/>
                </a:moveTo>
                <a:lnTo>
                  <a:pt x="1977" y="632"/>
                </a:lnTo>
                <a:lnTo>
                  <a:pt x="1967" y="628"/>
                </a:lnTo>
                <a:lnTo>
                  <a:pt x="1958" y="624"/>
                </a:lnTo>
                <a:lnTo>
                  <a:pt x="1948" y="620"/>
                </a:lnTo>
                <a:lnTo>
                  <a:pt x="1927" y="611"/>
                </a:lnTo>
                <a:lnTo>
                  <a:pt x="1904" y="599"/>
                </a:lnTo>
                <a:lnTo>
                  <a:pt x="1879" y="586"/>
                </a:lnTo>
                <a:lnTo>
                  <a:pt x="1866" y="580"/>
                </a:lnTo>
                <a:lnTo>
                  <a:pt x="1852" y="572"/>
                </a:lnTo>
                <a:lnTo>
                  <a:pt x="1839" y="566"/>
                </a:lnTo>
                <a:lnTo>
                  <a:pt x="1823" y="559"/>
                </a:lnTo>
                <a:lnTo>
                  <a:pt x="1808" y="551"/>
                </a:lnTo>
                <a:lnTo>
                  <a:pt x="1793" y="543"/>
                </a:lnTo>
                <a:lnTo>
                  <a:pt x="1785" y="538"/>
                </a:lnTo>
                <a:lnTo>
                  <a:pt x="1775" y="534"/>
                </a:lnTo>
                <a:lnTo>
                  <a:pt x="1766" y="528"/>
                </a:lnTo>
                <a:lnTo>
                  <a:pt x="1756" y="522"/>
                </a:lnTo>
                <a:lnTo>
                  <a:pt x="1745" y="517"/>
                </a:lnTo>
                <a:lnTo>
                  <a:pt x="1731" y="511"/>
                </a:lnTo>
                <a:lnTo>
                  <a:pt x="1718" y="505"/>
                </a:lnTo>
                <a:lnTo>
                  <a:pt x="1704" y="497"/>
                </a:lnTo>
                <a:lnTo>
                  <a:pt x="1689" y="492"/>
                </a:lnTo>
                <a:lnTo>
                  <a:pt x="1674" y="484"/>
                </a:lnTo>
                <a:lnTo>
                  <a:pt x="1658" y="476"/>
                </a:lnTo>
                <a:lnTo>
                  <a:pt x="1641" y="470"/>
                </a:lnTo>
                <a:lnTo>
                  <a:pt x="1622" y="463"/>
                </a:lnTo>
                <a:lnTo>
                  <a:pt x="1605" y="455"/>
                </a:lnTo>
                <a:lnTo>
                  <a:pt x="1583" y="447"/>
                </a:lnTo>
                <a:lnTo>
                  <a:pt x="1564" y="440"/>
                </a:lnTo>
                <a:lnTo>
                  <a:pt x="1541" y="430"/>
                </a:lnTo>
                <a:lnTo>
                  <a:pt x="1520" y="422"/>
                </a:lnTo>
                <a:lnTo>
                  <a:pt x="1497" y="413"/>
                </a:lnTo>
                <a:lnTo>
                  <a:pt x="1472" y="405"/>
                </a:lnTo>
                <a:lnTo>
                  <a:pt x="1447" y="396"/>
                </a:lnTo>
                <a:lnTo>
                  <a:pt x="1422" y="386"/>
                </a:lnTo>
                <a:lnTo>
                  <a:pt x="1395" y="376"/>
                </a:lnTo>
                <a:lnTo>
                  <a:pt x="1368" y="367"/>
                </a:lnTo>
                <a:lnTo>
                  <a:pt x="1340" y="357"/>
                </a:lnTo>
                <a:lnTo>
                  <a:pt x="1311" y="348"/>
                </a:lnTo>
                <a:lnTo>
                  <a:pt x="1280" y="338"/>
                </a:lnTo>
                <a:lnTo>
                  <a:pt x="1249" y="328"/>
                </a:lnTo>
                <a:lnTo>
                  <a:pt x="1217" y="317"/>
                </a:lnTo>
                <a:lnTo>
                  <a:pt x="1184" y="305"/>
                </a:lnTo>
                <a:lnTo>
                  <a:pt x="1152" y="296"/>
                </a:lnTo>
                <a:lnTo>
                  <a:pt x="1117" y="284"/>
                </a:lnTo>
                <a:lnTo>
                  <a:pt x="1083" y="273"/>
                </a:lnTo>
                <a:lnTo>
                  <a:pt x="1048" y="263"/>
                </a:lnTo>
                <a:lnTo>
                  <a:pt x="1015" y="254"/>
                </a:lnTo>
                <a:lnTo>
                  <a:pt x="983" y="244"/>
                </a:lnTo>
                <a:lnTo>
                  <a:pt x="952" y="234"/>
                </a:lnTo>
                <a:lnTo>
                  <a:pt x="923" y="225"/>
                </a:lnTo>
                <a:lnTo>
                  <a:pt x="892" y="217"/>
                </a:lnTo>
                <a:lnTo>
                  <a:pt x="866" y="207"/>
                </a:lnTo>
                <a:lnTo>
                  <a:pt x="837" y="200"/>
                </a:lnTo>
                <a:lnTo>
                  <a:pt x="812" y="192"/>
                </a:lnTo>
                <a:lnTo>
                  <a:pt x="785" y="186"/>
                </a:lnTo>
                <a:lnTo>
                  <a:pt x="762" y="179"/>
                </a:lnTo>
                <a:lnTo>
                  <a:pt x="737" y="173"/>
                </a:lnTo>
                <a:lnTo>
                  <a:pt x="716" y="167"/>
                </a:lnTo>
                <a:lnTo>
                  <a:pt x="693" y="161"/>
                </a:lnTo>
                <a:lnTo>
                  <a:pt x="672" y="156"/>
                </a:lnTo>
                <a:lnTo>
                  <a:pt x="653" y="150"/>
                </a:lnTo>
                <a:lnTo>
                  <a:pt x="633" y="146"/>
                </a:lnTo>
                <a:lnTo>
                  <a:pt x="616" y="142"/>
                </a:lnTo>
                <a:lnTo>
                  <a:pt x="599" y="138"/>
                </a:lnTo>
                <a:lnTo>
                  <a:pt x="582" y="135"/>
                </a:lnTo>
                <a:lnTo>
                  <a:pt x="566" y="131"/>
                </a:lnTo>
                <a:lnTo>
                  <a:pt x="553" y="129"/>
                </a:lnTo>
                <a:lnTo>
                  <a:pt x="539" y="125"/>
                </a:lnTo>
                <a:lnTo>
                  <a:pt x="526" y="123"/>
                </a:lnTo>
                <a:lnTo>
                  <a:pt x="514" y="121"/>
                </a:lnTo>
                <a:lnTo>
                  <a:pt x="503" y="119"/>
                </a:lnTo>
                <a:lnTo>
                  <a:pt x="493" y="119"/>
                </a:lnTo>
                <a:lnTo>
                  <a:pt x="486" y="117"/>
                </a:lnTo>
                <a:lnTo>
                  <a:pt x="476" y="117"/>
                </a:lnTo>
                <a:lnTo>
                  <a:pt x="470" y="115"/>
                </a:lnTo>
                <a:lnTo>
                  <a:pt x="464" y="115"/>
                </a:lnTo>
                <a:lnTo>
                  <a:pt x="441" y="121"/>
                </a:lnTo>
                <a:lnTo>
                  <a:pt x="418" y="127"/>
                </a:lnTo>
                <a:lnTo>
                  <a:pt x="395" y="133"/>
                </a:lnTo>
                <a:lnTo>
                  <a:pt x="374" y="138"/>
                </a:lnTo>
                <a:lnTo>
                  <a:pt x="353" y="146"/>
                </a:lnTo>
                <a:lnTo>
                  <a:pt x="332" y="156"/>
                </a:lnTo>
                <a:lnTo>
                  <a:pt x="322" y="161"/>
                </a:lnTo>
                <a:lnTo>
                  <a:pt x="313" y="167"/>
                </a:lnTo>
                <a:lnTo>
                  <a:pt x="303" y="173"/>
                </a:lnTo>
                <a:lnTo>
                  <a:pt x="294" y="181"/>
                </a:lnTo>
                <a:lnTo>
                  <a:pt x="284" y="188"/>
                </a:lnTo>
                <a:lnTo>
                  <a:pt x="273" y="194"/>
                </a:lnTo>
                <a:lnTo>
                  <a:pt x="263" y="200"/>
                </a:lnTo>
                <a:lnTo>
                  <a:pt x="253" y="206"/>
                </a:lnTo>
                <a:lnTo>
                  <a:pt x="244" y="209"/>
                </a:lnTo>
                <a:lnTo>
                  <a:pt x="236" y="215"/>
                </a:lnTo>
                <a:lnTo>
                  <a:pt x="226" y="219"/>
                </a:lnTo>
                <a:lnTo>
                  <a:pt x="219" y="221"/>
                </a:lnTo>
                <a:lnTo>
                  <a:pt x="203" y="227"/>
                </a:lnTo>
                <a:lnTo>
                  <a:pt x="188" y="231"/>
                </a:lnTo>
                <a:lnTo>
                  <a:pt x="175" y="232"/>
                </a:lnTo>
                <a:lnTo>
                  <a:pt x="161" y="232"/>
                </a:lnTo>
                <a:lnTo>
                  <a:pt x="154" y="232"/>
                </a:lnTo>
                <a:lnTo>
                  <a:pt x="148" y="231"/>
                </a:lnTo>
                <a:lnTo>
                  <a:pt x="140" y="231"/>
                </a:lnTo>
                <a:lnTo>
                  <a:pt x="134" y="227"/>
                </a:lnTo>
                <a:lnTo>
                  <a:pt x="127" y="225"/>
                </a:lnTo>
                <a:lnTo>
                  <a:pt x="121" y="221"/>
                </a:lnTo>
                <a:lnTo>
                  <a:pt x="113" y="217"/>
                </a:lnTo>
                <a:lnTo>
                  <a:pt x="107" y="211"/>
                </a:lnTo>
                <a:lnTo>
                  <a:pt x="100" y="206"/>
                </a:lnTo>
                <a:lnTo>
                  <a:pt x="94" y="200"/>
                </a:lnTo>
                <a:lnTo>
                  <a:pt x="86" y="192"/>
                </a:lnTo>
                <a:lnTo>
                  <a:pt x="81" y="183"/>
                </a:lnTo>
                <a:lnTo>
                  <a:pt x="73" y="175"/>
                </a:lnTo>
                <a:lnTo>
                  <a:pt x="65" y="165"/>
                </a:lnTo>
                <a:lnTo>
                  <a:pt x="59" y="154"/>
                </a:lnTo>
                <a:lnTo>
                  <a:pt x="54" y="142"/>
                </a:lnTo>
                <a:lnTo>
                  <a:pt x="44" y="131"/>
                </a:lnTo>
                <a:lnTo>
                  <a:pt x="36" y="119"/>
                </a:lnTo>
                <a:lnTo>
                  <a:pt x="29" y="108"/>
                </a:lnTo>
                <a:lnTo>
                  <a:pt x="23" y="98"/>
                </a:lnTo>
                <a:lnTo>
                  <a:pt x="17" y="88"/>
                </a:lnTo>
                <a:lnTo>
                  <a:pt x="13" y="79"/>
                </a:lnTo>
                <a:lnTo>
                  <a:pt x="10" y="71"/>
                </a:lnTo>
                <a:lnTo>
                  <a:pt x="6" y="64"/>
                </a:lnTo>
                <a:lnTo>
                  <a:pt x="4" y="58"/>
                </a:lnTo>
                <a:lnTo>
                  <a:pt x="2" y="50"/>
                </a:lnTo>
                <a:lnTo>
                  <a:pt x="0" y="44"/>
                </a:lnTo>
                <a:lnTo>
                  <a:pt x="0" y="40"/>
                </a:lnTo>
                <a:lnTo>
                  <a:pt x="0" y="35"/>
                </a:lnTo>
                <a:lnTo>
                  <a:pt x="2" y="31"/>
                </a:lnTo>
                <a:lnTo>
                  <a:pt x="2" y="27"/>
                </a:lnTo>
                <a:lnTo>
                  <a:pt x="4" y="25"/>
                </a:lnTo>
                <a:lnTo>
                  <a:pt x="8" y="23"/>
                </a:lnTo>
                <a:lnTo>
                  <a:pt x="11" y="21"/>
                </a:lnTo>
                <a:lnTo>
                  <a:pt x="15" y="19"/>
                </a:lnTo>
                <a:lnTo>
                  <a:pt x="23" y="17"/>
                </a:lnTo>
                <a:lnTo>
                  <a:pt x="31" y="16"/>
                </a:lnTo>
                <a:lnTo>
                  <a:pt x="38" y="16"/>
                </a:lnTo>
                <a:lnTo>
                  <a:pt x="48" y="14"/>
                </a:lnTo>
                <a:lnTo>
                  <a:pt x="59" y="12"/>
                </a:lnTo>
                <a:lnTo>
                  <a:pt x="73" y="12"/>
                </a:lnTo>
                <a:lnTo>
                  <a:pt x="86" y="10"/>
                </a:lnTo>
                <a:lnTo>
                  <a:pt x="102" y="8"/>
                </a:lnTo>
                <a:lnTo>
                  <a:pt x="119" y="8"/>
                </a:lnTo>
                <a:lnTo>
                  <a:pt x="136" y="6"/>
                </a:lnTo>
                <a:lnTo>
                  <a:pt x="155" y="4"/>
                </a:lnTo>
                <a:lnTo>
                  <a:pt x="177" y="2"/>
                </a:lnTo>
                <a:lnTo>
                  <a:pt x="198" y="0"/>
                </a:lnTo>
                <a:lnTo>
                  <a:pt x="217" y="0"/>
                </a:lnTo>
                <a:lnTo>
                  <a:pt x="236" y="0"/>
                </a:lnTo>
                <a:lnTo>
                  <a:pt x="255" y="0"/>
                </a:lnTo>
                <a:lnTo>
                  <a:pt x="273" y="0"/>
                </a:lnTo>
                <a:lnTo>
                  <a:pt x="288" y="0"/>
                </a:lnTo>
                <a:lnTo>
                  <a:pt x="305" y="0"/>
                </a:lnTo>
                <a:lnTo>
                  <a:pt x="319" y="0"/>
                </a:lnTo>
                <a:lnTo>
                  <a:pt x="332" y="0"/>
                </a:lnTo>
                <a:lnTo>
                  <a:pt x="345" y="0"/>
                </a:lnTo>
                <a:lnTo>
                  <a:pt x="357" y="0"/>
                </a:lnTo>
                <a:lnTo>
                  <a:pt x="367" y="0"/>
                </a:lnTo>
                <a:lnTo>
                  <a:pt x="376" y="0"/>
                </a:lnTo>
                <a:lnTo>
                  <a:pt x="384" y="0"/>
                </a:lnTo>
                <a:lnTo>
                  <a:pt x="392" y="0"/>
                </a:lnTo>
                <a:lnTo>
                  <a:pt x="397" y="0"/>
                </a:lnTo>
                <a:lnTo>
                  <a:pt x="403" y="0"/>
                </a:lnTo>
                <a:lnTo>
                  <a:pt x="405" y="0"/>
                </a:lnTo>
                <a:lnTo>
                  <a:pt x="409" y="0"/>
                </a:lnTo>
                <a:lnTo>
                  <a:pt x="413" y="0"/>
                </a:lnTo>
                <a:lnTo>
                  <a:pt x="418" y="0"/>
                </a:lnTo>
                <a:lnTo>
                  <a:pt x="424" y="0"/>
                </a:lnTo>
                <a:lnTo>
                  <a:pt x="430" y="0"/>
                </a:lnTo>
                <a:lnTo>
                  <a:pt x="438" y="0"/>
                </a:lnTo>
                <a:lnTo>
                  <a:pt x="445" y="0"/>
                </a:lnTo>
                <a:lnTo>
                  <a:pt x="453" y="2"/>
                </a:lnTo>
                <a:lnTo>
                  <a:pt x="463" y="2"/>
                </a:lnTo>
                <a:lnTo>
                  <a:pt x="472" y="4"/>
                </a:lnTo>
                <a:lnTo>
                  <a:pt x="482" y="4"/>
                </a:lnTo>
                <a:lnTo>
                  <a:pt x="503" y="8"/>
                </a:lnTo>
                <a:lnTo>
                  <a:pt x="524" y="12"/>
                </a:lnTo>
                <a:lnTo>
                  <a:pt x="530" y="14"/>
                </a:lnTo>
                <a:lnTo>
                  <a:pt x="537" y="16"/>
                </a:lnTo>
                <a:lnTo>
                  <a:pt x="547" y="17"/>
                </a:lnTo>
                <a:lnTo>
                  <a:pt x="557" y="19"/>
                </a:lnTo>
                <a:lnTo>
                  <a:pt x="566" y="21"/>
                </a:lnTo>
                <a:lnTo>
                  <a:pt x="578" y="23"/>
                </a:lnTo>
                <a:lnTo>
                  <a:pt x="591" y="27"/>
                </a:lnTo>
                <a:lnTo>
                  <a:pt x="605" y="29"/>
                </a:lnTo>
                <a:lnTo>
                  <a:pt x="620" y="33"/>
                </a:lnTo>
                <a:lnTo>
                  <a:pt x="637" y="37"/>
                </a:lnTo>
                <a:lnTo>
                  <a:pt x="654" y="40"/>
                </a:lnTo>
                <a:lnTo>
                  <a:pt x="674" y="44"/>
                </a:lnTo>
                <a:lnTo>
                  <a:pt x="693" y="48"/>
                </a:lnTo>
                <a:lnTo>
                  <a:pt x="714" y="52"/>
                </a:lnTo>
                <a:lnTo>
                  <a:pt x="735" y="58"/>
                </a:lnTo>
                <a:lnTo>
                  <a:pt x="758" y="62"/>
                </a:lnTo>
                <a:lnTo>
                  <a:pt x="783" y="67"/>
                </a:lnTo>
                <a:lnTo>
                  <a:pt x="808" y="73"/>
                </a:lnTo>
                <a:lnTo>
                  <a:pt x="833" y="79"/>
                </a:lnTo>
                <a:lnTo>
                  <a:pt x="862" y="85"/>
                </a:lnTo>
                <a:lnTo>
                  <a:pt x="891" y="90"/>
                </a:lnTo>
                <a:lnTo>
                  <a:pt x="919" y="98"/>
                </a:lnTo>
                <a:lnTo>
                  <a:pt x="950" y="104"/>
                </a:lnTo>
                <a:lnTo>
                  <a:pt x="981" y="112"/>
                </a:lnTo>
                <a:lnTo>
                  <a:pt x="1013" y="119"/>
                </a:lnTo>
                <a:lnTo>
                  <a:pt x="1048" y="127"/>
                </a:lnTo>
                <a:lnTo>
                  <a:pt x="1083" y="135"/>
                </a:lnTo>
                <a:lnTo>
                  <a:pt x="1119" y="144"/>
                </a:lnTo>
                <a:lnTo>
                  <a:pt x="1155" y="152"/>
                </a:lnTo>
                <a:lnTo>
                  <a:pt x="1194" y="161"/>
                </a:lnTo>
                <a:lnTo>
                  <a:pt x="1234" y="171"/>
                </a:lnTo>
                <a:lnTo>
                  <a:pt x="1274" y="181"/>
                </a:lnTo>
                <a:lnTo>
                  <a:pt x="1313" y="190"/>
                </a:lnTo>
                <a:lnTo>
                  <a:pt x="1351" y="200"/>
                </a:lnTo>
                <a:lnTo>
                  <a:pt x="1390" y="209"/>
                </a:lnTo>
                <a:lnTo>
                  <a:pt x="1426" y="217"/>
                </a:lnTo>
                <a:lnTo>
                  <a:pt x="1463" y="227"/>
                </a:lnTo>
                <a:lnTo>
                  <a:pt x="1499" y="234"/>
                </a:lnTo>
                <a:lnTo>
                  <a:pt x="1534" y="242"/>
                </a:lnTo>
                <a:lnTo>
                  <a:pt x="1568" y="250"/>
                </a:lnTo>
                <a:lnTo>
                  <a:pt x="1601" y="257"/>
                </a:lnTo>
                <a:lnTo>
                  <a:pt x="1633" y="263"/>
                </a:lnTo>
                <a:lnTo>
                  <a:pt x="1666" y="271"/>
                </a:lnTo>
                <a:lnTo>
                  <a:pt x="1699" y="277"/>
                </a:lnTo>
                <a:lnTo>
                  <a:pt x="1729" y="282"/>
                </a:lnTo>
                <a:lnTo>
                  <a:pt x="1758" y="288"/>
                </a:lnTo>
                <a:lnTo>
                  <a:pt x="1787" y="294"/>
                </a:lnTo>
                <a:lnTo>
                  <a:pt x="1816" y="300"/>
                </a:lnTo>
                <a:lnTo>
                  <a:pt x="1845" y="305"/>
                </a:lnTo>
                <a:lnTo>
                  <a:pt x="1871" y="309"/>
                </a:lnTo>
                <a:lnTo>
                  <a:pt x="1896" y="313"/>
                </a:lnTo>
                <a:lnTo>
                  <a:pt x="1921" y="319"/>
                </a:lnTo>
                <a:lnTo>
                  <a:pt x="1946" y="323"/>
                </a:lnTo>
                <a:lnTo>
                  <a:pt x="1971" y="326"/>
                </a:lnTo>
                <a:lnTo>
                  <a:pt x="1994" y="328"/>
                </a:lnTo>
                <a:lnTo>
                  <a:pt x="2017" y="332"/>
                </a:lnTo>
                <a:lnTo>
                  <a:pt x="2038" y="334"/>
                </a:lnTo>
                <a:lnTo>
                  <a:pt x="2059" y="338"/>
                </a:lnTo>
                <a:lnTo>
                  <a:pt x="2079" y="340"/>
                </a:lnTo>
                <a:lnTo>
                  <a:pt x="2098" y="342"/>
                </a:lnTo>
                <a:lnTo>
                  <a:pt x="2117" y="344"/>
                </a:lnTo>
                <a:lnTo>
                  <a:pt x="2134" y="346"/>
                </a:lnTo>
                <a:lnTo>
                  <a:pt x="2152" y="348"/>
                </a:lnTo>
                <a:lnTo>
                  <a:pt x="2169" y="350"/>
                </a:lnTo>
                <a:lnTo>
                  <a:pt x="2226" y="353"/>
                </a:lnTo>
                <a:lnTo>
                  <a:pt x="2286" y="357"/>
                </a:lnTo>
                <a:lnTo>
                  <a:pt x="2344" y="359"/>
                </a:lnTo>
                <a:lnTo>
                  <a:pt x="2403" y="359"/>
                </a:lnTo>
                <a:lnTo>
                  <a:pt x="2461" y="359"/>
                </a:lnTo>
                <a:lnTo>
                  <a:pt x="2516" y="357"/>
                </a:lnTo>
                <a:lnTo>
                  <a:pt x="2572" y="353"/>
                </a:lnTo>
                <a:lnTo>
                  <a:pt x="2628" y="350"/>
                </a:lnTo>
                <a:lnTo>
                  <a:pt x="2655" y="348"/>
                </a:lnTo>
                <a:lnTo>
                  <a:pt x="2678" y="346"/>
                </a:lnTo>
                <a:lnTo>
                  <a:pt x="2701" y="344"/>
                </a:lnTo>
                <a:lnTo>
                  <a:pt x="2724" y="344"/>
                </a:lnTo>
                <a:lnTo>
                  <a:pt x="2743" y="344"/>
                </a:lnTo>
                <a:lnTo>
                  <a:pt x="2760" y="344"/>
                </a:lnTo>
                <a:lnTo>
                  <a:pt x="2777" y="346"/>
                </a:lnTo>
                <a:lnTo>
                  <a:pt x="2793" y="346"/>
                </a:lnTo>
                <a:lnTo>
                  <a:pt x="2806" y="348"/>
                </a:lnTo>
                <a:lnTo>
                  <a:pt x="2818" y="350"/>
                </a:lnTo>
                <a:lnTo>
                  <a:pt x="2827" y="351"/>
                </a:lnTo>
                <a:lnTo>
                  <a:pt x="2837" y="353"/>
                </a:lnTo>
                <a:lnTo>
                  <a:pt x="2845" y="355"/>
                </a:lnTo>
                <a:lnTo>
                  <a:pt x="2850" y="357"/>
                </a:lnTo>
                <a:lnTo>
                  <a:pt x="2854" y="359"/>
                </a:lnTo>
                <a:lnTo>
                  <a:pt x="2858" y="363"/>
                </a:lnTo>
                <a:lnTo>
                  <a:pt x="2856" y="367"/>
                </a:lnTo>
                <a:lnTo>
                  <a:pt x="2854" y="373"/>
                </a:lnTo>
                <a:lnTo>
                  <a:pt x="2850" y="378"/>
                </a:lnTo>
                <a:lnTo>
                  <a:pt x="2843" y="384"/>
                </a:lnTo>
                <a:lnTo>
                  <a:pt x="2835" y="390"/>
                </a:lnTo>
                <a:lnTo>
                  <a:pt x="2827" y="398"/>
                </a:lnTo>
                <a:lnTo>
                  <a:pt x="2816" y="405"/>
                </a:lnTo>
                <a:lnTo>
                  <a:pt x="2802" y="413"/>
                </a:lnTo>
                <a:lnTo>
                  <a:pt x="2789" y="422"/>
                </a:lnTo>
                <a:lnTo>
                  <a:pt x="2772" y="432"/>
                </a:lnTo>
                <a:lnTo>
                  <a:pt x="2754" y="442"/>
                </a:lnTo>
                <a:lnTo>
                  <a:pt x="2735" y="453"/>
                </a:lnTo>
                <a:lnTo>
                  <a:pt x="2714" y="465"/>
                </a:lnTo>
                <a:lnTo>
                  <a:pt x="2691" y="476"/>
                </a:lnTo>
                <a:lnTo>
                  <a:pt x="2666" y="490"/>
                </a:lnTo>
                <a:lnTo>
                  <a:pt x="2639" y="505"/>
                </a:lnTo>
                <a:lnTo>
                  <a:pt x="2610" y="517"/>
                </a:lnTo>
                <a:lnTo>
                  <a:pt x="2582" y="528"/>
                </a:lnTo>
                <a:lnTo>
                  <a:pt x="2555" y="540"/>
                </a:lnTo>
                <a:lnTo>
                  <a:pt x="2526" y="549"/>
                </a:lnTo>
                <a:lnTo>
                  <a:pt x="2499" y="559"/>
                </a:lnTo>
                <a:lnTo>
                  <a:pt x="2472" y="566"/>
                </a:lnTo>
                <a:lnTo>
                  <a:pt x="2447" y="576"/>
                </a:lnTo>
                <a:lnTo>
                  <a:pt x="2422" y="584"/>
                </a:lnTo>
                <a:lnTo>
                  <a:pt x="2397" y="589"/>
                </a:lnTo>
                <a:lnTo>
                  <a:pt x="2372" y="595"/>
                </a:lnTo>
                <a:lnTo>
                  <a:pt x="2349" y="601"/>
                </a:lnTo>
                <a:lnTo>
                  <a:pt x="2326" y="607"/>
                </a:lnTo>
                <a:lnTo>
                  <a:pt x="2305" y="611"/>
                </a:lnTo>
                <a:lnTo>
                  <a:pt x="2282" y="614"/>
                </a:lnTo>
                <a:lnTo>
                  <a:pt x="2261" y="618"/>
                </a:lnTo>
                <a:lnTo>
                  <a:pt x="2240" y="622"/>
                </a:lnTo>
                <a:lnTo>
                  <a:pt x="2221" y="624"/>
                </a:lnTo>
                <a:lnTo>
                  <a:pt x="2202" y="626"/>
                </a:lnTo>
                <a:lnTo>
                  <a:pt x="2182" y="628"/>
                </a:lnTo>
                <a:lnTo>
                  <a:pt x="2163" y="632"/>
                </a:lnTo>
                <a:lnTo>
                  <a:pt x="2146" y="634"/>
                </a:lnTo>
                <a:lnTo>
                  <a:pt x="2129" y="636"/>
                </a:lnTo>
                <a:lnTo>
                  <a:pt x="2111" y="636"/>
                </a:lnTo>
                <a:lnTo>
                  <a:pt x="2096" y="637"/>
                </a:lnTo>
                <a:lnTo>
                  <a:pt x="2081" y="639"/>
                </a:lnTo>
                <a:lnTo>
                  <a:pt x="2065" y="639"/>
                </a:lnTo>
                <a:lnTo>
                  <a:pt x="2050" y="639"/>
                </a:lnTo>
                <a:lnTo>
                  <a:pt x="2036" y="639"/>
                </a:lnTo>
                <a:lnTo>
                  <a:pt x="2023" y="639"/>
                </a:lnTo>
                <a:lnTo>
                  <a:pt x="2010" y="637"/>
                </a:lnTo>
                <a:lnTo>
                  <a:pt x="1998" y="636"/>
                </a:lnTo>
                <a:lnTo>
                  <a:pt x="1987" y="6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91"/>
          <p:cNvSpPr/>
          <p:nvPr/>
        </p:nvSpPr>
        <p:spPr>
          <a:xfrm>
            <a:off x="5468760" y="3632040"/>
            <a:ext cx="597240" cy="957600"/>
          </a:xfrm>
          <a:custGeom>
            <a:avLst/>
            <a:gdLst/>
            <a:ahLst/>
            <a:rect l="l" t="t" r="r" b="b"/>
            <a:pathLst>
              <a:path w="753" h="1205">
                <a:moveTo>
                  <a:pt x="559" y="570"/>
                </a:moveTo>
                <a:lnTo>
                  <a:pt x="561" y="572"/>
                </a:lnTo>
                <a:lnTo>
                  <a:pt x="563" y="575"/>
                </a:lnTo>
                <a:lnTo>
                  <a:pt x="565" y="581"/>
                </a:lnTo>
                <a:lnTo>
                  <a:pt x="567" y="587"/>
                </a:lnTo>
                <a:lnTo>
                  <a:pt x="570" y="595"/>
                </a:lnTo>
                <a:lnTo>
                  <a:pt x="572" y="602"/>
                </a:lnTo>
                <a:lnTo>
                  <a:pt x="574" y="610"/>
                </a:lnTo>
                <a:lnTo>
                  <a:pt x="578" y="621"/>
                </a:lnTo>
                <a:lnTo>
                  <a:pt x="580" y="633"/>
                </a:lnTo>
                <a:lnTo>
                  <a:pt x="584" y="646"/>
                </a:lnTo>
                <a:lnTo>
                  <a:pt x="588" y="660"/>
                </a:lnTo>
                <a:lnTo>
                  <a:pt x="592" y="675"/>
                </a:lnTo>
                <a:lnTo>
                  <a:pt x="593" y="693"/>
                </a:lnTo>
                <a:lnTo>
                  <a:pt x="597" y="710"/>
                </a:lnTo>
                <a:lnTo>
                  <a:pt x="603" y="729"/>
                </a:lnTo>
                <a:lnTo>
                  <a:pt x="607" y="750"/>
                </a:lnTo>
                <a:lnTo>
                  <a:pt x="609" y="773"/>
                </a:lnTo>
                <a:lnTo>
                  <a:pt x="611" y="796"/>
                </a:lnTo>
                <a:lnTo>
                  <a:pt x="613" y="819"/>
                </a:lnTo>
                <a:lnTo>
                  <a:pt x="615" y="844"/>
                </a:lnTo>
                <a:lnTo>
                  <a:pt x="616" y="869"/>
                </a:lnTo>
                <a:lnTo>
                  <a:pt x="620" y="894"/>
                </a:lnTo>
                <a:lnTo>
                  <a:pt x="622" y="921"/>
                </a:lnTo>
                <a:lnTo>
                  <a:pt x="622" y="948"/>
                </a:lnTo>
                <a:lnTo>
                  <a:pt x="624" y="977"/>
                </a:lnTo>
                <a:lnTo>
                  <a:pt x="626" y="1005"/>
                </a:lnTo>
                <a:lnTo>
                  <a:pt x="628" y="1036"/>
                </a:lnTo>
                <a:lnTo>
                  <a:pt x="628" y="1067"/>
                </a:lnTo>
                <a:lnTo>
                  <a:pt x="630" y="1099"/>
                </a:lnTo>
                <a:lnTo>
                  <a:pt x="630" y="1134"/>
                </a:lnTo>
                <a:lnTo>
                  <a:pt x="630" y="1169"/>
                </a:lnTo>
                <a:lnTo>
                  <a:pt x="632" y="1205"/>
                </a:lnTo>
                <a:lnTo>
                  <a:pt x="582" y="1205"/>
                </a:lnTo>
                <a:lnTo>
                  <a:pt x="534" y="1205"/>
                </a:lnTo>
                <a:lnTo>
                  <a:pt x="534" y="1178"/>
                </a:lnTo>
                <a:lnTo>
                  <a:pt x="532" y="1151"/>
                </a:lnTo>
                <a:lnTo>
                  <a:pt x="532" y="1124"/>
                </a:lnTo>
                <a:lnTo>
                  <a:pt x="530" y="1098"/>
                </a:lnTo>
                <a:lnTo>
                  <a:pt x="526" y="1071"/>
                </a:lnTo>
                <a:lnTo>
                  <a:pt x="524" y="1044"/>
                </a:lnTo>
                <a:lnTo>
                  <a:pt x="517" y="988"/>
                </a:lnTo>
                <a:lnTo>
                  <a:pt x="509" y="934"/>
                </a:lnTo>
                <a:lnTo>
                  <a:pt x="497" y="879"/>
                </a:lnTo>
                <a:lnTo>
                  <a:pt x="486" y="821"/>
                </a:lnTo>
                <a:lnTo>
                  <a:pt x="474" y="764"/>
                </a:lnTo>
                <a:lnTo>
                  <a:pt x="467" y="737"/>
                </a:lnTo>
                <a:lnTo>
                  <a:pt x="461" y="712"/>
                </a:lnTo>
                <a:lnTo>
                  <a:pt x="455" y="689"/>
                </a:lnTo>
                <a:lnTo>
                  <a:pt x="449" y="668"/>
                </a:lnTo>
                <a:lnTo>
                  <a:pt x="444" y="646"/>
                </a:lnTo>
                <a:lnTo>
                  <a:pt x="438" y="627"/>
                </a:lnTo>
                <a:lnTo>
                  <a:pt x="434" y="608"/>
                </a:lnTo>
                <a:lnTo>
                  <a:pt x="430" y="593"/>
                </a:lnTo>
                <a:lnTo>
                  <a:pt x="426" y="577"/>
                </a:lnTo>
                <a:lnTo>
                  <a:pt x="423" y="564"/>
                </a:lnTo>
                <a:lnTo>
                  <a:pt x="421" y="552"/>
                </a:lnTo>
                <a:lnTo>
                  <a:pt x="417" y="541"/>
                </a:lnTo>
                <a:lnTo>
                  <a:pt x="415" y="533"/>
                </a:lnTo>
                <a:lnTo>
                  <a:pt x="415" y="526"/>
                </a:lnTo>
                <a:lnTo>
                  <a:pt x="413" y="522"/>
                </a:lnTo>
                <a:lnTo>
                  <a:pt x="413" y="518"/>
                </a:lnTo>
                <a:lnTo>
                  <a:pt x="413" y="514"/>
                </a:lnTo>
                <a:lnTo>
                  <a:pt x="413" y="510"/>
                </a:lnTo>
                <a:lnTo>
                  <a:pt x="415" y="506"/>
                </a:lnTo>
                <a:lnTo>
                  <a:pt x="415" y="501"/>
                </a:lnTo>
                <a:lnTo>
                  <a:pt x="417" y="495"/>
                </a:lnTo>
                <a:lnTo>
                  <a:pt x="419" y="487"/>
                </a:lnTo>
                <a:lnTo>
                  <a:pt x="421" y="478"/>
                </a:lnTo>
                <a:lnTo>
                  <a:pt x="423" y="470"/>
                </a:lnTo>
                <a:lnTo>
                  <a:pt x="425" y="458"/>
                </a:lnTo>
                <a:lnTo>
                  <a:pt x="428" y="447"/>
                </a:lnTo>
                <a:lnTo>
                  <a:pt x="430" y="435"/>
                </a:lnTo>
                <a:lnTo>
                  <a:pt x="434" y="424"/>
                </a:lnTo>
                <a:lnTo>
                  <a:pt x="438" y="408"/>
                </a:lnTo>
                <a:lnTo>
                  <a:pt x="442" y="395"/>
                </a:lnTo>
                <a:lnTo>
                  <a:pt x="446" y="378"/>
                </a:lnTo>
                <a:lnTo>
                  <a:pt x="449" y="362"/>
                </a:lnTo>
                <a:lnTo>
                  <a:pt x="451" y="345"/>
                </a:lnTo>
                <a:lnTo>
                  <a:pt x="453" y="330"/>
                </a:lnTo>
                <a:lnTo>
                  <a:pt x="455" y="314"/>
                </a:lnTo>
                <a:lnTo>
                  <a:pt x="457" y="301"/>
                </a:lnTo>
                <a:lnTo>
                  <a:pt x="459" y="288"/>
                </a:lnTo>
                <a:lnTo>
                  <a:pt x="461" y="276"/>
                </a:lnTo>
                <a:lnTo>
                  <a:pt x="463" y="264"/>
                </a:lnTo>
                <a:lnTo>
                  <a:pt x="465" y="255"/>
                </a:lnTo>
                <a:lnTo>
                  <a:pt x="465" y="245"/>
                </a:lnTo>
                <a:lnTo>
                  <a:pt x="467" y="238"/>
                </a:lnTo>
                <a:lnTo>
                  <a:pt x="467" y="230"/>
                </a:lnTo>
                <a:lnTo>
                  <a:pt x="467" y="224"/>
                </a:lnTo>
                <a:lnTo>
                  <a:pt x="467" y="218"/>
                </a:lnTo>
                <a:lnTo>
                  <a:pt x="465" y="213"/>
                </a:lnTo>
                <a:lnTo>
                  <a:pt x="463" y="209"/>
                </a:lnTo>
                <a:lnTo>
                  <a:pt x="461" y="207"/>
                </a:lnTo>
                <a:lnTo>
                  <a:pt x="459" y="205"/>
                </a:lnTo>
                <a:lnTo>
                  <a:pt x="455" y="203"/>
                </a:lnTo>
                <a:lnTo>
                  <a:pt x="451" y="201"/>
                </a:lnTo>
                <a:lnTo>
                  <a:pt x="446" y="201"/>
                </a:lnTo>
                <a:lnTo>
                  <a:pt x="440" y="201"/>
                </a:lnTo>
                <a:lnTo>
                  <a:pt x="432" y="203"/>
                </a:lnTo>
                <a:lnTo>
                  <a:pt x="425" y="205"/>
                </a:lnTo>
                <a:lnTo>
                  <a:pt x="417" y="207"/>
                </a:lnTo>
                <a:lnTo>
                  <a:pt x="407" y="209"/>
                </a:lnTo>
                <a:lnTo>
                  <a:pt x="396" y="213"/>
                </a:lnTo>
                <a:lnTo>
                  <a:pt x="384" y="216"/>
                </a:lnTo>
                <a:lnTo>
                  <a:pt x="373" y="220"/>
                </a:lnTo>
                <a:lnTo>
                  <a:pt x="359" y="226"/>
                </a:lnTo>
                <a:lnTo>
                  <a:pt x="346" y="232"/>
                </a:lnTo>
                <a:lnTo>
                  <a:pt x="332" y="238"/>
                </a:lnTo>
                <a:lnTo>
                  <a:pt x="317" y="245"/>
                </a:lnTo>
                <a:lnTo>
                  <a:pt x="302" y="253"/>
                </a:lnTo>
                <a:lnTo>
                  <a:pt x="286" y="259"/>
                </a:lnTo>
                <a:lnTo>
                  <a:pt x="271" y="264"/>
                </a:lnTo>
                <a:lnTo>
                  <a:pt x="258" y="270"/>
                </a:lnTo>
                <a:lnTo>
                  <a:pt x="246" y="274"/>
                </a:lnTo>
                <a:lnTo>
                  <a:pt x="233" y="280"/>
                </a:lnTo>
                <a:lnTo>
                  <a:pt x="221" y="284"/>
                </a:lnTo>
                <a:lnTo>
                  <a:pt x="211" y="286"/>
                </a:lnTo>
                <a:lnTo>
                  <a:pt x="202" y="289"/>
                </a:lnTo>
                <a:lnTo>
                  <a:pt x="192" y="291"/>
                </a:lnTo>
                <a:lnTo>
                  <a:pt x="185" y="293"/>
                </a:lnTo>
                <a:lnTo>
                  <a:pt x="177" y="295"/>
                </a:lnTo>
                <a:lnTo>
                  <a:pt x="171" y="295"/>
                </a:lnTo>
                <a:lnTo>
                  <a:pt x="165" y="297"/>
                </a:lnTo>
                <a:lnTo>
                  <a:pt x="162" y="297"/>
                </a:lnTo>
                <a:lnTo>
                  <a:pt x="160" y="297"/>
                </a:lnTo>
                <a:lnTo>
                  <a:pt x="150" y="297"/>
                </a:lnTo>
                <a:lnTo>
                  <a:pt x="139" y="297"/>
                </a:lnTo>
                <a:lnTo>
                  <a:pt x="127" y="297"/>
                </a:lnTo>
                <a:lnTo>
                  <a:pt x="116" y="295"/>
                </a:lnTo>
                <a:lnTo>
                  <a:pt x="102" y="293"/>
                </a:lnTo>
                <a:lnTo>
                  <a:pt x="91" y="291"/>
                </a:lnTo>
                <a:lnTo>
                  <a:pt x="77" y="289"/>
                </a:lnTo>
                <a:lnTo>
                  <a:pt x="64" y="284"/>
                </a:lnTo>
                <a:lnTo>
                  <a:pt x="50" y="280"/>
                </a:lnTo>
                <a:lnTo>
                  <a:pt x="39" y="274"/>
                </a:lnTo>
                <a:lnTo>
                  <a:pt x="27" y="270"/>
                </a:lnTo>
                <a:lnTo>
                  <a:pt x="20" y="264"/>
                </a:lnTo>
                <a:lnTo>
                  <a:pt x="12" y="261"/>
                </a:lnTo>
                <a:lnTo>
                  <a:pt x="8" y="257"/>
                </a:lnTo>
                <a:lnTo>
                  <a:pt x="6" y="255"/>
                </a:lnTo>
                <a:lnTo>
                  <a:pt x="4" y="253"/>
                </a:lnTo>
                <a:lnTo>
                  <a:pt x="4" y="251"/>
                </a:lnTo>
                <a:lnTo>
                  <a:pt x="2" y="247"/>
                </a:lnTo>
                <a:lnTo>
                  <a:pt x="2" y="245"/>
                </a:lnTo>
                <a:lnTo>
                  <a:pt x="0" y="243"/>
                </a:lnTo>
                <a:lnTo>
                  <a:pt x="0" y="240"/>
                </a:lnTo>
                <a:lnTo>
                  <a:pt x="2" y="238"/>
                </a:lnTo>
                <a:lnTo>
                  <a:pt x="6" y="234"/>
                </a:lnTo>
                <a:lnTo>
                  <a:pt x="12" y="230"/>
                </a:lnTo>
                <a:lnTo>
                  <a:pt x="20" y="224"/>
                </a:lnTo>
                <a:lnTo>
                  <a:pt x="27" y="220"/>
                </a:lnTo>
                <a:lnTo>
                  <a:pt x="39" y="215"/>
                </a:lnTo>
                <a:lnTo>
                  <a:pt x="50" y="209"/>
                </a:lnTo>
                <a:lnTo>
                  <a:pt x="66" y="203"/>
                </a:lnTo>
                <a:lnTo>
                  <a:pt x="81" y="197"/>
                </a:lnTo>
                <a:lnTo>
                  <a:pt x="98" y="190"/>
                </a:lnTo>
                <a:lnTo>
                  <a:pt x="117" y="182"/>
                </a:lnTo>
                <a:lnTo>
                  <a:pt x="137" y="172"/>
                </a:lnTo>
                <a:lnTo>
                  <a:pt x="160" y="165"/>
                </a:lnTo>
                <a:lnTo>
                  <a:pt x="185" y="155"/>
                </a:lnTo>
                <a:lnTo>
                  <a:pt x="208" y="145"/>
                </a:lnTo>
                <a:lnTo>
                  <a:pt x="231" y="136"/>
                </a:lnTo>
                <a:lnTo>
                  <a:pt x="252" y="126"/>
                </a:lnTo>
                <a:lnTo>
                  <a:pt x="273" y="119"/>
                </a:lnTo>
                <a:lnTo>
                  <a:pt x="290" y="109"/>
                </a:lnTo>
                <a:lnTo>
                  <a:pt x="309" y="101"/>
                </a:lnTo>
                <a:lnTo>
                  <a:pt x="325" y="94"/>
                </a:lnTo>
                <a:lnTo>
                  <a:pt x="340" y="86"/>
                </a:lnTo>
                <a:lnTo>
                  <a:pt x="355" y="80"/>
                </a:lnTo>
                <a:lnTo>
                  <a:pt x="367" y="73"/>
                </a:lnTo>
                <a:lnTo>
                  <a:pt x="380" y="67"/>
                </a:lnTo>
                <a:lnTo>
                  <a:pt x="390" y="59"/>
                </a:lnTo>
                <a:lnTo>
                  <a:pt x="402" y="53"/>
                </a:lnTo>
                <a:lnTo>
                  <a:pt x="409" y="48"/>
                </a:lnTo>
                <a:lnTo>
                  <a:pt x="419" y="44"/>
                </a:lnTo>
                <a:lnTo>
                  <a:pt x="425" y="38"/>
                </a:lnTo>
                <a:lnTo>
                  <a:pt x="438" y="28"/>
                </a:lnTo>
                <a:lnTo>
                  <a:pt x="449" y="21"/>
                </a:lnTo>
                <a:lnTo>
                  <a:pt x="461" y="15"/>
                </a:lnTo>
                <a:lnTo>
                  <a:pt x="473" y="9"/>
                </a:lnTo>
                <a:lnTo>
                  <a:pt x="484" y="5"/>
                </a:lnTo>
                <a:lnTo>
                  <a:pt x="497" y="2"/>
                </a:lnTo>
                <a:lnTo>
                  <a:pt x="509" y="0"/>
                </a:lnTo>
                <a:lnTo>
                  <a:pt x="522" y="0"/>
                </a:lnTo>
                <a:lnTo>
                  <a:pt x="526" y="0"/>
                </a:lnTo>
                <a:lnTo>
                  <a:pt x="532" y="0"/>
                </a:lnTo>
                <a:lnTo>
                  <a:pt x="538" y="2"/>
                </a:lnTo>
                <a:lnTo>
                  <a:pt x="544" y="3"/>
                </a:lnTo>
                <a:lnTo>
                  <a:pt x="551" y="5"/>
                </a:lnTo>
                <a:lnTo>
                  <a:pt x="559" y="9"/>
                </a:lnTo>
                <a:lnTo>
                  <a:pt x="567" y="13"/>
                </a:lnTo>
                <a:lnTo>
                  <a:pt x="574" y="17"/>
                </a:lnTo>
                <a:lnTo>
                  <a:pt x="593" y="26"/>
                </a:lnTo>
                <a:lnTo>
                  <a:pt x="613" y="38"/>
                </a:lnTo>
                <a:lnTo>
                  <a:pt x="634" y="49"/>
                </a:lnTo>
                <a:lnTo>
                  <a:pt x="655" y="65"/>
                </a:lnTo>
                <a:lnTo>
                  <a:pt x="666" y="74"/>
                </a:lnTo>
                <a:lnTo>
                  <a:pt x="676" y="82"/>
                </a:lnTo>
                <a:lnTo>
                  <a:pt x="686" y="92"/>
                </a:lnTo>
                <a:lnTo>
                  <a:pt x="693" y="101"/>
                </a:lnTo>
                <a:lnTo>
                  <a:pt x="701" y="109"/>
                </a:lnTo>
                <a:lnTo>
                  <a:pt x="709" y="117"/>
                </a:lnTo>
                <a:lnTo>
                  <a:pt x="716" y="124"/>
                </a:lnTo>
                <a:lnTo>
                  <a:pt x="722" y="130"/>
                </a:lnTo>
                <a:lnTo>
                  <a:pt x="726" y="138"/>
                </a:lnTo>
                <a:lnTo>
                  <a:pt x="732" y="144"/>
                </a:lnTo>
                <a:lnTo>
                  <a:pt x="735" y="149"/>
                </a:lnTo>
                <a:lnTo>
                  <a:pt x="739" y="153"/>
                </a:lnTo>
                <a:lnTo>
                  <a:pt x="743" y="157"/>
                </a:lnTo>
                <a:lnTo>
                  <a:pt x="747" y="161"/>
                </a:lnTo>
                <a:lnTo>
                  <a:pt x="749" y="165"/>
                </a:lnTo>
                <a:lnTo>
                  <a:pt x="753" y="168"/>
                </a:lnTo>
                <a:lnTo>
                  <a:pt x="751" y="172"/>
                </a:lnTo>
                <a:lnTo>
                  <a:pt x="751" y="178"/>
                </a:lnTo>
                <a:lnTo>
                  <a:pt x="749" y="182"/>
                </a:lnTo>
                <a:lnTo>
                  <a:pt x="747" y="188"/>
                </a:lnTo>
                <a:lnTo>
                  <a:pt x="745" y="192"/>
                </a:lnTo>
                <a:lnTo>
                  <a:pt x="741" y="197"/>
                </a:lnTo>
                <a:lnTo>
                  <a:pt x="735" y="207"/>
                </a:lnTo>
                <a:lnTo>
                  <a:pt x="726" y="216"/>
                </a:lnTo>
                <a:lnTo>
                  <a:pt x="716" y="226"/>
                </a:lnTo>
                <a:lnTo>
                  <a:pt x="705" y="236"/>
                </a:lnTo>
                <a:lnTo>
                  <a:pt x="691" y="245"/>
                </a:lnTo>
                <a:lnTo>
                  <a:pt x="684" y="251"/>
                </a:lnTo>
                <a:lnTo>
                  <a:pt x="678" y="257"/>
                </a:lnTo>
                <a:lnTo>
                  <a:pt x="670" y="263"/>
                </a:lnTo>
                <a:lnTo>
                  <a:pt x="664" y="270"/>
                </a:lnTo>
                <a:lnTo>
                  <a:pt x="657" y="278"/>
                </a:lnTo>
                <a:lnTo>
                  <a:pt x="651" y="286"/>
                </a:lnTo>
                <a:lnTo>
                  <a:pt x="645" y="295"/>
                </a:lnTo>
                <a:lnTo>
                  <a:pt x="638" y="305"/>
                </a:lnTo>
                <a:lnTo>
                  <a:pt x="632" y="316"/>
                </a:lnTo>
                <a:lnTo>
                  <a:pt x="626" y="328"/>
                </a:lnTo>
                <a:lnTo>
                  <a:pt x="620" y="339"/>
                </a:lnTo>
                <a:lnTo>
                  <a:pt x="615" y="353"/>
                </a:lnTo>
                <a:lnTo>
                  <a:pt x="609" y="366"/>
                </a:lnTo>
                <a:lnTo>
                  <a:pt x="603" y="382"/>
                </a:lnTo>
                <a:lnTo>
                  <a:pt x="599" y="397"/>
                </a:lnTo>
                <a:lnTo>
                  <a:pt x="595" y="414"/>
                </a:lnTo>
                <a:lnTo>
                  <a:pt x="588" y="430"/>
                </a:lnTo>
                <a:lnTo>
                  <a:pt x="582" y="447"/>
                </a:lnTo>
                <a:lnTo>
                  <a:pt x="576" y="460"/>
                </a:lnTo>
                <a:lnTo>
                  <a:pt x="572" y="476"/>
                </a:lnTo>
                <a:lnTo>
                  <a:pt x="569" y="487"/>
                </a:lnTo>
                <a:lnTo>
                  <a:pt x="565" y="499"/>
                </a:lnTo>
                <a:lnTo>
                  <a:pt x="561" y="510"/>
                </a:lnTo>
                <a:lnTo>
                  <a:pt x="559" y="522"/>
                </a:lnTo>
                <a:lnTo>
                  <a:pt x="557" y="529"/>
                </a:lnTo>
                <a:lnTo>
                  <a:pt x="555" y="539"/>
                </a:lnTo>
                <a:lnTo>
                  <a:pt x="555" y="547"/>
                </a:lnTo>
                <a:lnTo>
                  <a:pt x="553" y="552"/>
                </a:lnTo>
                <a:lnTo>
                  <a:pt x="553" y="558"/>
                </a:lnTo>
                <a:lnTo>
                  <a:pt x="555" y="562"/>
                </a:lnTo>
                <a:lnTo>
                  <a:pt x="557" y="566"/>
                </a:lnTo>
                <a:lnTo>
                  <a:pt x="559" y="5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92"/>
          <p:cNvSpPr/>
          <p:nvPr/>
        </p:nvSpPr>
        <p:spPr>
          <a:xfrm>
            <a:off x="5767560" y="3035160"/>
            <a:ext cx="350640" cy="298440"/>
          </a:xfrm>
          <a:custGeom>
            <a:avLst/>
            <a:gdLst/>
            <a:ahLst/>
            <a:rect l="l" t="t" r="r" b="b"/>
            <a:pathLst>
              <a:path w="443" h="376">
                <a:moveTo>
                  <a:pt x="424" y="325"/>
                </a:moveTo>
                <a:lnTo>
                  <a:pt x="418" y="332"/>
                </a:lnTo>
                <a:lnTo>
                  <a:pt x="414" y="338"/>
                </a:lnTo>
                <a:lnTo>
                  <a:pt x="410" y="344"/>
                </a:lnTo>
                <a:lnTo>
                  <a:pt x="405" y="349"/>
                </a:lnTo>
                <a:lnTo>
                  <a:pt x="401" y="353"/>
                </a:lnTo>
                <a:lnTo>
                  <a:pt x="397" y="359"/>
                </a:lnTo>
                <a:lnTo>
                  <a:pt x="391" y="363"/>
                </a:lnTo>
                <a:lnTo>
                  <a:pt x="387" y="365"/>
                </a:lnTo>
                <a:lnTo>
                  <a:pt x="378" y="371"/>
                </a:lnTo>
                <a:lnTo>
                  <a:pt x="368" y="374"/>
                </a:lnTo>
                <a:lnTo>
                  <a:pt x="360" y="376"/>
                </a:lnTo>
                <a:lnTo>
                  <a:pt x="351" y="376"/>
                </a:lnTo>
                <a:lnTo>
                  <a:pt x="345" y="376"/>
                </a:lnTo>
                <a:lnTo>
                  <a:pt x="341" y="374"/>
                </a:lnTo>
                <a:lnTo>
                  <a:pt x="335" y="374"/>
                </a:lnTo>
                <a:lnTo>
                  <a:pt x="330" y="373"/>
                </a:lnTo>
                <a:lnTo>
                  <a:pt x="324" y="369"/>
                </a:lnTo>
                <a:lnTo>
                  <a:pt x="318" y="367"/>
                </a:lnTo>
                <a:lnTo>
                  <a:pt x="312" y="363"/>
                </a:lnTo>
                <a:lnTo>
                  <a:pt x="305" y="359"/>
                </a:lnTo>
                <a:lnTo>
                  <a:pt x="291" y="349"/>
                </a:lnTo>
                <a:lnTo>
                  <a:pt x="276" y="338"/>
                </a:lnTo>
                <a:lnTo>
                  <a:pt x="259" y="326"/>
                </a:lnTo>
                <a:lnTo>
                  <a:pt x="241" y="311"/>
                </a:lnTo>
                <a:lnTo>
                  <a:pt x="220" y="296"/>
                </a:lnTo>
                <a:lnTo>
                  <a:pt x="199" y="280"/>
                </a:lnTo>
                <a:lnTo>
                  <a:pt x="178" y="263"/>
                </a:lnTo>
                <a:lnTo>
                  <a:pt x="159" y="244"/>
                </a:lnTo>
                <a:lnTo>
                  <a:pt x="140" y="223"/>
                </a:lnTo>
                <a:lnTo>
                  <a:pt x="120" y="202"/>
                </a:lnTo>
                <a:lnTo>
                  <a:pt x="103" y="181"/>
                </a:lnTo>
                <a:lnTo>
                  <a:pt x="84" y="156"/>
                </a:lnTo>
                <a:lnTo>
                  <a:pt x="74" y="144"/>
                </a:lnTo>
                <a:lnTo>
                  <a:pt x="63" y="133"/>
                </a:lnTo>
                <a:lnTo>
                  <a:pt x="55" y="121"/>
                </a:lnTo>
                <a:lnTo>
                  <a:pt x="46" y="110"/>
                </a:lnTo>
                <a:lnTo>
                  <a:pt x="38" y="98"/>
                </a:lnTo>
                <a:lnTo>
                  <a:pt x="32" y="88"/>
                </a:lnTo>
                <a:lnTo>
                  <a:pt x="25" y="79"/>
                </a:lnTo>
                <a:lnTo>
                  <a:pt x="21" y="69"/>
                </a:lnTo>
                <a:lnTo>
                  <a:pt x="15" y="60"/>
                </a:lnTo>
                <a:lnTo>
                  <a:pt x="11" y="50"/>
                </a:lnTo>
                <a:lnTo>
                  <a:pt x="7" y="40"/>
                </a:lnTo>
                <a:lnTo>
                  <a:pt x="5" y="33"/>
                </a:lnTo>
                <a:lnTo>
                  <a:pt x="3" y="23"/>
                </a:lnTo>
                <a:lnTo>
                  <a:pt x="1" y="16"/>
                </a:lnTo>
                <a:lnTo>
                  <a:pt x="0" y="8"/>
                </a:lnTo>
                <a:lnTo>
                  <a:pt x="0" y="0"/>
                </a:lnTo>
                <a:lnTo>
                  <a:pt x="32" y="2"/>
                </a:lnTo>
                <a:lnTo>
                  <a:pt x="63" y="4"/>
                </a:lnTo>
                <a:lnTo>
                  <a:pt x="96" y="6"/>
                </a:lnTo>
                <a:lnTo>
                  <a:pt x="128" y="10"/>
                </a:lnTo>
                <a:lnTo>
                  <a:pt x="161" y="16"/>
                </a:lnTo>
                <a:lnTo>
                  <a:pt x="195" y="23"/>
                </a:lnTo>
                <a:lnTo>
                  <a:pt x="230" y="31"/>
                </a:lnTo>
                <a:lnTo>
                  <a:pt x="266" y="40"/>
                </a:lnTo>
                <a:lnTo>
                  <a:pt x="284" y="46"/>
                </a:lnTo>
                <a:lnTo>
                  <a:pt x="301" y="54"/>
                </a:lnTo>
                <a:lnTo>
                  <a:pt x="316" y="62"/>
                </a:lnTo>
                <a:lnTo>
                  <a:pt x="332" y="69"/>
                </a:lnTo>
                <a:lnTo>
                  <a:pt x="345" y="77"/>
                </a:lnTo>
                <a:lnTo>
                  <a:pt x="358" y="85"/>
                </a:lnTo>
                <a:lnTo>
                  <a:pt x="370" y="92"/>
                </a:lnTo>
                <a:lnTo>
                  <a:pt x="382" y="100"/>
                </a:lnTo>
                <a:lnTo>
                  <a:pt x="393" y="108"/>
                </a:lnTo>
                <a:lnTo>
                  <a:pt x="403" y="115"/>
                </a:lnTo>
                <a:lnTo>
                  <a:pt x="410" y="125"/>
                </a:lnTo>
                <a:lnTo>
                  <a:pt x="418" y="133"/>
                </a:lnTo>
                <a:lnTo>
                  <a:pt x="424" y="142"/>
                </a:lnTo>
                <a:lnTo>
                  <a:pt x="428" y="150"/>
                </a:lnTo>
                <a:lnTo>
                  <a:pt x="431" y="159"/>
                </a:lnTo>
                <a:lnTo>
                  <a:pt x="435" y="169"/>
                </a:lnTo>
                <a:lnTo>
                  <a:pt x="439" y="192"/>
                </a:lnTo>
                <a:lnTo>
                  <a:pt x="441" y="215"/>
                </a:lnTo>
                <a:lnTo>
                  <a:pt x="443" y="236"/>
                </a:lnTo>
                <a:lnTo>
                  <a:pt x="443" y="257"/>
                </a:lnTo>
                <a:lnTo>
                  <a:pt x="441" y="275"/>
                </a:lnTo>
                <a:lnTo>
                  <a:pt x="439" y="284"/>
                </a:lnTo>
                <a:lnTo>
                  <a:pt x="437" y="294"/>
                </a:lnTo>
                <a:lnTo>
                  <a:pt x="433" y="302"/>
                </a:lnTo>
                <a:lnTo>
                  <a:pt x="431" y="309"/>
                </a:lnTo>
                <a:lnTo>
                  <a:pt x="428" y="317"/>
                </a:lnTo>
                <a:lnTo>
                  <a:pt x="424" y="3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俱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1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具”横画之间间隔要均匀，底横较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矩形 3"/>
          <p:cNvSpPr/>
          <p:nvPr/>
        </p:nvSpPr>
        <p:spPr>
          <a:xfrm>
            <a:off x="2235240" y="202572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95"/>
          <p:cNvSpPr/>
          <p:nvPr/>
        </p:nvSpPr>
        <p:spPr>
          <a:xfrm>
            <a:off x="6908760" y="4368960"/>
            <a:ext cx="433440" cy="579240"/>
          </a:xfrm>
          <a:custGeom>
            <a:avLst/>
            <a:gdLst/>
            <a:ahLst/>
            <a:rect l="l" t="t" r="r" b="b"/>
            <a:pathLst>
              <a:path w="547" h="731">
                <a:moveTo>
                  <a:pt x="536" y="664"/>
                </a:moveTo>
                <a:lnTo>
                  <a:pt x="528" y="677"/>
                </a:lnTo>
                <a:lnTo>
                  <a:pt x="518" y="691"/>
                </a:lnTo>
                <a:lnTo>
                  <a:pt x="511" y="702"/>
                </a:lnTo>
                <a:lnTo>
                  <a:pt x="503" y="712"/>
                </a:lnTo>
                <a:lnTo>
                  <a:pt x="499" y="716"/>
                </a:lnTo>
                <a:lnTo>
                  <a:pt x="495" y="719"/>
                </a:lnTo>
                <a:lnTo>
                  <a:pt x="491" y="723"/>
                </a:lnTo>
                <a:lnTo>
                  <a:pt x="490" y="725"/>
                </a:lnTo>
                <a:lnTo>
                  <a:pt x="486" y="727"/>
                </a:lnTo>
                <a:lnTo>
                  <a:pt x="484" y="729"/>
                </a:lnTo>
                <a:lnTo>
                  <a:pt x="480" y="731"/>
                </a:lnTo>
                <a:lnTo>
                  <a:pt x="478" y="731"/>
                </a:lnTo>
                <a:lnTo>
                  <a:pt x="476" y="731"/>
                </a:lnTo>
                <a:lnTo>
                  <a:pt x="472" y="729"/>
                </a:lnTo>
                <a:lnTo>
                  <a:pt x="470" y="727"/>
                </a:lnTo>
                <a:lnTo>
                  <a:pt x="467" y="725"/>
                </a:lnTo>
                <a:lnTo>
                  <a:pt x="463" y="721"/>
                </a:lnTo>
                <a:lnTo>
                  <a:pt x="457" y="718"/>
                </a:lnTo>
                <a:lnTo>
                  <a:pt x="453" y="714"/>
                </a:lnTo>
                <a:lnTo>
                  <a:pt x="447" y="708"/>
                </a:lnTo>
                <a:lnTo>
                  <a:pt x="442" y="702"/>
                </a:lnTo>
                <a:lnTo>
                  <a:pt x="436" y="695"/>
                </a:lnTo>
                <a:lnTo>
                  <a:pt x="430" y="689"/>
                </a:lnTo>
                <a:lnTo>
                  <a:pt x="422" y="679"/>
                </a:lnTo>
                <a:lnTo>
                  <a:pt x="415" y="671"/>
                </a:lnTo>
                <a:lnTo>
                  <a:pt x="407" y="662"/>
                </a:lnTo>
                <a:lnTo>
                  <a:pt x="399" y="652"/>
                </a:lnTo>
                <a:lnTo>
                  <a:pt x="392" y="641"/>
                </a:lnTo>
                <a:lnTo>
                  <a:pt x="382" y="629"/>
                </a:lnTo>
                <a:lnTo>
                  <a:pt x="374" y="616"/>
                </a:lnTo>
                <a:lnTo>
                  <a:pt x="365" y="602"/>
                </a:lnTo>
                <a:lnTo>
                  <a:pt x="355" y="589"/>
                </a:lnTo>
                <a:lnTo>
                  <a:pt x="344" y="576"/>
                </a:lnTo>
                <a:lnTo>
                  <a:pt x="334" y="560"/>
                </a:lnTo>
                <a:lnTo>
                  <a:pt x="323" y="543"/>
                </a:lnTo>
                <a:lnTo>
                  <a:pt x="313" y="528"/>
                </a:lnTo>
                <a:lnTo>
                  <a:pt x="301" y="510"/>
                </a:lnTo>
                <a:lnTo>
                  <a:pt x="288" y="491"/>
                </a:lnTo>
                <a:lnTo>
                  <a:pt x="276" y="472"/>
                </a:lnTo>
                <a:lnTo>
                  <a:pt x="265" y="453"/>
                </a:lnTo>
                <a:lnTo>
                  <a:pt x="252" y="433"/>
                </a:lnTo>
                <a:lnTo>
                  <a:pt x="238" y="412"/>
                </a:lnTo>
                <a:lnTo>
                  <a:pt x="225" y="389"/>
                </a:lnTo>
                <a:lnTo>
                  <a:pt x="211" y="368"/>
                </a:lnTo>
                <a:lnTo>
                  <a:pt x="198" y="347"/>
                </a:lnTo>
                <a:lnTo>
                  <a:pt x="184" y="326"/>
                </a:lnTo>
                <a:lnTo>
                  <a:pt x="171" y="307"/>
                </a:lnTo>
                <a:lnTo>
                  <a:pt x="159" y="288"/>
                </a:lnTo>
                <a:lnTo>
                  <a:pt x="148" y="268"/>
                </a:lnTo>
                <a:lnTo>
                  <a:pt x="136" y="249"/>
                </a:lnTo>
                <a:lnTo>
                  <a:pt x="125" y="232"/>
                </a:lnTo>
                <a:lnTo>
                  <a:pt x="113" y="217"/>
                </a:lnTo>
                <a:lnTo>
                  <a:pt x="104" y="199"/>
                </a:lnTo>
                <a:lnTo>
                  <a:pt x="94" y="184"/>
                </a:lnTo>
                <a:lnTo>
                  <a:pt x="85" y="171"/>
                </a:lnTo>
                <a:lnTo>
                  <a:pt x="77" y="155"/>
                </a:lnTo>
                <a:lnTo>
                  <a:pt x="69" y="142"/>
                </a:lnTo>
                <a:lnTo>
                  <a:pt x="61" y="128"/>
                </a:lnTo>
                <a:lnTo>
                  <a:pt x="54" y="117"/>
                </a:lnTo>
                <a:lnTo>
                  <a:pt x="46" y="105"/>
                </a:lnTo>
                <a:lnTo>
                  <a:pt x="40" y="94"/>
                </a:lnTo>
                <a:lnTo>
                  <a:pt x="35" y="84"/>
                </a:lnTo>
                <a:lnTo>
                  <a:pt x="29" y="75"/>
                </a:lnTo>
                <a:lnTo>
                  <a:pt x="23" y="65"/>
                </a:lnTo>
                <a:lnTo>
                  <a:pt x="19" y="57"/>
                </a:lnTo>
                <a:lnTo>
                  <a:pt x="15" y="50"/>
                </a:lnTo>
                <a:lnTo>
                  <a:pt x="12" y="42"/>
                </a:lnTo>
                <a:lnTo>
                  <a:pt x="10" y="34"/>
                </a:lnTo>
                <a:lnTo>
                  <a:pt x="6" y="28"/>
                </a:lnTo>
                <a:lnTo>
                  <a:pt x="4" y="25"/>
                </a:lnTo>
                <a:lnTo>
                  <a:pt x="2" y="19"/>
                </a:lnTo>
                <a:lnTo>
                  <a:pt x="2" y="15"/>
                </a:lnTo>
                <a:lnTo>
                  <a:pt x="0" y="11"/>
                </a:lnTo>
                <a:lnTo>
                  <a:pt x="0" y="9"/>
                </a:lnTo>
                <a:lnTo>
                  <a:pt x="2" y="7"/>
                </a:lnTo>
                <a:lnTo>
                  <a:pt x="2" y="5"/>
                </a:lnTo>
                <a:lnTo>
                  <a:pt x="4" y="4"/>
                </a:lnTo>
                <a:lnTo>
                  <a:pt x="8" y="2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37" y="2"/>
                </a:lnTo>
                <a:lnTo>
                  <a:pt x="44" y="4"/>
                </a:lnTo>
                <a:lnTo>
                  <a:pt x="52" y="5"/>
                </a:lnTo>
                <a:lnTo>
                  <a:pt x="60" y="7"/>
                </a:lnTo>
                <a:lnTo>
                  <a:pt x="67" y="9"/>
                </a:lnTo>
                <a:lnTo>
                  <a:pt x="77" y="11"/>
                </a:lnTo>
                <a:lnTo>
                  <a:pt x="86" y="13"/>
                </a:lnTo>
                <a:lnTo>
                  <a:pt x="96" y="15"/>
                </a:lnTo>
                <a:lnTo>
                  <a:pt x="108" y="19"/>
                </a:lnTo>
                <a:lnTo>
                  <a:pt x="117" y="25"/>
                </a:lnTo>
                <a:lnTo>
                  <a:pt x="129" y="30"/>
                </a:lnTo>
                <a:lnTo>
                  <a:pt x="140" y="36"/>
                </a:lnTo>
                <a:lnTo>
                  <a:pt x="152" y="44"/>
                </a:lnTo>
                <a:lnTo>
                  <a:pt x="165" y="51"/>
                </a:lnTo>
                <a:lnTo>
                  <a:pt x="177" y="59"/>
                </a:lnTo>
                <a:lnTo>
                  <a:pt x="190" y="69"/>
                </a:lnTo>
                <a:lnTo>
                  <a:pt x="202" y="78"/>
                </a:lnTo>
                <a:lnTo>
                  <a:pt x="215" y="90"/>
                </a:lnTo>
                <a:lnTo>
                  <a:pt x="228" y="99"/>
                </a:lnTo>
                <a:lnTo>
                  <a:pt x="244" y="111"/>
                </a:lnTo>
                <a:lnTo>
                  <a:pt x="257" y="124"/>
                </a:lnTo>
                <a:lnTo>
                  <a:pt x="271" y="136"/>
                </a:lnTo>
                <a:lnTo>
                  <a:pt x="286" y="151"/>
                </a:lnTo>
                <a:lnTo>
                  <a:pt x="300" y="165"/>
                </a:lnTo>
                <a:lnTo>
                  <a:pt x="315" y="180"/>
                </a:lnTo>
                <a:lnTo>
                  <a:pt x="346" y="211"/>
                </a:lnTo>
                <a:lnTo>
                  <a:pt x="374" y="242"/>
                </a:lnTo>
                <a:lnTo>
                  <a:pt x="401" y="272"/>
                </a:lnTo>
                <a:lnTo>
                  <a:pt x="426" y="303"/>
                </a:lnTo>
                <a:lnTo>
                  <a:pt x="451" y="334"/>
                </a:lnTo>
                <a:lnTo>
                  <a:pt x="463" y="351"/>
                </a:lnTo>
                <a:lnTo>
                  <a:pt x="474" y="366"/>
                </a:lnTo>
                <a:lnTo>
                  <a:pt x="484" y="384"/>
                </a:lnTo>
                <a:lnTo>
                  <a:pt x="495" y="401"/>
                </a:lnTo>
                <a:lnTo>
                  <a:pt x="503" y="418"/>
                </a:lnTo>
                <a:lnTo>
                  <a:pt x="513" y="435"/>
                </a:lnTo>
                <a:lnTo>
                  <a:pt x="518" y="453"/>
                </a:lnTo>
                <a:lnTo>
                  <a:pt x="524" y="470"/>
                </a:lnTo>
                <a:lnTo>
                  <a:pt x="530" y="487"/>
                </a:lnTo>
                <a:lnTo>
                  <a:pt x="534" y="503"/>
                </a:lnTo>
                <a:lnTo>
                  <a:pt x="538" y="520"/>
                </a:lnTo>
                <a:lnTo>
                  <a:pt x="541" y="535"/>
                </a:lnTo>
                <a:lnTo>
                  <a:pt x="543" y="551"/>
                </a:lnTo>
                <a:lnTo>
                  <a:pt x="545" y="564"/>
                </a:lnTo>
                <a:lnTo>
                  <a:pt x="547" y="579"/>
                </a:lnTo>
                <a:lnTo>
                  <a:pt x="547" y="593"/>
                </a:lnTo>
                <a:lnTo>
                  <a:pt x="547" y="606"/>
                </a:lnTo>
                <a:lnTo>
                  <a:pt x="547" y="618"/>
                </a:lnTo>
                <a:lnTo>
                  <a:pt x="545" y="631"/>
                </a:lnTo>
                <a:lnTo>
                  <a:pt x="543" y="643"/>
                </a:lnTo>
                <a:lnTo>
                  <a:pt x="539" y="652"/>
                </a:lnTo>
                <a:lnTo>
                  <a:pt x="536" y="6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96"/>
          <p:cNvSpPr/>
          <p:nvPr/>
        </p:nvSpPr>
        <p:spPr>
          <a:xfrm>
            <a:off x="6087960" y="4336920"/>
            <a:ext cx="609840" cy="636840"/>
          </a:xfrm>
          <a:custGeom>
            <a:avLst/>
            <a:gdLst/>
            <a:ahLst/>
            <a:rect l="l" t="t" r="r" b="b"/>
            <a:pathLst>
              <a:path w="768" h="803">
                <a:moveTo>
                  <a:pt x="165" y="732"/>
                </a:moveTo>
                <a:lnTo>
                  <a:pt x="146" y="741"/>
                </a:lnTo>
                <a:lnTo>
                  <a:pt x="129" y="751"/>
                </a:lnTo>
                <a:lnTo>
                  <a:pt x="112" y="759"/>
                </a:lnTo>
                <a:lnTo>
                  <a:pt x="96" y="766"/>
                </a:lnTo>
                <a:lnTo>
                  <a:pt x="83" y="774"/>
                </a:lnTo>
                <a:lnTo>
                  <a:pt x="71" y="780"/>
                </a:lnTo>
                <a:lnTo>
                  <a:pt x="60" y="785"/>
                </a:lnTo>
                <a:lnTo>
                  <a:pt x="48" y="791"/>
                </a:lnTo>
                <a:lnTo>
                  <a:pt x="39" y="795"/>
                </a:lnTo>
                <a:lnTo>
                  <a:pt x="31" y="797"/>
                </a:lnTo>
                <a:lnTo>
                  <a:pt x="23" y="799"/>
                </a:lnTo>
                <a:lnTo>
                  <a:pt x="18" y="801"/>
                </a:lnTo>
                <a:lnTo>
                  <a:pt x="12" y="803"/>
                </a:lnTo>
                <a:lnTo>
                  <a:pt x="8" y="801"/>
                </a:lnTo>
                <a:lnTo>
                  <a:pt x="4" y="801"/>
                </a:lnTo>
                <a:lnTo>
                  <a:pt x="2" y="799"/>
                </a:lnTo>
                <a:lnTo>
                  <a:pt x="0" y="795"/>
                </a:lnTo>
                <a:lnTo>
                  <a:pt x="0" y="791"/>
                </a:lnTo>
                <a:lnTo>
                  <a:pt x="2" y="787"/>
                </a:lnTo>
                <a:lnTo>
                  <a:pt x="4" y="782"/>
                </a:lnTo>
                <a:lnTo>
                  <a:pt x="8" y="774"/>
                </a:lnTo>
                <a:lnTo>
                  <a:pt x="14" y="766"/>
                </a:lnTo>
                <a:lnTo>
                  <a:pt x="22" y="759"/>
                </a:lnTo>
                <a:lnTo>
                  <a:pt x="29" y="749"/>
                </a:lnTo>
                <a:lnTo>
                  <a:pt x="39" y="737"/>
                </a:lnTo>
                <a:lnTo>
                  <a:pt x="48" y="726"/>
                </a:lnTo>
                <a:lnTo>
                  <a:pt x="62" y="714"/>
                </a:lnTo>
                <a:lnTo>
                  <a:pt x="75" y="701"/>
                </a:lnTo>
                <a:lnTo>
                  <a:pt x="89" y="686"/>
                </a:lnTo>
                <a:lnTo>
                  <a:pt x="106" y="670"/>
                </a:lnTo>
                <a:lnTo>
                  <a:pt x="123" y="655"/>
                </a:lnTo>
                <a:lnTo>
                  <a:pt x="142" y="638"/>
                </a:lnTo>
                <a:lnTo>
                  <a:pt x="162" y="622"/>
                </a:lnTo>
                <a:lnTo>
                  <a:pt x="179" y="607"/>
                </a:lnTo>
                <a:lnTo>
                  <a:pt x="198" y="592"/>
                </a:lnTo>
                <a:lnTo>
                  <a:pt x="215" y="576"/>
                </a:lnTo>
                <a:lnTo>
                  <a:pt x="233" y="561"/>
                </a:lnTo>
                <a:lnTo>
                  <a:pt x="250" y="547"/>
                </a:lnTo>
                <a:lnTo>
                  <a:pt x="265" y="532"/>
                </a:lnTo>
                <a:lnTo>
                  <a:pt x="281" y="519"/>
                </a:lnTo>
                <a:lnTo>
                  <a:pt x="296" y="503"/>
                </a:lnTo>
                <a:lnTo>
                  <a:pt x="311" y="490"/>
                </a:lnTo>
                <a:lnTo>
                  <a:pt x="325" y="474"/>
                </a:lnTo>
                <a:lnTo>
                  <a:pt x="338" y="461"/>
                </a:lnTo>
                <a:lnTo>
                  <a:pt x="350" y="448"/>
                </a:lnTo>
                <a:lnTo>
                  <a:pt x="363" y="434"/>
                </a:lnTo>
                <a:lnTo>
                  <a:pt x="375" y="421"/>
                </a:lnTo>
                <a:lnTo>
                  <a:pt x="386" y="409"/>
                </a:lnTo>
                <a:lnTo>
                  <a:pt x="407" y="384"/>
                </a:lnTo>
                <a:lnTo>
                  <a:pt x="427" y="361"/>
                </a:lnTo>
                <a:lnTo>
                  <a:pt x="446" y="338"/>
                </a:lnTo>
                <a:lnTo>
                  <a:pt x="463" y="315"/>
                </a:lnTo>
                <a:lnTo>
                  <a:pt x="480" y="292"/>
                </a:lnTo>
                <a:lnTo>
                  <a:pt x="496" y="269"/>
                </a:lnTo>
                <a:lnTo>
                  <a:pt x="511" y="246"/>
                </a:lnTo>
                <a:lnTo>
                  <a:pt x="524" y="221"/>
                </a:lnTo>
                <a:lnTo>
                  <a:pt x="530" y="208"/>
                </a:lnTo>
                <a:lnTo>
                  <a:pt x="536" y="196"/>
                </a:lnTo>
                <a:lnTo>
                  <a:pt x="540" y="185"/>
                </a:lnTo>
                <a:lnTo>
                  <a:pt x="544" y="175"/>
                </a:lnTo>
                <a:lnTo>
                  <a:pt x="547" y="165"/>
                </a:lnTo>
                <a:lnTo>
                  <a:pt x="549" y="154"/>
                </a:lnTo>
                <a:lnTo>
                  <a:pt x="551" y="146"/>
                </a:lnTo>
                <a:lnTo>
                  <a:pt x="551" y="137"/>
                </a:lnTo>
                <a:lnTo>
                  <a:pt x="551" y="127"/>
                </a:lnTo>
                <a:lnTo>
                  <a:pt x="551" y="119"/>
                </a:lnTo>
                <a:lnTo>
                  <a:pt x="551" y="112"/>
                </a:lnTo>
                <a:lnTo>
                  <a:pt x="549" y="104"/>
                </a:lnTo>
                <a:lnTo>
                  <a:pt x="547" y="96"/>
                </a:lnTo>
                <a:lnTo>
                  <a:pt x="544" y="89"/>
                </a:lnTo>
                <a:lnTo>
                  <a:pt x="540" y="81"/>
                </a:lnTo>
                <a:lnTo>
                  <a:pt x="536" y="73"/>
                </a:lnTo>
                <a:lnTo>
                  <a:pt x="532" y="68"/>
                </a:lnTo>
                <a:lnTo>
                  <a:pt x="528" y="64"/>
                </a:lnTo>
                <a:lnTo>
                  <a:pt x="526" y="58"/>
                </a:lnTo>
                <a:lnTo>
                  <a:pt x="524" y="52"/>
                </a:lnTo>
                <a:lnTo>
                  <a:pt x="522" y="48"/>
                </a:lnTo>
                <a:lnTo>
                  <a:pt x="521" y="43"/>
                </a:lnTo>
                <a:lnTo>
                  <a:pt x="521" y="39"/>
                </a:lnTo>
                <a:lnTo>
                  <a:pt x="521" y="35"/>
                </a:lnTo>
                <a:lnTo>
                  <a:pt x="521" y="29"/>
                </a:lnTo>
                <a:lnTo>
                  <a:pt x="522" y="25"/>
                </a:lnTo>
                <a:lnTo>
                  <a:pt x="524" y="21"/>
                </a:lnTo>
                <a:lnTo>
                  <a:pt x="528" y="18"/>
                </a:lnTo>
                <a:lnTo>
                  <a:pt x="532" y="14"/>
                </a:lnTo>
                <a:lnTo>
                  <a:pt x="536" y="12"/>
                </a:lnTo>
                <a:lnTo>
                  <a:pt x="542" y="8"/>
                </a:lnTo>
                <a:lnTo>
                  <a:pt x="547" y="6"/>
                </a:lnTo>
                <a:lnTo>
                  <a:pt x="553" y="4"/>
                </a:lnTo>
                <a:lnTo>
                  <a:pt x="557" y="2"/>
                </a:lnTo>
                <a:lnTo>
                  <a:pt x="563" y="0"/>
                </a:lnTo>
                <a:lnTo>
                  <a:pt x="570" y="0"/>
                </a:lnTo>
                <a:lnTo>
                  <a:pt x="576" y="0"/>
                </a:lnTo>
                <a:lnTo>
                  <a:pt x="584" y="2"/>
                </a:lnTo>
                <a:lnTo>
                  <a:pt x="592" y="4"/>
                </a:lnTo>
                <a:lnTo>
                  <a:pt x="599" y="6"/>
                </a:lnTo>
                <a:lnTo>
                  <a:pt x="607" y="8"/>
                </a:lnTo>
                <a:lnTo>
                  <a:pt x="617" y="12"/>
                </a:lnTo>
                <a:lnTo>
                  <a:pt x="624" y="16"/>
                </a:lnTo>
                <a:lnTo>
                  <a:pt x="634" y="21"/>
                </a:lnTo>
                <a:lnTo>
                  <a:pt x="645" y="25"/>
                </a:lnTo>
                <a:lnTo>
                  <a:pt x="655" y="31"/>
                </a:lnTo>
                <a:lnTo>
                  <a:pt x="665" y="39"/>
                </a:lnTo>
                <a:lnTo>
                  <a:pt x="676" y="46"/>
                </a:lnTo>
                <a:lnTo>
                  <a:pt x="686" y="54"/>
                </a:lnTo>
                <a:lnTo>
                  <a:pt x="695" y="62"/>
                </a:lnTo>
                <a:lnTo>
                  <a:pt x="705" y="69"/>
                </a:lnTo>
                <a:lnTo>
                  <a:pt x="714" y="77"/>
                </a:lnTo>
                <a:lnTo>
                  <a:pt x="722" y="83"/>
                </a:lnTo>
                <a:lnTo>
                  <a:pt x="730" y="91"/>
                </a:lnTo>
                <a:lnTo>
                  <a:pt x="737" y="98"/>
                </a:lnTo>
                <a:lnTo>
                  <a:pt x="743" y="104"/>
                </a:lnTo>
                <a:lnTo>
                  <a:pt x="749" y="112"/>
                </a:lnTo>
                <a:lnTo>
                  <a:pt x="755" y="119"/>
                </a:lnTo>
                <a:lnTo>
                  <a:pt x="759" y="125"/>
                </a:lnTo>
                <a:lnTo>
                  <a:pt x="762" y="131"/>
                </a:lnTo>
                <a:lnTo>
                  <a:pt x="764" y="137"/>
                </a:lnTo>
                <a:lnTo>
                  <a:pt x="766" y="142"/>
                </a:lnTo>
                <a:lnTo>
                  <a:pt x="768" y="148"/>
                </a:lnTo>
                <a:lnTo>
                  <a:pt x="768" y="154"/>
                </a:lnTo>
                <a:lnTo>
                  <a:pt x="768" y="162"/>
                </a:lnTo>
                <a:lnTo>
                  <a:pt x="766" y="169"/>
                </a:lnTo>
                <a:lnTo>
                  <a:pt x="766" y="177"/>
                </a:lnTo>
                <a:lnTo>
                  <a:pt x="764" y="183"/>
                </a:lnTo>
                <a:lnTo>
                  <a:pt x="759" y="198"/>
                </a:lnTo>
                <a:lnTo>
                  <a:pt x="753" y="213"/>
                </a:lnTo>
                <a:lnTo>
                  <a:pt x="743" y="229"/>
                </a:lnTo>
                <a:lnTo>
                  <a:pt x="734" y="244"/>
                </a:lnTo>
                <a:lnTo>
                  <a:pt x="722" y="259"/>
                </a:lnTo>
                <a:lnTo>
                  <a:pt x="711" y="275"/>
                </a:lnTo>
                <a:lnTo>
                  <a:pt x="703" y="284"/>
                </a:lnTo>
                <a:lnTo>
                  <a:pt x="695" y="296"/>
                </a:lnTo>
                <a:lnTo>
                  <a:pt x="686" y="306"/>
                </a:lnTo>
                <a:lnTo>
                  <a:pt x="676" y="317"/>
                </a:lnTo>
                <a:lnTo>
                  <a:pt x="665" y="329"/>
                </a:lnTo>
                <a:lnTo>
                  <a:pt x="653" y="342"/>
                </a:lnTo>
                <a:lnTo>
                  <a:pt x="640" y="354"/>
                </a:lnTo>
                <a:lnTo>
                  <a:pt x="626" y="367"/>
                </a:lnTo>
                <a:lnTo>
                  <a:pt x="611" y="380"/>
                </a:lnTo>
                <a:lnTo>
                  <a:pt x="595" y="394"/>
                </a:lnTo>
                <a:lnTo>
                  <a:pt x="580" y="409"/>
                </a:lnTo>
                <a:lnTo>
                  <a:pt x="563" y="423"/>
                </a:lnTo>
                <a:lnTo>
                  <a:pt x="546" y="438"/>
                </a:lnTo>
                <a:lnTo>
                  <a:pt x="528" y="455"/>
                </a:lnTo>
                <a:lnTo>
                  <a:pt x="509" y="473"/>
                </a:lnTo>
                <a:lnTo>
                  <a:pt x="490" y="490"/>
                </a:lnTo>
                <a:lnTo>
                  <a:pt x="450" y="524"/>
                </a:lnTo>
                <a:lnTo>
                  <a:pt x="409" y="557"/>
                </a:lnTo>
                <a:lnTo>
                  <a:pt x="369" y="590"/>
                </a:lnTo>
                <a:lnTo>
                  <a:pt x="327" y="620"/>
                </a:lnTo>
                <a:lnTo>
                  <a:pt x="286" y="649"/>
                </a:lnTo>
                <a:lnTo>
                  <a:pt x="244" y="678"/>
                </a:lnTo>
                <a:lnTo>
                  <a:pt x="204" y="705"/>
                </a:lnTo>
                <a:lnTo>
                  <a:pt x="165" y="7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97"/>
          <p:cNvSpPr/>
          <p:nvPr/>
        </p:nvSpPr>
        <p:spPr>
          <a:xfrm>
            <a:off x="6013440" y="4041720"/>
            <a:ext cx="1652760" cy="335160"/>
          </a:xfrm>
          <a:custGeom>
            <a:avLst/>
            <a:gdLst/>
            <a:ahLst/>
            <a:rect l="l" t="t" r="r" b="b"/>
            <a:pathLst>
              <a:path w="2081" h="420">
                <a:moveTo>
                  <a:pt x="1467" y="40"/>
                </a:moveTo>
                <a:lnTo>
                  <a:pt x="1498" y="34"/>
                </a:lnTo>
                <a:lnTo>
                  <a:pt x="1528" y="31"/>
                </a:lnTo>
                <a:lnTo>
                  <a:pt x="1557" y="27"/>
                </a:lnTo>
                <a:lnTo>
                  <a:pt x="1584" y="21"/>
                </a:lnTo>
                <a:lnTo>
                  <a:pt x="1609" y="19"/>
                </a:lnTo>
                <a:lnTo>
                  <a:pt x="1634" y="15"/>
                </a:lnTo>
                <a:lnTo>
                  <a:pt x="1657" y="11"/>
                </a:lnTo>
                <a:lnTo>
                  <a:pt x="1678" y="10"/>
                </a:lnTo>
                <a:lnTo>
                  <a:pt x="1697" y="8"/>
                </a:lnTo>
                <a:lnTo>
                  <a:pt x="1716" y="6"/>
                </a:lnTo>
                <a:lnTo>
                  <a:pt x="1734" y="4"/>
                </a:lnTo>
                <a:lnTo>
                  <a:pt x="1749" y="2"/>
                </a:lnTo>
                <a:lnTo>
                  <a:pt x="1764" y="0"/>
                </a:lnTo>
                <a:lnTo>
                  <a:pt x="1778" y="0"/>
                </a:lnTo>
                <a:lnTo>
                  <a:pt x="1791" y="0"/>
                </a:lnTo>
                <a:lnTo>
                  <a:pt x="1803" y="0"/>
                </a:lnTo>
                <a:lnTo>
                  <a:pt x="1812" y="0"/>
                </a:lnTo>
                <a:lnTo>
                  <a:pt x="1824" y="0"/>
                </a:lnTo>
                <a:lnTo>
                  <a:pt x="1835" y="2"/>
                </a:lnTo>
                <a:lnTo>
                  <a:pt x="1847" y="4"/>
                </a:lnTo>
                <a:lnTo>
                  <a:pt x="1856" y="8"/>
                </a:lnTo>
                <a:lnTo>
                  <a:pt x="1868" y="10"/>
                </a:lnTo>
                <a:lnTo>
                  <a:pt x="1880" y="13"/>
                </a:lnTo>
                <a:lnTo>
                  <a:pt x="1891" y="17"/>
                </a:lnTo>
                <a:lnTo>
                  <a:pt x="1914" y="27"/>
                </a:lnTo>
                <a:lnTo>
                  <a:pt x="1937" y="38"/>
                </a:lnTo>
                <a:lnTo>
                  <a:pt x="1962" y="52"/>
                </a:lnTo>
                <a:lnTo>
                  <a:pt x="1989" y="67"/>
                </a:lnTo>
                <a:lnTo>
                  <a:pt x="1999" y="77"/>
                </a:lnTo>
                <a:lnTo>
                  <a:pt x="2008" y="86"/>
                </a:lnTo>
                <a:lnTo>
                  <a:pt x="2018" y="96"/>
                </a:lnTo>
                <a:lnTo>
                  <a:pt x="2027" y="104"/>
                </a:lnTo>
                <a:lnTo>
                  <a:pt x="2035" y="113"/>
                </a:lnTo>
                <a:lnTo>
                  <a:pt x="2043" y="121"/>
                </a:lnTo>
                <a:lnTo>
                  <a:pt x="2050" y="129"/>
                </a:lnTo>
                <a:lnTo>
                  <a:pt x="2056" y="136"/>
                </a:lnTo>
                <a:lnTo>
                  <a:pt x="2062" y="142"/>
                </a:lnTo>
                <a:lnTo>
                  <a:pt x="2066" y="148"/>
                </a:lnTo>
                <a:lnTo>
                  <a:pt x="2071" y="153"/>
                </a:lnTo>
                <a:lnTo>
                  <a:pt x="2073" y="159"/>
                </a:lnTo>
                <a:lnTo>
                  <a:pt x="2077" y="163"/>
                </a:lnTo>
                <a:lnTo>
                  <a:pt x="2079" y="169"/>
                </a:lnTo>
                <a:lnTo>
                  <a:pt x="2081" y="171"/>
                </a:lnTo>
                <a:lnTo>
                  <a:pt x="2081" y="175"/>
                </a:lnTo>
                <a:lnTo>
                  <a:pt x="2079" y="176"/>
                </a:lnTo>
                <a:lnTo>
                  <a:pt x="2077" y="178"/>
                </a:lnTo>
                <a:lnTo>
                  <a:pt x="2073" y="182"/>
                </a:lnTo>
                <a:lnTo>
                  <a:pt x="2070" y="184"/>
                </a:lnTo>
                <a:lnTo>
                  <a:pt x="2064" y="186"/>
                </a:lnTo>
                <a:lnTo>
                  <a:pt x="2058" y="188"/>
                </a:lnTo>
                <a:lnTo>
                  <a:pt x="2052" y="190"/>
                </a:lnTo>
                <a:lnTo>
                  <a:pt x="2045" y="192"/>
                </a:lnTo>
                <a:lnTo>
                  <a:pt x="2035" y="194"/>
                </a:lnTo>
                <a:lnTo>
                  <a:pt x="2025" y="196"/>
                </a:lnTo>
                <a:lnTo>
                  <a:pt x="2016" y="198"/>
                </a:lnTo>
                <a:lnTo>
                  <a:pt x="2004" y="200"/>
                </a:lnTo>
                <a:lnTo>
                  <a:pt x="1993" y="200"/>
                </a:lnTo>
                <a:lnTo>
                  <a:pt x="1979" y="201"/>
                </a:lnTo>
                <a:lnTo>
                  <a:pt x="1964" y="203"/>
                </a:lnTo>
                <a:lnTo>
                  <a:pt x="1951" y="205"/>
                </a:lnTo>
                <a:lnTo>
                  <a:pt x="1935" y="205"/>
                </a:lnTo>
                <a:lnTo>
                  <a:pt x="1918" y="207"/>
                </a:lnTo>
                <a:lnTo>
                  <a:pt x="1901" y="207"/>
                </a:lnTo>
                <a:lnTo>
                  <a:pt x="1881" y="209"/>
                </a:lnTo>
                <a:lnTo>
                  <a:pt x="1862" y="209"/>
                </a:lnTo>
                <a:lnTo>
                  <a:pt x="1843" y="211"/>
                </a:lnTo>
                <a:lnTo>
                  <a:pt x="1822" y="211"/>
                </a:lnTo>
                <a:lnTo>
                  <a:pt x="1801" y="211"/>
                </a:lnTo>
                <a:lnTo>
                  <a:pt x="1778" y="213"/>
                </a:lnTo>
                <a:lnTo>
                  <a:pt x="1753" y="213"/>
                </a:lnTo>
                <a:lnTo>
                  <a:pt x="1730" y="213"/>
                </a:lnTo>
                <a:lnTo>
                  <a:pt x="1703" y="213"/>
                </a:lnTo>
                <a:lnTo>
                  <a:pt x="1678" y="215"/>
                </a:lnTo>
                <a:lnTo>
                  <a:pt x="1651" y="215"/>
                </a:lnTo>
                <a:lnTo>
                  <a:pt x="1622" y="215"/>
                </a:lnTo>
                <a:lnTo>
                  <a:pt x="1594" y="215"/>
                </a:lnTo>
                <a:lnTo>
                  <a:pt x="1534" y="215"/>
                </a:lnTo>
                <a:lnTo>
                  <a:pt x="1474" y="215"/>
                </a:lnTo>
                <a:lnTo>
                  <a:pt x="1415" y="217"/>
                </a:lnTo>
                <a:lnTo>
                  <a:pt x="1359" y="219"/>
                </a:lnTo>
                <a:lnTo>
                  <a:pt x="1304" y="223"/>
                </a:lnTo>
                <a:lnTo>
                  <a:pt x="1248" y="224"/>
                </a:lnTo>
                <a:lnTo>
                  <a:pt x="1194" y="228"/>
                </a:lnTo>
                <a:lnTo>
                  <a:pt x="1142" y="232"/>
                </a:lnTo>
                <a:lnTo>
                  <a:pt x="1091" y="238"/>
                </a:lnTo>
                <a:lnTo>
                  <a:pt x="1041" y="242"/>
                </a:lnTo>
                <a:lnTo>
                  <a:pt x="993" y="248"/>
                </a:lnTo>
                <a:lnTo>
                  <a:pt x="945" y="253"/>
                </a:lnTo>
                <a:lnTo>
                  <a:pt x="899" y="261"/>
                </a:lnTo>
                <a:lnTo>
                  <a:pt x="855" y="267"/>
                </a:lnTo>
                <a:lnTo>
                  <a:pt x="812" y="274"/>
                </a:lnTo>
                <a:lnTo>
                  <a:pt x="770" y="282"/>
                </a:lnTo>
                <a:lnTo>
                  <a:pt x="730" y="290"/>
                </a:lnTo>
                <a:lnTo>
                  <a:pt x="689" y="297"/>
                </a:lnTo>
                <a:lnTo>
                  <a:pt x="651" y="305"/>
                </a:lnTo>
                <a:lnTo>
                  <a:pt x="616" y="311"/>
                </a:lnTo>
                <a:lnTo>
                  <a:pt x="580" y="319"/>
                </a:lnTo>
                <a:lnTo>
                  <a:pt x="547" y="326"/>
                </a:lnTo>
                <a:lnTo>
                  <a:pt x="515" y="332"/>
                </a:lnTo>
                <a:lnTo>
                  <a:pt x="486" y="340"/>
                </a:lnTo>
                <a:lnTo>
                  <a:pt x="457" y="345"/>
                </a:lnTo>
                <a:lnTo>
                  <a:pt x="430" y="351"/>
                </a:lnTo>
                <a:lnTo>
                  <a:pt x="405" y="357"/>
                </a:lnTo>
                <a:lnTo>
                  <a:pt x="380" y="361"/>
                </a:lnTo>
                <a:lnTo>
                  <a:pt x="359" y="365"/>
                </a:lnTo>
                <a:lnTo>
                  <a:pt x="340" y="368"/>
                </a:lnTo>
                <a:lnTo>
                  <a:pt x="321" y="372"/>
                </a:lnTo>
                <a:lnTo>
                  <a:pt x="306" y="376"/>
                </a:lnTo>
                <a:lnTo>
                  <a:pt x="290" y="380"/>
                </a:lnTo>
                <a:lnTo>
                  <a:pt x="277" y="386"/>
                </a:lnTo>
                <a:lnTo>
                  <a:pt x="263" y="390"/>
                </a:lnTo>
                <a:lnTo>
                  <a:pt x="250" y="393"/>
                </a:lnTo>
                <a:lnTo>
                  <a:pt x="236" y="397"/>
                </a:lnTo>
                <a:lnTo>
                  <a:pt x="225" y="401"/>
                </a:lnTo>
                <a:lnTo>
                  <a:pt x="213" y="403"/>
                </a:lnTo>
                <a:lnTo>
                  <a:pt x="204" y="407"/>
                </a:lnTo>
                <a:lnTo>
                  <a:pt x="194" y="409"/>
                </a:lnTo>
                <a:lnTo>
                  <a:pt x="187" y="411"/>
                </a:lnTo>
                <a:lnTo>
                  <a:pt x="179" y="413"/>
                </a:lnTo>
                <a:lnTo>
                  <a:pt x="171" y="413"/>
                </a:lnTo>
                <a:lnTo>
                  <a:pt x="165" y="415"/>
                </a:lnTo>
                <a:lnTo>
                  <a:pt x="162" y="415"/>
                </a:lnTo>
                <a:lnTo>
                  <a:pt x="158" y="416"/>
                </a:lnTo>
                <a:lnTo>
                  <a:pt x="154" y="416"/>
                </a:lnTo>
                <a:lnTo>
                  <a:pt x="150" y="418"/>
                </a:lnTo>
                <a:lnTo>
                  <a:pt x="144" y="418"/>
                </a:lnTo>
                <a:lnTo>
                  <a:pt x="140" y="420"/>
                </a:lnTo>
                <a:lnTo>
                  <a:pt x="135" y="418"/>
                </a:lnTo>
                <a:lnTo>
                  <a:pt x="129" y="418"/>
                </a:lnTo>
                <a:lnTo>
                  <a:pt x="123" y="416"/>
                </a:lnTo>
                <a:lnTo>
                  <a:pt x="117" y="413"/>
                </a:lnTo>
                <a:lnTo>
                  <a:pt x="112" y="409"/>
                </a:lnTo>
                <a:lnTo>
                  <a:pt x="106" y="405"/>
                </a:lnTo>
                <a:lnTo>
                  <a:pt x="100" y="401"/>
                </a:lnTo>
                <a:lnTo>
                  <a:pt x="94" y="395"/>
                </a:lnTo>
                <a:lnTo>
                  <a:pt x="87" y="390"/>
                </a:lnTo>
                <a:lnTo>
                  <a:pt x="81" y="384"/>
                </a:lnTo>
                <a:lnTo>
                  <a:pt x="75" y="376"/>
                </a:lnTo>
                <a:lnTo>
                  <a:pt x="62" y="363"/>
                </a:lnTo>
                <a:lnTo>
                  <a:pt x="54" y="355"/>
                </a:lnTo>
                <a:lnTo>
                  <a:pt x="46" y="347"/>
                </a:lnTo>
                <a:lnTo>
                  <a:pt x="39" y="342"/>
                </a:lnTo>
                <a:lnTo>
                  <a:pt x="31" y="334"/>
                </a:lnTo>
                <a:lnTo>
                  <a:pt x="25" y="328"/>
                </a:lnTo>
                <a:lnTo>
                  <a:pt x="20" y="322"/>
                </a:lnTo>
                <a:lnTo>
                  <a:pt x="16" y="317"/>
                </a:lnTo>
                <a:lnTo>
                  <a:pt x="12" y="311"/>
                </a:lnTo>
                <a:lnTo>
                  <a:pt x="8" y="307"/>
                </a:lnTo>
                <a:lnTo>
                  <a:pt x="4" y="303"/>
                </a:lnTo>
                <a:lnTo>
                  <a:pt x="2" y="297"/>
                </a:lnTo>
                <a:lnTo>
                  <a:pt x="2" y="294"/>
                </a:lnTo>
                <a:lnTo>
                  <a:pt x="0" y="290"/>
                </a:lnTo>
                <a:lnTo>
                  <a:pt x="0" y="288"/>
                </a:lnTo>
                <a:lnTo>
                  <a:pt x="2" y="284"/>
                </a:lnTo>
                <a:lnTo>
                  <a:pt x="4" y="282"/>
                </a:lnTo>
                <a:lnTo>
                  <a:pt x="6" y="278"/>
                </a:lnTo>
                <a:lnTo>
                  <a:pt x="10" y="276"/>
                </a:lnTo>
                <a:lnTo>
                  <a:pt x="16" y="274"/>
                </a:lnTo>
                <a:lnTo>
                  <a:pt x="23" y="272"/>
                </a:lnTo>
                <a:lnTo>
                  <a:pt x="31" y="269"/>
                </a:lnTo>
                <a:lnTo>
                  <a:pt x="43" y="267"/>
                </a:lnTo>
                <a:lnTo>
                  <a:pt x="54" y="265"/>
                </a:lnTo>
                <a:lnTo>
                  <a:pt x="66" y="261"/>
                </a:lnTo>
                <a:lnTo>
                  <a:pt x="81" y="259"/>
                </a:lnTo>
                <a:lnTo>
                  <a:pt x="96" y="257"/>
                </a:lnTo>
                <a:lnTo>
                  <a:pt x="114" y="253"/>
                </a:lnTo>
                <a:lnTo>
                  <a:pt x="133" y="251"/>
                </a:lnTo>
                <a:lnTo>
                  <a:pt x="154" y="249"/>
                </a:lnTo>
                <a:lnTo>
                  <a:pt x="175" y="246"/>
                </a:lnTo>
                <a:lnTo>
                  <a:pt x="198" y="244"/>
                </a:lnTo>
                <a:lnTo>
                  <a:pt x="225" y="242"/>
                </a:lnTo>
                <a:lnTo>
                  <a:pt x="248" y="238"/>
                </a:lnTo>
                <a:lnTo>
                  <a:pt x="275" y="234"/>
                </a:lnTo>
                <a:lnTo>
                  <a:pt x="304" y="230"/>
                </a:lnTo>
                <a:lnTo>
                  <a:pt x="332" y="226"/>
                </a:lnTo>
                <a:lnTo>
                  <a:pt x="365" y="223"/>
                </a:lnTo>
                <a:lnTo>
                  <a:pt x="398" y="217"/>
                </a:lnTo>
                <a:lnTo>
                  <a:pt x="432" y="211"/>
                </a:lnTo>
                <a:lnTo>
                  <a:pt x="469" y="205"/>
                </a:lnTo>
                <a:lnTo>
                  <a:pt x="505" y="198"/>
                </a:lnTo>
                <a:lnTo>
                  <a:pt x="545" y="192"/>
                </a:lnTo>
                <a:lnTo>
                  <a:pt x="586" y="184"/>
                </a:lnTo>
                <a:lnTo>
                  <a:pt x="628" y="176"/>
                </a:lnTo>
                <a:lnTo>
                  <a:pt x="672" y="171"/>
                </a:lnTo>
                <a:lnTo>
                  <a:pt x="718" y="163"/>
                </a:lnTo>
                <a:lnTo>
                  <a:pt x="766" y="155"/>
                </a:lnTo>
                <a:lnTo>
                  <a:pt x="816" y="148"/>
                </a:lnTo>
                <a:lnTo>
                  <a:pt x="864" y="140"/>
                </a:lnTo>
                <a:lnTo>
                  <a:pt x="914" y="132"/>
                </a:lnTo>
                <a:lnTo>
                  <a:pt x="960" y="125"/>
                </a:lnTo>
                <a:lnTo>
                  <a:pt x="1006" y="117"/>
                </a:lnTo>
                <a:lnTo>
                  <a:pt x="1050" y="109"/>
                </a:lnTo>
                <a:lnTo>
                  <a:pt x="1093" y="102"/>
                </a:lnTo>
                <a:lnTo>
                  <a:pt x="1135" y="96"/>
                </a:lnTo>
                <a:lnTo>
                  <a:pt x="1175" y="88"/>
                </a:lnTo>
                <a:lnTo>
                  <a:pt x="1215" y="82"/>
                </a:lnTo>
                <a:lnTo>
                  <a:pt x="1254" y="75"/>
                </a:lnTo>
                <a:lnTo>
                  <a:pt x="1292" y="69"/>
                </a:lnTo>
                <a:lnTo>
                  <a:pt x="1329" y="63"/>
                </a:lnTo>
                <a:lnTo>
                  <a:pt x="1363" y="56"/>
                </a:lnTo>
                <a:lnTo>
                  <a:pt x="1400" y="50"/>
                </a:lnTo>
                <a:lnTo>
                  <a:pt x="1432" y="46"/>
                </a:lnTo>
                <a:lnTo>
                  <a:pt x="1467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98"/>
          <p:cNvSpPr/>
          <p:nvPr/>
        </p:nvSpPr>
        <p:spPr>
          <a:xfrm>
            <a:off x="6450120" y="2868480"/>
            <a:ext cx="772920" cy="1290600"/>
          </a:xfrm>
          <a:custGeom>
            <a:avLst/>
            <a:gdLst/>
            <a:ahLst/>
            <a:rect l="l" t="t" r="r" b="b"/>
            <a:pathLst>
              <a:path w="975" h="1626">
                <a:moveTo>
                  <a:pt x="663" y="40"/>
                </a:moveTo>
                <a:lnTo>
                  <a:pt x="670" y="31"/>
                </a:lnTo>
                <a:lnTo>
                  <a:pt x="678" y="21"/>
                </a:lnTo>
                <a:lnTo>
                  <a:pt x="687" y="15"/>
                </a:lnTo>
                <a:lnTo>
                  <a:pt x="695" y="10"/>
                </a:lnTo>
                <a:lnTo>
                  <a:pt x="705" y="4"/>
                </a:lnTo>
                <a:lnTo>
                  <a:pt x="714" y="2"/>
                </a:lnTo>
                <a:lnTo>
                  <a:pt x="722" y="0"/>
                </a:lnTo>
                <a:lnTo>
                  <a:pt x="732" y="0"/>
                </a:lnTo>
                <a:lnTo>
                  <a:pt x="734" y="0"/>
                </a:lnTo>
                <a:lnTo>
                  <a:pt x="737" y="0"/>
                </a:lnTo>
                <a:lnTo>
                  <a:pt x="741" y="2"/>
                </a:lnTo>
                <a:lnTo>
                  <a:pt x="747" y="4"/>
                </a:lnTo>
                <a:lnTo>
                  <a:pt x="753" y="6"/>
                </a:lnTo>
                <a:lnTo>
                  <a:pt x="758" y="10"/>
                </a:lnTo>
                <a:lnTo>
                  <a:pt x="766" y="13"/>
                </a:lnTo>
                <a:lnTo>
                  <a:pt x="774" y="17"/>
                </a:lnTo>
                <a:lnTo>
                  <a:pt x="783" y="21"/>
                </a:lnTo>
                <a:lnTo>
                  <a:pt x="793" y="27"/>
                </a:lnTo>
                <a:lnTo>
                  <a:pt x="805" y="33"/>
                </a:lnTo>
                <a:lnTo>
                  <a:pt x="816" y="38"/>
                </a:lnTo>
                <a:lnTo>
                  <a:pt x="828" y="44"/>
                </a:lnTo>
                <a:lnTo>
                  <a:pt x="841" y="52"/>
                </a:lnTo>
                <a:lnTo>
                  <a:pt x="856" y="59"/>
                </a:lnTo>
                <a:lnTo>
                  <a:pt x="870" y="67"/>
                </a:lnTo>
                <a:lnTo>
                  <a:pt x="883" y="77"/>
                </a:lnTo>
                <a:lnTo>
                  <a:pt x="895" y="86"/>
                </a:lnTo>
                <a:lnTo>
                  <a:pt x="906" y="96"/>
                </a:lnTo>
                <a:lnTo>
                  <a:pt x="916" y="104"/>
                </a:lnTo>
                <a:lnTo>
                  <a:pt x="925" y="113"/>
                </a:lnTo>
                <a:lnTo>
                  <a:pt x="933" y="121"/>
                </a:lnTo>
                <a:lnTo>
                  <a:pt x="941" y="130"/>
                </a:lnTo>
                <a:lnTo>
                  <a:pt x="949" y="138"/>
                </a:lnTo>
                <a:lnTo>
                  <a:pt x="954" y="144"/>
                </a:lnTo>
                <a:lnTo>
                  <a:pt x="960" y="152"/>
                </a:lnTo>
                <a:lnTo>
                  <a:pt x="964" y="159"/>
                </a:lnTo>
                <a:lnTo>
                  <a:pt x="968" y="165"/>
                </a:lnTo>
                <a:lnTo>
                  <a:pt x="972" y="171"/>
                </a:lnTo>
                <a:lnTo>
                  <a:pt x="973" y="177"/>
                </a:lnTo>
                <a:lnTo>
                  <a:pt x="973" y="182"/>
                </a:lnTo>
                <a:lnTo>
                  <a:pt x="975" y="188"/>
                </a:lnTo>
                <a:lnTo>
                  <a:pt x="973" y="198"/>
                </a:lnTo>
                <a:lnTo>
                  <a:pt x="972" y="207"/>
                </a:lnTo>
                <a:lnTo>
                  <a:pt x="970" y="217"/>
                </a:lnTo>
                <a:lnTo>
                  <a:pt x="966" y="226"/>
                </a:lnTo>
                <a:lnTo>
                  <a:pt x="960" y="234"/>
                </a:lnTo>
                <a:lnTo>
                  <a:pt x="954" y="242"/>
                </a:lnTo>
                <a:lnTo>
                  <a:pt x="949" y="249"/>
                </a:lnTo>
                <a:lnTo>
                  <a:pt x="941" y="255"/>
                </a:lnTo>
                <a:lnTo>
                  <a:pt x="937" y="257"/>
                </a:lnTo>
                <a:lnTo>
                  <a:pt x="933" y="261"/>
                </a:lnTo>
                <a:lnTo>
                  <a:pt x="931" y="267"/>
                </a:lnTo>
                <a:lnTo>
                  <a:pt x="927" y="272"/>
                </a:lnTo>
                <a:lnTo>
                  <a:pt x="925" y="278"/>
                </a:lnTo>
                <a:lnTo>
                  <a:pt x="922" y="286"/>
                </a:lnTo>
                <a:lnTo>
                  <a:pt x="920" y="294"/>
                </a:lnTo>
                <a:lnTo>
                  <a:pt x="916" y="303"/>
                </a:lnTo>
                <a:lnTo>
                  <a:pt x="914" y="313"/>
                </a:lnTo>
                <a:lnTo>
                  <a:pt x="910" y="322"/>
                </a:lnTo>
                <a:lnTo>
                  <a:pt x="908" y="336"/>
                </a:lnTo>
                <a:lnTo>
                  <a:pt x="906" y="347"/>
                </a:lnTo>
                <a:lnTo>
                  <a:pt x="902" y="361"/>
                </a:lnTo>
                <a:lnTo>
                  <a:pt x="901" y="374"/>
                </a:lnTo>
                <a:lnTo>
                  <a:pt x="899" y="390"/>
                </a:lnTo>
                <a:lnTo>
                  <a:pt x="897" y="407"/>
                </a:lnTo>
                <a:lnTo>
                  <a:pt x="895" y="422"/>
                </a:lnTo>
                <a:lnTo>
                  <a:pt x="893" y="439"/>
                </a:lnTo>
                <a:lnTo>
                  <a:pt x="891" y="459"/>
                </a:lnTo>
                <a:lnTo>
                  <a:pt x="889" y="478"/>
                </a:lnTo>
                <a:lnTo>
                  <a:pt x="887" y="499"/>
                </a:lnTo>
                <a:lnTo>
                  <a:pt x="885" y="520"/>
                </a:lnTo>
                <a:lnTo>
                  <a:pt x="883" y="541"/>
                </a:lnTo>
                <a:lnTo>
                  <a:pt x="881" y="564"/>
                </a:lnTo>
                <a:lnTo>
                  <a:pt x="879" y="589"/>
                </a:lnTo>
                <a:lnTo>
                  <a:pt x="878" y="612"/>
                </a:lnTo>
                <a:lnTo>
                  <a:pt x="878" y="639"/>
                </a:lnTo>
                <a:lnTo>
                  <a:pt x="876" y="664"/>
                </a:lnTo>
                <a:lnTo>
                  <a:pt x="874" y="693"/>
                </a:lnTo>
                <a:lnTo>
                  <a:pt x="872" y="720"/>
                </a:lnTo>
                <a:lnTo>
                  <a:pt x="872" y="749"/>
                </a:lnTo>
                <a:lnTo>
                  <a:pt x="870" y="779"/>
                </a:lnTo>
                <a:lnTo>
                  <a:pt x="866" y="839"/>
                </a:lnTo>
                <a:lnTo>
                  <a:pt x="862" y="898"/>
                </a:lnTo>
                <a:lnTo>
                  <a:pt x="858" y="956"/>
                </a:lnTo>
                <a:lnTo>
                  <a:pt x="854" y="1013"/>
                </a:lnTo>
                <a:lnTo>
                  <a:pt x="853" y="1069"/>
                </a:lnTo>
                <a:lnTo>
                  <a:pt x="849" y="1125"/>
                </a:lnTo>
                <a:lnTo>
                  <a:pt x="847" y="1178"/>
                </a:lnTo>
                <a:lnTo>
                  <a:pt x="845" y="1232"/>
                </a:lnTo>
                <a:lnTo>
                  <a:pt x="843" y="1284"/>
                </a:lnTo>
                <a:lnTo>
                  <a:pt x="841" y="1336"/>
                </a:lnTo>
                <a:lnTo>
                  <a:pt x="839" y="1386"/>
                </a:lnTo>
                <a:lnTo>
                  <a:pt x="837" y="1436"/>
                </a:lnTo>
                <a:lnTo>
                  <a:pt x="837" y="1486"/>
                </a:lnTo>
                <a:lnTo>
                  <a:pt x="835" y="1534"/>
                </a:lnTo>
                <a:lnTo>
                  <a:pt x="835" y="1580"/>
                </a:lnTo>
                <a:lnTo>
                  <a:pt x="835" y="1626"/>
                </a:lnTo>
                <a:lnTo>
                  <a:pt x="760" y="1626"/>
                </a:lnTo>
                <a:lnTo>
                  <a:pt x="686" y="1626"/>
                </a:lnTo>
                <a:lnTo>
                  <a:pt x="687" y="1566"/>
                </a:lnTo>
                <a:lnTo>
                  <a:pt x="689" y="1507"/>
                </a:lnTo>
                <a:lnTo>
                  <a:pt x="691" y="1451"/>
                </a:lnTo>
                <a:lnTo>
                  <a:pt x="693" y="1395"/>
                </a:lnTo>
                <a:lnTo>
                  <a:pt x="695" y="1342"/>
                </a:lnTo>
                <a:lnTo>
                  <a:pt x="697" y="1290"/>
                </a:lnTo>
                <a:lnTo>
                  <a:pt x="697" y="1238"/>
                </a:lnTo>
                <a:lnTo>
                  <a:pt x="699" y="1190"/>
                </a:lnTo>
                <a:lnTo>
                  <a:pt x="701" y="1142"/>
                </a:lnTo>
                <a:lnTo>
                  <a:pt x="703" y="1096"/>
                </a:lnTo>
                <a:lnTo>
                  <a:pt x="705" y="1050"/>
                </a:lnTo>
                <a:lnTo>
                  <a:pt x="705" y="1008"/>
                </a:lnTo>
                <a:lnTo>
                  <a:pt x="707" y="965"/>
                </a:lnTo>
                <a:lnTo>
                  <a:pt x="709" y="925"/>
                </a:lnTo>
                <a:lnTo>
                  <a:pt x="709" y="887"/>
                </a:lnTo>
                <a:lnTo>
                  <a:pt x="711" y="850"/>
                </a:lnTo>
                <a:lnTo>
                  <a:pt x="712" y="814"/>
                </a:lnTo>
                <a:lnTo>
                  <a:pt x="712" y="779"/>
                </a:lnTo>
                <a:lnTo>
                  <a:pt x="714" y="747"/>
                </a:lnTo>
                <a:lnTo>
                  <a:pt x="714" y="716"/>
                </a:lnTo>
                <a:lnTo>
                  <a:pt x="716" y="685"/>
                </a:lnTo>
                <a:lnTo>
                  <a:pt x="716" y="656"/>
                </a:lnTo>
                <a:lnTo>
                  <a:pt x="716" y="630"/>
                </a:lnTo>
                <a:lnTo>
                  <a:pt x="718" y="605"/>
                </a:lnTo>
                <a:lnTo>
                  <a:pt x="718" y="582"/>
                </a:lnTo>
                <a:lnTo>
                  <a:pt x="718" y="558"/>
                </a:lnTo>
                <a:lnTo>
                  <a:pt x="718" y="537"/>
                </a:lnTo>
                <a:lnTo>
                  <a:pt x="718" y="518"/>
                </a:lnTo>
                <a:lnTo>
                  <a:pt x="720" y="501"/>
                </a:lnTo>
                <a:lnTo>
                  <a:pt x="720" y="484"/>
                </a:lnTo>
                <a:lnTo>
                  <a:pt x="720" y="470"/>
                </a:lnTo>
                <a:lnTo>
                  <a:pt x="720" y="457"/>
                </a:lnTo>
                <a:lnTo>
                  <a:pt x="720" y="432"/>
                </a:lnTo>
                <a:lnTo>
                  <a:pt x="718" y="409"/>
                </a:lnTo>
                <a:lnTo>
                  <a:pt x="718" y="386"/>
                </a:lnTo>
                <a:lnTo>
                  <a:pt x="718" y="367"/>
                </a:lnTo>
                <a:lnTo>
                  <a:pt x="716" y="345"/>
                </a:lnTo>
                <a:lnTo>
                  <a:pt x="714" y="328"/>
                </a:lnTo>
                <a:lnTo>
                  <a:pt x="714" y="311"/>
                </a:lnTo>
                <a:lnTo>
                  <a:pt x="712" y="296"/>
                </a:lnTo>
                <a:lnTo>
                  <a:pt x="711" y="280"/>
                </a:lnTo>
                <a:lnTo>
                  <a:pt x="709" y="267"/>
                </a:lnTo>
                <a:lnTo>
                  <a:pt x="707" y="255"/>
                </a:lnTo>
                <a:lnTo>
                  <a:pt x="705" y="244"/>
                </a:lnTo>
                <a:lnTo>
                  <a:pt x="703" y="234"/>
                </a:lnTo>
                <a:lnTo>
                  <a:pt x="701" y="226"/>
                </a:lnTo>
                <a:lnTo>
                  <a:pt x="699" y="221"/>
                </a:lnTo>
                <a:lnTo>
                  <a:pt x="697" y="215"/>
                </a:lnTo>
                <a:lnTo>
                  <a:pt x="691" y="211"/>
                </a:lnTo>
                <a:lnTo>
                  <a:pt x="684" y="209"/>
                </a:lnTo>
                <a:lnTo>
                  <a:pt x="676" y="207"/>
                </a:lnTo>
                <a:lnTo>
                  <a:pt x="666" y="207"/>
                </a:lnTo>
                <a:lnTo>
                  <a:pt x="653" y="205"/>
                </a:lnTo>
                <a:lnTo>
                  <a:pt x="639" y="205"/>
                </a:lnTo>
                <a:lnTo>
                  <a:pt x="624" y="203"/>
                </a:lnTo>
                <a:lnTo>
                  <a:pt x="607" y="203"/>
                </a:lnTo>
                <a:lnTo>
                  <a:pt x="590" y="203"/>
                </a:lnTo>
                <a:lnTo>
                  <a:pt x="568" y="205"/>
                </a:lnTo>
                <a:lnTo>
                  <a:pt x="545" y="205"/>
                </a:lnTo>
                <a:lnTo>
                  <a:pt x="522" y="207"/>
                </a:lnTo>
                <a:lnTo>
                  <a:pt x="496" y="207"/>
                </a:lnTo>
                <a:lnTo>
                  <a:pt x="469" y="209"/>
                </a:lnTo>
                <a:lnTo>
                  <a:pt x="438" y="211"/>
                </a:lnTo>
                <a:lnTo>
                  <a:pt x="407" y="215"/>
                </a:lnTo>
                <a:lnTo>
                  <a:pt x="375" y="219"/>
                </a:lnTo>
                <a:lnTo>
                  <a:pt x="344" y="224"/>
                </a:lnTo>
                <a:lnTo>
                  <a:pt x="313" y="228"/>
                </a:lnTo>
                <a:lnTo>
                  <a:pt x="284" y="232"/>
                </a:lnTo>
                <a:lnTo>
                  <a:pt x="256" y="236"/>
                </a:lnTo>
                <a:lnTo>
                  <a:pt x="229" y="240"/>
                </a:lnTo>
                <a:lnTo>
                  <a:pt x="202" y="242"/>
                </a:lnTo>
                <a:lnTo>
                  <a:pt x="177" y="246"/>
                </a:lnTo>
                <a:lnTo>
                  <a:pt x="152" y="248"/>
                </a:lnTo>
                <a:lnTo>
                  <a:pt x="129" y="249"/>
                </a:lnTo>
                <a:lnTo>
                  <a:pt x="106" y="251"/>
                </a:lnTo>
                <a:lnTo>
                  <a:pt x="83" y="251"/>
                </a:lnTo>
                <a:lnTo>
                  <a:pt x="62" y="253"/>
                </a:lnTo>
                <a:lnTo>
                  <a:pt x="41" y="253"/>
                </a:lnTo>
                <a:lnTo>
                  <a:pt x="20" y="255"/>
                </a:lnTo>
                <a:lnTo>
                  <a:pt x="0" y="255"/>
                </a:lnTo>
                <a:lnTo>
                  <a:pt x="0" y="148"/>
                </a:lnTo>
                <a:lnTo>
                  <a:pt x="60" y="146"/>
                </a:lnTo>
                <a:lnTo>
                  <a:pt x="119" y="144"/>
                </a:lnTo>
                <a:lnTo>
                  <a:pt x="177" y="142"/>
                </a:lnTo>
                <a:lnTo>
                  <a:pt x="233" y="136"/>
                </a:lnTo>
                <a:lnTo>
                  <a:pt x="288" y="132"/>
                </a:lnTo>
                <a:lnTo>
                  <a:pt x="340" y="125"/>
                </a:lnTo>
                <a:lnTo>
                  <a:pt x="367" y="121"/>
                </a:lnTo>
                <a:lnTo>
                  <a:pt x="392" y="117"/>
                </a:lnTo>
                <a:lnTo>
                  <a:pt x="417" y="111"/>
                </a:lnTo>
                <a:lnTo>
                  <a:pt x="442" y="107"/>
                </a:lnTo>
                <a:lnTo>
                  <a:pt x="465" y="102"/>
                </a:lnTo>
                <a:lnTo>
                  <a:pt x="486" y="96"/>
                </a:lnTo>
                <a:lnTo>
                  <a:pt x="507" y="92"/>
                </a:lnTo>
                <a:lnTo>
                  <a:pt x="528" y="86"/>
                </a:lnTo>
                <a:lnTo>
                  <a:pt x="545" y="82"/>
                </a:lnTo>
                <a:lnTo>
                  <a:pt x="565" y="77"/>
                </a:lnTo>
                <a:lnTo>
                  <a:pt x="580" y="73"/>
                </a:lnTo>
                <a:lnTo>
                  <a:pt x="595" y="67"/>
                </a:lnTo>
                <a:lnTo>
                  <a:pt x="609" y="63"/>
                </a:lnTo>
                <a:lnTo>
                  <a:pt x="620" y="59"/>
                </a:lnTo>
                <a:lnTo>
                  <a:pt x="632" y="56"/>
                </a:lnTo>
                <a:lnTo>
                  <a:pt x="639" y="52"/>
                </a:lnTo>
                <a:lnTo>
                  <a:pt x="647" y="48"/>
                </a:lnTo>
                <a:lnTo>
                  <a:pt x="655" y="46"/>
                </a:lnTo>
                <a:lnTo>
                  <a:pt x="659" y="42"/>
                </a:lnTo>
                <a:lnTo>
                  <a:pt x="663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99"/>
          <p:cNvSpPr/>
          <p:nvPr/>
        </p:nvSpPr>
        <p:spPr>
          <a:xfrm>
            <a:off x="6450120" y="3220920"/>
            <a:ext cx="423720" cy="160560"/>
          </a:xfrm>
          <a:custGeom>
            <a:avLst/>
            <a:gdLst/>
            <a:ahLst/>
            <a:rect l="l" t="t" r="r" b="b"/>
            <a:pathLst>
              <a:path w="536" h="202">
                <a:moveTo>
                  <a:pt x="0" y="108"/>
                </a:moveTo>
                <a:lnTo>
                  <a:pt x="31" y="106"/>
                </a:lnTo>
                <a:lnTo>
                  <a:pt x="64" y="104"/>
                </a:lnTo>
                <a:lnTo>
                  <a:pt x="96" y="102"/>
                </a:lnTo>
                <a:lnTo>
                  <a:pt x="129" y="96"/>
                </a:lnTo>
                <a:lnTo>
                  <a:pt x="146" y="92"/>
                </a:lnTo>
                <a:lnTo>
                  <a:pt x="163" y="89"/>
                </a:lnTo>
                <a:lnTo>
                  <a:pt x="181" y="85"/>
                </a:lnTo>
                <a:lnTo>
                  <a:pt x="198" y="79"/>
                </a:lnTo>
                <a:lnTo>
                  <a:pt x="215" y="73"/>
                </a:lnTo>
                <a:lnTo>
                  <a:pt x="233" y="67"/>
                </a:lnTo>
                <a:lnTo>
                  <a:pt x="250" y="62"/>
                </a:lnTo>
                <a:lnTo>
                  <a:pt x="267" y="54"/>
                </a:lnTo>
                <a:lnTo>
                  <a:pt x="284" y="46"/>
                </a:lnTo>
                <a:lnTo>
                  <a:pt x="300" y="39"/>
                </a:lnTo>
                <a:lnTo>
                  <a:pt x="315" y="33"/>
                </a:lnTo>
                <a:lnTo>
                  <a:pt x="330" y="27"/>
                </a:lnTo>
                <a:lnTo>
                  <a:pt x="344" y="23"/>
                </a:lnTo>
                <a:lnTo>
                  <a:pt x="357" y="18"/>
                </a:lnTo>
                <a:lnTo>
                  <a:pt x="369" y="14"/>
                </a:lnTo>
                <a:lnTo>
                  <a:pt x="380" y="12"/>
                </a:lnTo>
                <a:lnTo>
                  <a:pt x="392" y="8"/>
                </a:lnTo>
                <a:lnTo>
                  <a:pt x="403" y="6"/>
                </a:lnTo>
                <a:lnTo>
                  <a:pt x="413" y="4"/>
                </a:lnTo>
                <a:lnTo>
                  <a:pt x="423" y="2"/>
                </a:lnTo>
                <a:lnTo>
                  <a:pt x="430" y="2"/>
                </a:lnTo>
                <a:lnTo>
                  <a:pt x="438" y="0"/>
                </a:lnTo>
                <a:lnTo>
                  <a:pt x="446" y="0"/>
                </a:lnTo>
                <a:lnTo>
                  <a:pt x="453" y="0"/>
                </a:lnTo>
                <a:lnTo>
                  <a:pt x="465" y="0"/>
                </a:lnTo>
                <a:lnTo>
                  <a:pt x="476" y="2"/>
                </a:lnTo>
                <a:lnTo>
                  <a:pt x="488" y="4"/>
                </a:lnTo>
                <a:lnTo>
                  <a:pt x="497" y="8"/>
                </a:lnTo>
                <a:lnTo>
                  <a:pt x="507" y="12"/>
                </a:lnTo>
                <a:lnTo>
                  <a:pt x="517" y="18"/>
                </a:lnTo>
                <a:lnTo>
                  <a:pt x="534" y="27"/>
                </a:lnTo>
                <a:lnTo>
                  <a:pt x="536" y="31"/>
                </a:lnTo>
                <a:lnTo>
                  <a:pt x="536" y="37"/>
                </a:lnTo>
                <a:lnTo>
                  <a:pt x="536" y="43"/>
                </a:lnTo>
                <a:lnTo>
                  <a:pt x="536" y="46"/>
                </a:lnTo>
                <a:lnTo>
                  <a:pt x="534" y="52"/>
                </a:lnTo>
                <a:lnTo>
                  <a:pt x="530" y="58"/>
                </a:lnTo>
                <a:lnTo>
                  <a:pt x="526" y="64"/>
                </a:lnTo>
                <a:lnTo>
                  <a:pt x="522" y="67"/>
                </a:lnTo>
                <a:lnTo>
                  <a:pt x="517" y="73"/>
                </a:lnTo>
                <a:lnTo>
                  <a:pt x="509" y="81"/>
                </a:lnTo>
                <a:lnTo>
                  <a:pt x="501" y="87"/>
                </a:lnTo>
                <a:lnTo>
                  <a:pt x="492" y="92"/>
                </a:lnTo>
                <a:lnTo>
                  <a:pt x="480" y="98"/>
                </a:lnTo>
                <a:lnTo>
                  <a:pt x="469" y="106"/>
                </a:lnTo>
                <a:lnTo>
                  <a:pt x="455" y="114"/>
                </a:lnTo>
                <a:lnTo>
                  <a:pt x="442" y="121"/>
                </a:lnTo>
                <a:lnTo>
                  <a:pt x="425" y="129"/>
                </a:lnTo>
                <a:lnTo>
                  <a:pt x="407" y="135"/>
                </a:lnTo>
                <a:lnTo>
                  <a:pt x="388" y="142"/>
                </a:lnTo>
                <a:lnTo>
                  <a:pt x="367" y="148"/>
                </a:lnTo>
                <a:lnTo>
                  <a:pt x="346" y="154"/>
                </a:lnTo>
                <a:lnTo>
                  <a:pt x="321" y="160"/>
                </a:lnTo>
                <a:lnTo>
                  <a:pt x="296" y="165"/>
                </a:lnTo>
                <a:lnTo>
                  <a:pt x="269" y="171"/>
                </a:lnTo>
                <a:lnTo>
                  <a:pt x="240" y="177"/>
                </a:lnTo>
                <a:lnTo>
                  <a:pt x="210" y="181"/>
                </a:lnTo>
                <a:lnTo>
                  <a:pt x="179" y="185"/>
                </a:lnTo>
                <a:lnTo>
                  <a:pt x="146" y="188"/>
                </a:lnTo>
                <a:lnTo>
                  <a:pt x="112" y="192"/>
                </a:lnTo>
                <a:lnTo>
                  <a:pt x="75" y="196"/>
                </a:lnTo>
                <a:lnTo>
                  <a:pt x="39" y="198"/>
                </a:lnTo>
                <a:lnTo>
                  <a:pt x="0" y="202"/>
                </a:lnTo>
                <a:lnTo>
                  <a:pt x="0" y="154"/>
                </a:lnTo>
                <a:lnTo>
                  <a:pt x="0" y="10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100"/>
          <p:cNvSpPr/>
          <p:nvPr/>
        </p:nvSpPr>
        <p:spPr>
          <a:xfrm>
            <a:off x="6450120" y="3530520"/>
            <a:ext cx="414360" cy="149400"/>
          </a:xfrm>
          <a:custGeom>
            <a:avLst/>
            <a:gdLst/>
            <a:ahLst/>
            <a:rect l="l" t="t" r="r" b="b"/>
            <a:pathLst>
              <a:path w="522" h="188">
                <a:moveTo>
                  <a:pt x="430" y="121"/>
                </a:moveTo>
                <a:lnTo>
                  <a:pt x="417" y="123"/>
                </a:lnTo>
                <a:lnTo>
                  <a:pt x="403" y="127"/>
                </a:lnTo>
                <a:lnTo>
                  <a:pt x="388" y="129"/>
                </a:lnTo>
                <a:lnTo>
                  <a:pt x="371" y="132"/>
                </a:lnTo>
                <a:lnTo>
                  <a:pt x="352" y="136"/>
                </a:lnTo>
                <a:lnTo>
                  <a:pt x="330" y="140"/>
                </a:lnTo>
                <a:lnTo>
                  <a:pt x="307" y="144"/>
                </a:lnTo>
                <a:lnTo>
                  <a:pt x="282" y="150"/>
                </a:lnTo>
                <a:lnTo>
                  <a:pt x="256" y="154"/>
                </a:lnTo>
                <a:lnTo>
                  <a:pt x="229" y="157"/>
                </a:lnTo>
                <a:lnTo>
                  <a:pt x="198" y="163"/>
                </a:lnTo>
                <a:lnTo>
                  <a:pt x="167" y="167"/>
                </a:lnTo>
                <a:lnTo>
                  <a:pt x="133" y="173"/>
                </a:lnTo>
                <a:lnTo>
                  <a:pt x="98" y="177"/>
                </a:lnTo>
                <a:lnTo>
                  <a:pt x="62" y="182"/>
                </a:lnTo>
                <a:lnTo>
                  <a:pt x="23" y="188"/>
                </a:lnTo>
                <a:lnTo>
                  <a:pt x="12" y="148"/>
                </a:lnTo>
                <a:lnTo>
                  <a:pt x="0" y="107"/>
                </a:lnTo>
                <a:lnTo>
                  <a:pt x="6" y="107"/>
                </a:lnTo>
                <a:lnTo>
                  <a:pt x="14" y="106"/>
                </a:lnTo>
                <a:lnTo>
                  <a:pt x="23" y="106"/>
                </a:lnTo>
                <a:lnTo>
                  <a:pt x="33" y="104"/>
                </a:lnTo>
                <a:lnTo>
                  <a:pt x="43" y="104"/>
                </a:lnTo>
                <a:lnTo>
                  <a:pt x="54" y="102"/>
                </a:lnTo>
                <a:lnTo>
                  <a:pt x="66" y="98"/>
                </a:lnTo>
                <a:lnTo>
                  <a:pt x="77" y="96"/>
                </a:lnTo>
                <a:lnTo>
                  <a:pt x="91" y="92"/>
                </a:lnTo>
                <a:lnTo>
                  <a:pt x="104" y="88"/>
                </a:lnTo>
                <a:lnTo>
                  <a:pt x="117" y="84"/>
                </a:lnTo>
                <a:lnTo>
                  <a:pt x="133" y="79"/>
                </a:lnTo>
                <a:lnTo>
                  <a:pt x="148" y="73"/>
                </a:lnTo>
                <a:lnTo>
                  <a:pt x="163" y="67"/>
                </a:lnTo>
                <a:lnTo>
                  <a:pt x="181" y="61"/>
                </a:lnTo>
                <a:lnTo>
                  <a:pt x="198" y="54"/>
                </a:lnTo>
                <a:lnTo>
                  <a:pt x="213" y="46"/>
                </a:lnTo>
                <a:lnTo>
                  <a:pt x="231" y="38"/>
                </a:lnTo>
                <a:lnTo>
                  <a:pt x="246" y="33"/>
                </a:lnTo>
                <a:lnTo>
                  <a:pt x="259" y="27"/>
                </a:lnTo>
                <a:lnTo>
                  <a:pt x="275" y="23"/>
                </a:lnTo>
                <a:lnTo>
                  <a:pt x="288" y="17"/>
                </a:lnTo>
                <a:lnTo>
                  <a:pt x="300" y="13"/>
                </a:lnTo>
                <a:lnTo>
                  <a:pt x="311" y="11"/>
                </a:lnTo>
                <a:lnTo>
                  <a:pt x="323" y="8"/>
                </a:lnTo>
                <a:lnTo>
                  <a:pt x="332" y="6"/>
                </a:lnTo>
                <a:lnTo>
                  <a:pt x="344" y="4"/>
                </a:lnTo>
                <a:lnTo>
                  <a:pt x="352" y="2"/>
                </a:lnTo>
                <a:lnTo>
                  <a:pt x="361" y="2"/>
                </a:lnTo>
                <a:lnTo>
                  <a:pt x="369" y="0"/>
                </a:lnTo>
                <a:lnTo>
                  <a:pt x="377" y="0"/>
                </a:lnTo>
                <a:lnTo>
                  <a:pt x="382" y="0"/>
                </a:lnTo>
                <a:lnTo>
                  <a:pt x="396" y="0"/>
                </a:lnTo>
                <a:lnTo>
                  <a:pt x="407" y="0"/>
                </a:lnTo>
                <a:lnTo>
                  <a:pt x="419" y="0"/>
                </a:lnTo>
                <a:lnTo>
                  <a:pt x="430" y="2"/>
                </a:lnTo>
                <a:lnTo>
                  <a:pt x="440" y="2"/>
                </a:lnTo>
                <a:lnTo>
                  <a:pt x="451" y="6"/>
                </a:lnTo>
                <a:lnTo>
                  <a:pt x="463" y="8"/>
                </a:lnTo>
                <a:lnTo>
                  <a:pt x="476" y="13"/>
                </a:lnTo>
                <a:lnTo>
                  <a:pt x="482" y="15"/>
                </a:lnTo>
                <a:lnTo>
                  <a:pt x="488" y="17"/>
                </a:lnTo>
                <a:lnTo>
                  <a:pt x="494" y="21"/>
                </a:lnTo>
                <a:lnTo>
                  <a:pt x="497" y="23"/>
                </a:lnTo>
                <a:lnTo>
                  <a:pt x="505" y="29"/>
                </a:lnTo>
                <a:lnTo>
                  <a:pt x="513" y="33"/>
                </a:lnTo>
                <a:lnTo>
                  <a:pt x="517" y="38"/>
                </a:lnTo>
                <a:lnTo>
                  <a:pt x="520" y="44"/>
                </a:lnTo>
                <a:lnTo>
                  <a:pt x="520" y="48"/>
                </a:lnTo>
                <a:lnTo>
                  <a:pt x="522" y="54"/>
                </a:lnTo>
                <a:lnTo>
                  <a:pt x="522" y="56"/>
                </a:lnTo>
                <a:lnTo>
                  <a:pt x="520" y="59"/>
                </a:lnTo>
                <a:lnTo>
                  <a:pt x="519" y="61"/>
                </a:lnTo>
                <a:lnTo>
                  <a:pt x="515" y="65"/>
                </a:lnTo>
                <a:lnTo>
                  <a:pt x="513" y="69"/>
                </a:lnTo>
                <a:lnTo>
                  <a:pt x="507" y="73"/>
                </a:lnTo>
                <a:lnTo>
                  <a:pt x="503" y="77"/>
                </a:lnTo>
                <a:lnTo>
                  <a:pt x="497" y="83"/>
                </a:lnTo>
                <a:lnTo>
                  <a:pt x="492" y="86"/>
                </a:lnTo>
                <a:lnTo>
                  <a:pt x="484" y="90"/>
                </a:lnTo>
                <a:lnTo>
                  <a:pt x="476" y="96"/>
                </a:lnTo>
                <a:lnTo>
                  <a:pt x="469" y="100"/>
                </a:lnTo>
                <a:lnTo>
                  <a:pt x="459" y="106"/>
                </a:lnTo>
                <a:lnTo>
                  <a:pt x="449" y="109"/>
                </a:lnTo>
                <a:lnTo>
                  <a:pt x="440" y="115"/>
                </a:lnTo>
                <a:lnTo>
                  <a:pt x="430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101"/>
          <p:cNvSpPr/>
          <p:nvPr/>
        </p:nvSpPr>
        <p:spPr>
          <a:xfrm>
            <a:off x="6450120" y="3817800"/>
            <a:ext cx="441360" cy="139680"/>
          </a:xfrm>
          <a:custGeom>
            <a:avLst/>
            <a:gdLst/>
            <a:ahLst/>
            <a:rect l="l" t="t" r="r" b="b"/>
            <a:pathLst>
              <a:path w="557" h="174">
                <a:moveTo>
                  <a:pt x="0" y="94"/>
                </a:moveTo>
                <a:lnTo>
                  <a:pt x="31" y="88"/>
                </a:lnTo>
                <a:lnTo>
                  <a:pt x="64" y="82"/>
                </a:lnTo>
                <a:lnTo>
                  <a:pt x="96" y="77"/>
                </a:lnTo>
                <a:lnTo>
                  <a:pt x="129" y="71"/>
                </a:lnTo>
                <a:lnTo>
                  <a:pt x="163" y="65"/>
                </a:lnTo>
                <a:lnTo>
                  <a:pt x="198" y="57"/>
                </a:lnTo>
                <a:lnTo>
                  <a:pt x="233" y="50"/>
                </a:lnTo>
                <a:lnTo>
                  <a:pt x="267" y="40"/>
                </a:lnTo>
                <a:lnTo>
                  <a:pt x="284" y="34"/>
                </a:lnTo>
                <a:lnTo>
                  <a:pt x="300" y="30"/>
                </a:lnTo>
                <a:lnTo>
                  <a:pt x="315" y="27"/>
                </a:lnTo>
                <a:lnTo>
                  <a:pt x="330" y="21"/>
                </a:lnTo>
                <a:lnTo>
                  <a:pt x="344" y="19"/>
                </a:lnTo>
                <a:lnTo>
                  <a:pt x="357" y="15"/>
                </a:lnTo>
                <a:lnTo>
                  <a:pt x="369" y="11"/>
                </a:lnTo>
                <a:lnTo>
                  <a:pt x="380" y="9"/>
                </a:lnTo>
                <a:lnTo>
                  <a:pt x="390" y="7"/>
                </a:lnTo>
                <a:lnTo>
                  <a:pt x="400" y="6"/>
                </a:lnTo>
                <a:lnTo>
                  <a:pt x="409" y="4"/>
                </a:lnTo>
                <a:lnTo>
                  <a:pt x="417" y="2"/>
                </a:lnTo>
                <a:lnTo>
                  <a:pt x="425" y="0"/>
                </a:lnTo>
                <a:lnTo>
                  <a:pt x="430" y="0"/>
                </a:lnTo>
                <a:lnTo>
                  <a:pt x="436" y="0"/>
                </a:lnTo>
                <a:lnTo>
                  <a:pt x="442" y="0"/>
                </a:lnTo>
                <a:lnTo>
                  <a:pt x="446" y="0"/>
                </a:lnTo>
                <a:lnTo>
                  <a:pt x="451" y="0"/>
                </a:lnTo>
                <a:lnTo>
                  <a:pt x="459" y="0"/>
                </a:lnTo>
                <a:lnTo>
                  <a:pt x="467" y="2"/>
                </a:lnTo>
                <a:lnTo>
                  <a:pt x="476" y="2"/>
                </a:lnTo>
                <a:lnTo>
                  <a:pt x="486" y="6"/>
                </a:lnTo>
                <a:lnTo>
                  <a:pt x="497" y="7"/>
                </a:lnTo>
                <a:lnTo>
                  <a:pt x="511" y="13"/>
                </a:lnTo>
                <a:lnTo>
                  <a:pt x="517" y="15"/>
                </a:lnTo>
                <a:lnTo>
                  <a:pt x="522" y="19"/>
                </a:lnTo>
                <a:lnTo>
                  <a:pt x="528" y="21"/>
                </a:lnTo>
                <a:lnTo>
                  <a:pt x="532" y="25"/>
                </a:lnTo>
                <a:lnTo>
                  <a:pt x="536" y="29"/>
                </a:lnTo>
                <a:lnTo>
                  <a:pt x="540" y="32"/>
                </a:lnTo>
                <a:lnTo>
                  <a:pt x="547" y="40"/>
                </a:lnTo>
                <a:lnTo>
                  <a:pt x="551" y="48"/>
                </a:lnTo>
                <a:lnTo>
                  <a:pt x="555" y="53"/>
                </a:lnTo>
                <a:lnTo>
                  <a:pt x="557" y="61"/>
                </a:lnTo>
                <a:lnTo>
                  <a:pt x="557" y="67"/>
                </a:lnTo>
                <a:lnTo>
                  <a:pt x="557" y="71"/>
                </a:lnTo>
                <a:lnTo>
                  <a:pt x="553" y="77"/>
                </a:lnTo>
                <a:lnTo>
                  <a:pt x="549" y="82"/>
                </a:lnTo>
                <a:lnTo>
                  <a:pt x="544" y="86"/>
                </a:lnTo>
                <a:lnTo>
                  <a:pt x="538" y="92"/>
                </a:lnTo>
                <a:lnTo>
                  <a:pt x="528" y="96"/>
                </a:lnTo>
                <a:lnTo>
                  <a:pt x="519" y="100"/>
                </a:lnTo>
                <a:lnTo>
                  <a:pt x="507" y="105"/>
                </a:lnTo>
                <a:lnTo>
                  <a:pt x="494" y="109"/>
                </a:lnTo>
                <a:lnTo>
                  <a:pt x="478" y="113"/>
                </a:lnTo>
                <a:lnTo>
                  <a:pt x="463" y="117"/>
                </a:lnTo>
                <a:lnTo>
                  <a:pt x="444" y="121"/>
                </a:lnTo>
                <a:lnTo>
                  <a:pt x="425" y="125"/>
                </a:lnTo>
                <a:lnTo>
                  <a:pt x="405" y="128"/>
                </a:lnTo>
                <a:lnTo>
                  <a:pt x="382" y="130"/>
                </a:lnTo>
                <a:lnTo>
                  <a:pt x="359" y="134"/>
                </a:lnTo>
                <a:lnTo>
                  <a:pt x="334" y="138"/>
                </a:lnTo>
                <a:lnTo>
                  <a:pt x="309" y="144"/>
                </a:lnTo>
                <a:lnTo>
                  <a:pt x="284" y="148"/>
                </a:lnTo>
                <a:lnTo>
                  <a:pt x="259" y="151"/>
                </a:lnTo>
                <a:lnTo>
                  <a:pt x="211" y="159"/>
                </a:lnTo>
                <a:lnTo>
                  <a:pt x="167" y="165"/>
                </a:lnTo>
                <a:lnTo>
                  <a:pt x="123" y="169"/>
                </a:lnTo>
                <a:lnTo>
                  <a:pt x="81" y="171"/>
                </a:lnTo>
                <a:lnTo>
                  <a:pt x="41" y="172"/>
                </a:lnTo>
                <a:lnTo>
                  <a:pt x="0" y="174"/>
                </a:lnTo>
                <a:lnTo>
                  <a:pt x="0" y="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102"/>
          <p:cNvSpPr/>
          <p:nvPr/>
        </p:nvSpPr>
        <p:spPr>
          <a:xfrm>
            <a:off x="6353280" y="2960640"/>
            <a:ext cx="169920" cy="1284480"/>
          </a:xfrm>
          <a:custGeom>
            <a:avLst/>
            <a:gdLst/>
            <a:ahLst/>
            <a:rect l="l" t="t" r="r" b="b"/>
            <a:pathLst>
              <a:path w="213" h="1618">
                <a:moveTo>
                  <a:pt x="4" y="6"/>
                </a:moveTo>
                <a:lnTo>
                  <a:pt x="8" y="4"/>
                </a:lnTo>
                <a:lnTo>
                  <a:pt x="12" y="2"/>
                </a:lnTo>
                <a:lnTo>
                  <a:pt x="18" y="0"/>
                </a:lnTo>
                <a:lnTo>
                  <a:pt x="23" y="0"/>
                </a:lnTo>
                <a:lnTo>
                  <a:pt x="33" y="0"/>
                </a:lnTo>
                <a:lnTo>
                  <a:pt x="43" y="2"/>
                </a:lnTo>
                <a:lnTo>
                  <a:pt x="54" y="2"/>
                </a:lnTo>
                <a:lnTo>
                  <a:pt x="66" y="4"/>
                </a:lnTo>
                <a:lnTo>
                  <a:pt x="79" y="8"/>
                </a:lnTo>
                <a:lnTo>
                  <a:pt x="94" y="12"/>
                </a:lnTo>
                <a:lnTo>
                  <a:pt x="112" y="15"/>
                </a:lnTo>
                <a:lnTo>
                  <a:pt x="129" y="19"/>
                </a:lnTo>
                <a:lnTo>
                  <a:pt x="148" y="25"/>
                </a:lnTo>
                <a:lnTo>
                  <a:pt x="169" y="31"/>
                </a:lnTo>
                <a:lnTo>
                  <a:pt x="190" y="38"/>
                </a:lnTo>
                <a:lnTo>
                  <a:pt x="213" y="46"/>
                </a:lnTo>
                <a:lnTo>
                  <a:pt x="210" y="234"/>
                </a:lnTo>
                <a:lnTo>
                  <a:pt x="208" y="424"/>
                </a:lnTo>
                <a:lnTo>
                  <a:pt x="206" y="616"/>
                </a:lnTo>
                <a:lnTo>
                  <a:pt x="204" y="812"/>
                </a:lnTo>
                <a:lnTo>
                  <a:pt x="204" y="1010"/>
                </a:lnTo>
                <a:lnTo>
                  <a:pt x="202" y="1209"/>
                </a:lnTo>
                <a:lnTo>
                  <a:pt x="202" y="1413"/>
                </a:lnTo>
                <a:lnTo>
                  <a:pt x="202" y="1618"/>
                </a:lnTo>
                <a:lnTo>
                  <a:pt x="144" y="1618"/>
                </a:lnTo>
                <a:lnTo>
                  <a:pt x="87" y="1618"/>
                </a:lnTo>
                <a:lnTo>
                  <a:pt x="85" y="1545"/>
                </a:lnTo>
                <a:lnTo>
                  <a:pt x="85" y="1472"/>
                </a:lnTo>
                <a:lnTo>
                  <a:pt x="83" y="1403"/>
                </a:lnTo>
                <a:lnTo>
                  <a:pt x="83" y="1336"/>
                </a:lnTo>
                <a:lnTo>
                  <a:pt x="81" y="1273"/>
                </a:lnTo>
                <a:lnTo>
                  <a:pt x="81" y="1209"/>
                </a:lnTo>
                <a:lnTo>
                  <a:pt x="81" y="1148"/>
                </a:lnTo>
                <a:lnTo>
                  <a:pt x="79" y="1088"/>
                </a:lnTo>
                <a:lnTo>
                  <a:pt x="79" y="1031"/>
                </a:lnTo>
                <a:lnTo>
                  <a:pt x="77" y="977"/>
                </a:lnTo>
                <a:lnTo>
                  <a:pt x="77" y="923"/>
                </a:lnTo>
                <a:lnTo>
                  <a:pt x="77" y="873"/>
                </a:lnTo>
                <a:lnTo>
                  <a:pt x="77" y="825"/>
                </a:lnTo>
                <a:lnTo>
                  <a:pt x="75" y="777"/>
                </a:lnTo>
                <a:lnTo>
                  <a:pt x="75" y="733"/>
                </a:lnTo>
                <a:lnTo>
                  <a:pt x="75" y="691"/>
                </a:lnTo>
                <a:lnTo>
                  <a:pt x="73" y="651"/>
                </a:lnTo>
                <a:lnTo>
                  <a:pt x="73" y="612"/>
                </a:lnTo>
                <a:lnTo>
                  <a:pt x="73" y="576"/>
                </a:lnTo>
                <a:lnTo>
                  <a:pt x="71" y="541"/>
                </a:lnTo>
                <a:lnTo>
                  <a:pt x="71" y="509"/>
                </a:lnTo>
                <a:lnTo>
                  <a:pt x="71" y="478"/>
                </a:lnTo>
                <a:lnTo>
                  <a:pt x="69" y="449"/>
                </a:lnTo>
                <a:lnTo>
                  <a:pt x="69" y="424"/>
                </a:lnTo>
                <a:lnTo>
                  <a:pt x="69" y="399"/>
                </a:lnTo>
                <a:lnTo>
                  <a:pt x="68" y="378"/>
                </a:lnTo>
                <a:lnTo>
                  <a:pt x="68" y="357"/>
                </a:lnTo>
                <a:lnTo>
                  <a:pt x="68" y="340"/>
                </a:lnTo>
                <a:lnTo>
                  <a:pt x="66" y="323"/>
                </a:lnTo>
                <a:lnTo>
                  <a:pt x="66" y="309"/>
                </a:lnTo>
                <a:lnTo>
                  <a:pt x="64" y="298"/>
                </a:lnTo>
                <a:lnTo>
                  <a:pt x="64" y="288"/>
                </a:lnTo>
                <a:lnTo>
                  <a:pt x="60" y="271"/>
                </a:lnTo>
                <a:lnTo>
                  <a:pt x="58" y="253"/>
                </a:lnTo>
                <a:lnTo>
                  <a:pt x="56" y="238"/>
                </a:lnTo>
                <a:lnTo>
                  <a:pt x="54" y="223"/>
                </a:lnTo>
                <a:lnTo>
                  <a:pt x="52" y="207"/>
                </a:lnTo>
                <a:lnTo>
                  <a:pt x="50" y="194"/>
                </a:lnTo>
                <a:lnTo>
                  <a:pt x="48" y="179"/>
                </a:lnTo>
                <a:lnTo>
                  <a:pt x="46" y="167"/>
                </a:lnTo>
                <a:lnTo>
                  <a:pt x="43" y="154"/>
                </a:lnTo>
                <a:lnTo>
                  <a:pt x="41" y="142"/>
                </a:lnTo>
                <a:lnTo>
                  <a:pt x="39" y="133"/>
                </a:lnTo>
                <a:lnTo>
                  <a:pt x="37" y="121"/>
                </a:lnTo>
                <a:lnTo>
                  <a:pt x="35" y="111"/>
                </a:lnTo>
                <a:lnTo>
                  <a:pt x="33" y="102"/>
                </a:lnTo>
                <a:lnTo>
                  <a:pt x="31" y="94"/>
                </a:lnTo>
                <a:lnTo>
                  <a:pt x="29" y="86"/>
                </a:lnTo>
                <a:lnTo>
                  <a:pt x="20" y="71"/>
                </a:lnTo>
                <a:lnTo>
                  <a:pt x="14" y="58"/>
                </a:lnTo>
                <a:lnTo>
                  <a:pt x="8" y="46"/>
                </a:lnTo>
                <a:lnTo>
                  <a:pt x="4" y="35"/>
                </a:lnTo>
                <a:lnTo>
                  <a:pt x="0" y="27"/>
                </a:lnTo>
                <a:lnTo>
                  <a:pt x="0" y="17"/>
                </a:lnTo>
                <a:lnTo>
                  <a:pt x="0" y="14"/>
                </a:lnTo>
                <a:lnTo>
                  <a:pt x="2" y="12"/>
                </a:lnTo>
                <a:lnTo>
                  <a:pt x="2" y="8"/>
                </a:lnTo>
                <a:lnTo>
                  <a:pt x="4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103"/>
          <p:cNvSpPr/>
          <p:nvPr/>
        </p:nvSpPr>
        <p:spPr>
          <a:xfrm>
            <a:off x="5786280" y="3476520"/>
            <a:ext cx="166680" cy="1548000"/>
          </a:xfrm>
          <a:custGeom>
            <a:avLst/>
            <a:gdLst/>
            <a:ahLst/>
            <a:rect l="l" t="t" r="r" b="b"/>
            <a:pathLst>
              <a:path w="210" h="1948">
                <a:moveTo>
                  <a:pt x="196" y="1021"/>
                </a:moveTo>
                <a:lnTo>
                  <a:pt x="194" y="1075"/>
                </a:lnTo>
                <a:lnTo>
                  <a:pt x="192" y="1128"/>
                </a:lnTo>
                <a:lnTo>
                  <a:pt x="190" y="1180"/>
                </a:lnTo>
                <a:lnTo>
                  <a:pt x="188" y="1230"/>
                </a:lnTo>
                <a:lnTo>
                  <a:pt x="187" y="1278"/>
                </a:lnTo>
                <a:lnTo>
                  <a:pt x="185" y="1324"/>
                </a:lnTo>
                <a:lnTo>
                  <a:pt x="181" y="1370"/>
                </a:lnTo>
                <a:lnTo>
                  <a:pt x="179" y="1414"/>
                </a:lnTo>
                <a:lnTo>
                  <a:pt x="177" y="1455"/>
                </a:lnTo>
                <a:lnTo>
                  <a:pt x="175" y="1497"/>
                </a:lnTo>
                <a:lnTo>
                  <a:pt x="173" y="1535"/>
                </a:lnTo>
                <a:lnTo>
                  <a:pt x="171" y="1572"/>
                </a:lnTo>
                <a:lnTo>
                  <a:pt x="169" y="1608"/>
                </a:lnTo>
                <a:lnTo>
                  <a:pt x="167" y="1643"/>
                </a:lnTo>
                <a:lnTo>
                  <a:pt x="163" y="1675"/>
                </a:lnTo>
                <a:lnTo>
                  <a:pt x="162" y="1706"/>
                </a:lnTo>
                <a:lnTo>
                  <a:pt x="160" y="1735"/>
                </a:lnTo>
                <a:lnTo>
                  <a:pt x="158" y="1762"/>
                </a:lnTo>
                <a:lnTo>
                  <a:pt x="154" y="1789"/>
                </a:lnTo>
                <a:lnTo>
                  <a:pt x="152" y="1812"/>
                </a:lnTo>
                <a:lnTo>
                  <a:pt x="148" y="1833"/>
                </a:lnTo>
                <a:lnTo>
                  <a:pt x="146" y="1854"/>
                </a:lnTo>
                <a:lnTo>
                  <a:pt x="142" y="1871"/>
                </a:lnTo>
                <a:lnTo>
                  <a:pt x="139" y="1887"/>
                </a:lnTo>
                <a:lnTo>
                  <a:pt x="135" y="1902"/>
                </a:lnTo>
                <a:lnTo>
                  <a:pt x="133" y="1913"/>
                </a:lnTo>
                <a:lnTo>
                  <a:pt x="129" y="1923"/>
                </a:lnTo>
                <a:lnTo>
                  <a:pt x="125" y="1933"/>
                </a:lnTo>
                <a:lnTo>
                  <a:pt x="123" y="1938"/>
                </a:lnTo>
                <a:lnTo>
                  <a:pt x="121" y="1944"/>
                </a:lnTo>
                <a:lnTo>
                  <a:pt x="117" y="1946"/>
                </a:lnTo>
                <a:lnTo>
                  <a:pt x="116" y="1948"/>
                </a:lnTo>
                <a:lnTo>
                  <a:pt x="114" y="1948"/>
                </a:lnTo>
                <a:lnTo>
                  <a:pt x="110" y="1946"/>
                </a:lnTo>
                <a:lnTo>
                  <a:pt x="108" y="1944"/>
                </a:lnTo>
                <a:lnTo>
                  <a:pt x="104" y="1942"/>
                </a:lnTo>
                <a:lnTo>
                  <a:pt x="102" y="1940"/>
                </a:lnTo>
                <a:lnTo>
                  <a:pt x="98" y="1937"/>
                </a:lnTo>
                <a:lnTo>
                  <a:pt x="94" y="1931"/>
                </a:lnTo>
                <a:lnTo>
                  <a:pt x="89" y="1925"/>
                </a:lnTo>
                <a:lnTo>
                  <a:pt x="85" y="1919"/>
                </a:lnTo>
                <a:lnTo>
                  <a:pt x="79" y="1913"/>
                </a:lnTo>
                <a:lnTo>
                  <a:pt x="75" y="1906"/>
                </a:lnTo>
                <a:lnTo>
                  <a:pt x="69" y="1896"/>
                </a:lnTo>
                <a:lnTo>
                  <a:pt x="64" y="1887"/>
                </a:lnTo>
                <a:lnTo>
                  <a:pt x="58" y="1877"/>
                </a:lnTo>
                <a:lnTo>
                  <a:pt x="52" y="1866"/>
                </a:lnTo>
                <a:lnTo>
                  <a:pt x="46" y="1854"/>
                </a:lnTo>
                <a:lnTo>
                  <a:pt x="41" y="1841"/>
                </a:lnTo>
                <a:lnTo>
                  <a:pt x="35" y="1829"/>
                </a:lnTo>
                <a:lnTo>
                  <a:pt x="23" y="1804"/>
                </a:lnTo>
                <a:lnTo>
                  <a:pt x="16" y="1777"/>
                </a:lnTo>
                <a:lnTo>
                  <a:pt x="10" y="1752"/>
                </a:lnTo>
                <a:lnTo>
                  <a:pt x="6" y="1727"/>
                </a:lnTo>
                <a:lnTo>
                  <a:pt x="2" y="1702"/>
                </a:lnTo>
                <a:lnTo>
                  <a:pt x="0" y="1677"/>
                </a:lnTo>
                <a:lnTo>
                  <a:pt x="0" y="1652"/>
                </a:lnTo>
                <a:lnTo>
                  <a:pt x="0" y="1639"/>
                </a:lnTo>
                <a:lnTo>
                  <a:pt x="0" y="1624"/>
                </a:lnTo>
                <a:lnTo>
                  <a:pt x="0" y="1606"/>
                </a:lnTo>
                <a:lnTo>
                  <a:pt x="2" y="1587"/>
                </a:lnTo>
                <a:lnTo>
                  <a:pt x="4" y="1566"/>
                </a:lnTo>
                <a:lnTo>
                  <a:pt x="6" y="1543"/>
                </a:lnTo>
                <a:lnTo>
                  <a:pt x="8" y="1518"/>
                </a:lnTo>
                <a:lnTo>
                  <a:pt x="10" y="1493"/>
                </a:lnTo>
                <a:lnTo>
                  <a:pt x="14" y="1464"/>
                </a:lnTo>
                <a:lnTo>
                  <a:pt x="16" y="1436"/>
                </a:lnTo>
                <a:lnTo>
                  <a:pt x="20" y="1403"/>
                </a:lnTo>
                <a:lnTo>
                  <a:pt x="23" y="1370"/>
                </a:lnTo>
                <a:lnTo>
                  <a:pt x="29" y="1336"/>
                </a:lnTo>
                <a:lnTo>
                  <a:pt x="35" y="1299"/>
                </a:lnTo>
                <a:lnTo>
                  <a:pt x="41" y="1261"/>
                </a:lnTo>
                <a:lnTo>
                  <a:pt x="46" y="1222"/>
                </a:lnTo>
                <a:lnTo>
                  <a:pt x="54" y="1142"/>
                </a:lnTo>
                <a:lnTo>
                  <a:pt x="62" y="1061"/>
                </a:lnTo>
                <a:lnTo>
                  <a:pt x="68" y="981"/>
                </a:lnTo>
                <a:lnTo>
                  <a:pt x="71" y="900"/>
                </a:lnTo>
                <a:lnTo>
                  <a:pt x="75" y="819"/>
                </a:lnTo>
                <a:lnTo>
                  <a:pt x="79" y="739"/>
                </a:lnTo>
                <a:lnTo>
                  <a:pt x="81" y="658"/>
                </a:lnTo>
                <a:lnTo>
                  <a:pt x="81" y="578"/>
                </a:lnTo>
                <a:lnTo>
                  <a:pt x="81" y="537"/>
                </a:lnTo>
                <a:lnTo>
                  <a:pt x="81" y="497"/>
                </a:lnTo>
                <a:lnTo>
                  <a:pt x="79" y="459"/>
                </a:lnTo>
                <a:lnTo>
                  <a:pt x="79" y="420"/>
                </a:lnTo>
                <a:lnTo>
                  <a:pt x="77" y="384"/>
                </a:lnTo>
                <a:lnTo>
                  <a:pt x="75" y="345"/>
                </a:lnTo>
                <a:lnTo>
                  <a:pt x="73" y="309"/>
                </a:lnTo>
                <a:lnTo>
                  <a:pt x="71" y="272"/>
                </a:lnTo>
                <a:lnTo>
                  <a:pt x="68" y="201"/>
                </a:lnTo>
                <a:lnTo>
                  <a:pt x="62" y="132"/>
                </a:lnTo>
                <a:lnTo>
                  <a:pt x="54" y="65"/>
                </a:lnTo>
                <a:lnTo>
                  <a:pt x="46" y="0"/>
                </a:lnTo>
                <a:lnTo>
                  <a:pt x="66" y="32"/>
                </a:lnTo>
                <a:lnTo>
                  <a:pt x="83" y="63"/>
                </a:lnTo>
                <a:lnTo>
                  <a:pt x="98" y="94"/>
                </a:lnTo>
                <a:lnTo>
                  <a:pt x="116" y="123"/>
                </a:lnTo>
                <a:lnTo>
                  <a:pt x="129" y="151"/>
                </a:lnTo>
                <a:lnTo>
                  <a:pt x="142" y="180"/>
                </a:lnTo>
                <a:lnTo>
                  <a:pt x="154" y="207"/>
                </a:lnTo>
                <a:lnTo>
                  <a:pt x="165" y="234"/>
                </a:lnTo>
                <a:lnTo>
                  <a:pt x="175" y="259"/>
                </a:lnTo>
                <a:lnTo>
                  <a:pt x="185" y="284"/>
                </a:lnTo>
                <a:lnTo>
                  <a:pt x="192" y="307"/>
                </a:lnTo>
                <a:lnTo>
                  <a:pt x="198" y="330"/>
                </a:lnTo>
                <a:lnTo>
                  <a:pt x="202" y="353"/>
                </a:lnTo>
                <a:lnTo>
                  <a:pt x="206" y="374"/>
                </a:lnTo>
                <a:lnTo>
                  <a:pt x="208" y="395"/>
                </a:lnTo>
                <a:lnTo>
                  <a:pt x="210" y="416"/>
                </a:lnTo>
                <a:lnTo>
                  <a:pt x="210" y="426"/>
                </a:lnTo>
                <a:lnTo>
                  <a:pt x="210" y="437"/>
                </a:lnTo>
                <a:lnTo>
                  <a:pt x="210" y="449"/>
                </a:lnTo>
                <a:lnTo>
                  <a:pt x="208" y="460"/>
                </a:lnTo>
                <a:lnTo>
                  <a:pt x="208" y="474"/>
                </a:lnTo>
                <a:lnTo>
                  <a:pt x="208" y="485"/>
                </a:lnTo>
                <a:lnTo>
                  <a:pt x="208" y="501"/>
                </a:lnTo>
                <a:lnTo>
                  <a:pt x="208" y="514"/>
                </a:lnTo>
                <a:lnTo>
                  <a:pt x="208" y="530"/>
                </a:lnTo>
                <a:lnTo>
                  <a:pt x="208" y="545"/>
                </a:lnTo>
                <a:lnTo>
                  <a:pt x="208" y="560"/>
                </a:lnTo>
                <a:lnTo>
                  <a:pt x="208" y="576"/>
                </a:lnTo>
                <a:lnTo>
                  <a:pt x="208" y="593"/>
                </a:lnTo>
                <a:lnTo>
                  <a:pt x="208" y="610"/>
                </a:lnTo>
                <a:lnTo>
                  <a:pt x="208" y="629"/>
                </a:lnTo>
                <a:lnTo>
                  <a:pt x="208" y="649"/>
                </a:lnTo>
                <a:lnTo>
                  <a:pt x="206" y="668"/>
                </a:lnTo>
                <a:lnTo>
                  <a:pt x="206" y="687"/>
                </a:lnTo>
                <a:lnTo>
                  <a:pt x="206" y="706"/>
                </a:lnTo>
                <a:lnTo>
                  <a:pt x="206" y="727"/>
                </a:lnTo>
                <a:lnTo>
                  <a:pt x="206" y="748"/>
                </a:lnTo>
                <a:lnTo>
                  <a:pt x="204" y="771"/>
                </a:lnTo>
                <a:lnTo>
                  <a:pt x="204" y="793"/>
                </a:lnTo>
                <a:lnTo>
                  <a:pt x="204" y="816"/>
                </a:lnTo>
                <a:lnTo>
                  <a:pt x="202" y="841"/>
                </a:lnTo>
                <a:lnTo>
                  <a:pt x="202" y="864"/>
                </a:lnTo>
                <a:lnTo>
                  <a:pt x="202" y="888"/>
                </a:lnTo>
                <a:lnTo>
                  <a:pt x="200" y="913"/>
                </a:lnTo>
                <a:lnTo>
                  <a:pt x="200" y="940"/>
                </a:lnTo>
                <a:lnTo>
                  <a:pt x="198" y="965"/>
                </a:lnTo>
                <a:lnTo>
                  <a:pt x="198" y="992"/>
                </a:lnTo>
                <a:lnTo>
                  <a:pt x="196" y="10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104"/>
          <p:cNvSpPr/>
          <p:nvPr/>
        </p:nvSpPr>
        <p:spPr>
          <a:xfrm>
            <a:off x="5389560" y="2749680"/>
            <a:ext cx="793800" cy="1315800"/>
          </a:xfrm>
          <a:custGeom>
            <a:avLst/>
            <a:gdLst/>
            <a:ahLst/>
            <a:rect l="l" t="t" r="r" b="b"/>
            <a:pathLst>
              <a:path w="1000" h="1659">
                <a:moveTo>
                  <a:pt x="2" y="1657"/>
                </a:moveTo>
                <a:lnTo>
                  <a:pt x="0" y="1653"/>
                </a:lnTo>
                <a:lnTo>
                  <a:pt x="0" y="1647"/>
                </a:lnTo>
                <a:lnTo>
                  <a:pt x="2" y="1641"/>
                </a:lnTo>
                <a:lnTo>
                  <a:pt x="6" y="1632"/>
                </a:lnTo>
                <a:lnTo>
                  <a:pt x="12" y="1620"/>
                </a:lnTo>
                <a:lnTo>
                  <a:pt x="18" y="1609"/>
                </a:lnTo>
                <a:lnTo>
                  <a:pt x="27" y="1595"/>
                </a:lnTo>
                <a:lnTo>
                  <a:pt x="37" y="1580"/>
                </a:lnTo>
                <a:lnTo>
                  <a:pt x="48" y="1563"/>
                </a:lnTo>
                <a:lnTo>
                  <a:pt x="62" y="1544"/>
                </a:lnTo>
                <a:lnTo>
                  <a:pt x="77" y="1524"/>
                </a:lnTo>
                <a:lnTo>
                  <a:pt x="94" y="1501"/>
                </a:lnTo>
                <a:lnTo>
                  <a:pt x="112" y="1478"/>
                </a:lnTo>
                <a:lnTo>
                  <a:pt x="131" y="1453"/>
                </a:lnTo>
                <a:lnTo>
                  <a:pt x="152" y="1428"/>
                </a:lnTo>
                <a:lnTo>
                  <a:pt x="175" y="1401"/>
                </a:lnTo>
                <a:lnTo>
                  <a:pt x="196" y="1373"/>
                </a:lnTo>
                <a:lnTo>
                  <a:pt x="219" y="1344"/>
                </a:lnTo>
                <a:lnTo>
                  <a:pt x="240" y="1313"/>
                </a:lnTo>
                <a:lnTo>
                  <a:pt x="261" y="1282"/>
                </a:lnTo>
                <a:lnTo>
                  <a:pt x="284" y="1250"/>
                </a:lnTo>
                <a:lnTo>
                  <a:pt x="306" y="1217"/>
                </a:lnTo>
                <a:lnTo>
                  <a:pt x="327" y="1185"/>
                </a:lnTo>
                <a:lnTo>
                  <a:pt x="348" y="1150"/>
                </a:lnTo>
                <a:lnTo>
                  <a:pt x="369" y="1115"/>
                </a:lnTo>
                <a:lnTo>
                  <a:pt x="390" y="1079"/>
                </a:lnTo>
                <a:lnTo>
                  <a:pt x="411" y="1043"/>
                </a:lnTo>
                <a:lnTo>
                  <a:pt x="432" y="1006"/>
                </a:lnTo>
                <a:lnTo>
                  <a:pt x="453" y="968"/>
                </a:lnTo>
                <a:lnTo>
                  <a:pt x="473" y="929"/>
                </a:lnTo>
                <a:lnTo>
                  <a:pt x="492" y="891"/>
                </a:lnTo>
                <a:lnTo>
                  <a:pt x="513" y="851"/>
                </a:lnTo>
                <a:lnTo>
                  <a:pt x="530" y="812"/>
                </a:lnTo>
                <a:lnTo>
                  <a:pt x="549" y="776"/>
                </a:lnTo>
                <a:lnTo>
                  <a:pt x="569" y="739"/>
                </a:lnTo>
                <a:lnTo>
                  <a:pt x="586" y="705"/>
                </a:lnTo>
                <a:lnTo>
                  <a:pt x="603" y="668"/>
                </a:lnTo>
                <a:lnTo>
                  <a:pt x="618" y="636"/>
                </a:lnTo>
                <a:lnTo>
                  <a:pt x="634" y="601"/>
                </a:lnTo>
                <a:lnTo>
                  <a:pt x="649" y="568"/>
                </a:lnTo>
                <a:lnTo>
                  <a:pt x="664" y="538"/>
                </a:lnTo>
                <a:lnTo>
                  <a:pt x="678" y="507"/>
                </a:lnTo>
                <a:lnTo>
                  <a:pt x="691" y="476"/>
                </a:lnTo>
                <a:lnTo>
                  <a:pt x="703" y="448"/>
                </a:lnTo>
                <a:lnTo>
                  <a:pt x="714" y="419"/>
                </a:lnTo>
                <a:lnTo>
                  <a:pt x="726" y="392"/>
                </a:lnTo>
                <a:lnTo>
                  <a:pt x="736" y="365"/>
                </a:lnTo>
                <a:lnTo>
                  <a:pt x="745" y="340"/>
                </a:lnTo>
                <a:lnTo>
                  <a:pt x="753" y="315"/>
                </a:lnTo>
                <a:lnTo>
                  <a:pt x="760" y="290"/>
                </a:lnTo>
                <a:lnTo>
                  <a:pt x="766" y="269"/>
                </a:lnTo>
                <a:lnTo>
                  <a:pt x="772" y="246"/>
                </a:lnTo>
                <a:lnTo>
                  <a:pt x="778" y="225"/>
                </a:lnTo>
                <a:lnTo>
                  <a:pt x="782" y="206"/>
                </a:lnTo>
                <a:lnTo>
                  <a:pt x="785" y="186"/>
                </a:lnTo>
                <a:lnTo>
                  <a:pt x="787" y="169"/>
                </a:lnTo>
                <a:lnTo>
                  <a:pt x="789" y="154"/>
                </a:lnTo>
                <a:lnTo>
                  <a:pt x="789" y="138"/>
                </a:lnTo>
                <a:lnTo>
                  <a:pt x="791" y="123"/>
                </a:lnTo>
                <a:lnTo>
                  <a:pt x="789" y="112"/>
                </a:lnTo>
                <a:lnTo>
                  <a:pt x="787" y="98"/>
                </a:lnTo>
                <a:lnTo>
                  <a:pt x="785" y="89"/>
                </a:lnTo>
                <a:lnTo>
                  <a:pt x="784" y="79"/>
                </a:lnTo>
                <a:lnTo>
                  <a:pt x="780" y="71"/>
                </a:lnTo>
                <a:lnTo>
                  <a:pt x="776" y="64"/>
                </a:lnTo>
                <a:lnTo>
                  <a:pt x="772" y="56"/>
                </a:lnTo>
                <a:lnTo>
                  <a:pt x="768" y="50"/>
                </a:lnTo>
                <a:lnTo>
                  <a:pt x="766" y="44"/>
                </a:lnTo>
                <a:lnTo>
                  <a:pt x="764" y="41"/>
                </a:lnTo>
                <a:lnTo>
                  <a:pt x="764" y="35"/>
                </a:lnTo>
                <a:lnTo>
                  <a:pt x="762" y="31"/>
                </a:lnTo>
                <a:lnTo>
                  <a:pt x="764" y="27"/>
                </a:lnTo>
                <a:lnTo>
                  <a:pt x="764" y="23"/>
                </a:lnTo>
                <a:lnTo>
                  <a:pt x="766" y="19"/>
                </a:lnTo>
                <a:lnTo>
                  <a:pt x="768" y="18"/>
                </a:lnTo>
                <a:lnTo>
                  <a:pt x="772" y="14"/>
                </a:lnTo>
                <a:lnTo>
                  <a:pt x="776" y="12"/>
                </a:lnTo>
                <a:lnTo>
                  <a:pt x="780" y="8"/>
                </a:lnTo>
                <a:lnTo>
                  <a:pt x="785" y="6"/>
                </a:lnTo>
                <a:lnTo>
                  <a:pt x="791" y="4"/>
                </a:lnTo>
                <a:lnTo>
                  <a:pt x="797" y="0"/>
                </a:lnTo>
                <a:lnTo>
                  <a:pt x="805" y="0"/>
                </a:lnTo>
                <a:lnTo>
                  <a:pt x="810" y="0"/>
                </a:lnTo>
                <a:lnTo>
                  <a:pt x="818" y="0"/>
                </a:lnTo>
                <a:lnTo>
                  <a:pt x="824" y="2"/>
                </a:lnTo>
                <a:lnTo>
                  <a:pt x="831" y="4"/>
                </a:lnTo>
                <a:lnTo>
                  <a:pt x="839" y="8"/>
                </a:lnTo>
                <a:lnTo>
                  <a:pt x="847" y="14"/>
                </a:lnTo>
                <a:lnTo>
                  <a:pt x="855" y="19"/>
                </a:lnTo>
                <a:lnTo>
                  <a:pt x="862" y="25"/>
                </a:lnTo>
                <a:lnTo>
                  <a:pt x="870" y="33"/>
                </a:lnTo>
                <a:lnTo>
                  <a:pt x="879" y="41"/>
                </a:lnTo>
                <a:lnTo>
                  <a:pt x="889" y="50"/>
                </a:lnTo>
                <a:lnTo>
                  <a:pt x="899" y="60"/>
                </a:lnTo>
                <a:lnTo>
                  <a:pt x="908" y="71"/>
                </a:lnTo>
                <a:lnTo>
                  <a:pt x="918" y="85"/>
                </a:lnTo>
                <a:lnTo>
                  <a:pt x="929" y="96"/>
                </a:lnTo>
                <a:lnTo>
                  <a:pt x="939" y="108"/>
                </a:lnTo>
                <a:lnTo>
                  <a:pt x="947" y="119"/>
                </a:lnTo>
                <a:lnTo>
                  <a:pt x="954" y="131"/>
                </a:lnTo>
                <a:lnTo>
                  <a:pt x="962" y="140"/>
                </a:lnTo>
                <a:lnTo>
                  <a:pt x="970" y="150"/>
                </a:lnTo>
                <a:lnTo>
                  <a:pt x="975" y="160"/>
                </a:lnTo>
                <a:lnTo>
                  <a:pt x="981" y="169"/>
                </a:lnTo>
                <a:lnTo>
                  <a:pt x="985" y="177"/>
                </a:lnTo>
                <a:lnTo>
                  <a:pt x="989" y="185"/>
                </a:lnTo>
                <a:lnTo>
                  <a:pt x="993" y="194"/>
                </a:lnTo>
                <a:lnTo>
                  <a:pt x="995" y="202"/>
                </a:lnTo>
                <a:lnTo>
                  <a:pt x="997" y="209"/>
                </a:lnTo>
                <a:lnTo>
                  <a:pt x="998" y="217"/>
                </a:lnTo>
                <a:lnTo>
                  <a:pt x="998" y="225"/>
                </a:lnTo>
                <a:lnTo>
                  <a:pt x="1000" y="233"/>
                </a:lnTo>
                <a:lnTo>
                  <a:pt x="998" y="240"/>
                </a:lnTo>
                <a:lnTo>
                  <a:pt x="998" y="248"/>
                </a:lnTo>
                <a:lnTo>
                  <a:pt x="997" y="259"/>
                </a:lnTo>
                <a:lnTo>
                  <a:pt x="993" y="269"/>
                </a:lnTo>
                <a:lnTo>
                  <a:pt x="989" y="281"/>
                </a:lnTo>
                <a:lnTo>
                  <a:pt x="985" y="294"/>
                </a:lnTo>
                <a:lnTo>
                  <a:pt x="981" y="307"/>
                </a:lnTo>
                <a:lnTo>
                  <a:pt x="975" y="323"/>
                </a:lnTo>
                <a:lnTo>
                  <a:pt x="968" y="338"/>
                </a:lnTo>
                <a:lnTo>
                  <a:pt x="962" y="355"/>
                </a:lnTo>
                <a:lnTo>
                  <a:pt x="954" y="373"/>
                </a:lnTo>
                <a:lnTo>
                  <a:pt x="945" y="390"/>
                </a:lnTo>
                <a:lnTo>
                  <a:pt x="937" y="409"/>
                </a:lnTo>
                <a:lnTo>
                  <a:pt x="927" y="430"/>
                </a:lnTo>
                <a:lnTo>
                  <a:pt x="918" y="451"/>
                </a:lnTo>
                <a:lnTo>
                  <a:pt x="906" y="474"/>
                </a:lnTo>
                <a:lnTo>
                  <a:pt x="895" y="499"/>
                </a:lnTo>
                <a:lnTo>
                  <a:pt x="883" y="526"/>
                </a:lnTo>
                <a:lnTo>
                  <a:pt x="870" y="553"/>
                </a:lnTo>
                <a:lnTo>
                  <a:pt x="856" y="580"/>
                </a:lnTo>
                <a:lnTo>
                  <a:pt x="843" y="609"/>
                </a:lnTo>
                <a:lnTo>
                  <a:pt x="828" y="638"/>
                </a:lnTo>
                <a:lnTo>
                  <a:pt x="810" y="666"/>
                </a:lnTo>
                <a:lnTo>
                  <a:pt x="793" y="697"/>
                </a:lnTo>
                <a:lnTo>
                  <a:pt x="776" y="728"/>
                </a:lnTo>
                <a:lnTo>
                  <a:pt x="757" y="760"/>
                </a:lnTo>
                <a:lnTo>
                  <a:pt x="737" y="793"/>
                </a:lnTo>
                <a:lnTo>
                  <a:pt x="716" y="828"/>
                </a:lnTo>
                <a:lnTo>
                  <a:pt x="695" y="862"/>
                </a:lnTo>
                <a:lnTo>
                  <a:pt x="674" y="897"/>
                </a:lnTo>
                <a:lnTo>
                  <a:pt x="651" y="933"/>
                </a:lnTo>
                <a:lnTo>
                  <a:pt x="628" y="972"/>
                </a:lnTo>
                <a:lnTo>
                  <a:pt x="605" y="1008"/>
                </a:lnTo>
                <a:lnTo>
                  <a:pt x="580" y="1046"/>
                </a:lnTo>
                <a:lnTo>
                  <a:pt x="557" y="1081"/>
                </a:lnTo>
                <a:lnTo>
                  <a:pt x="532" y="1117"/>
                </a:lnTo>
                <a:lnTo>
                  <a:pt x="509" y="1152"/>
                </a:lnTo>
                <a:lnTo>
                  <a:pt x="484" y="1187"/>
                </a:lnTo>
                <a:lnTo>
                  <a:pt x="459" y="1219"/>
                </a:lnTo>
                <a:lnTo>
                  <a:pt x="436" y="1252"/>
                </a:lnTo>
                <a:lnTo>
                  <a:pt x="411" y="1282"/>
                </a:lnTo>
                <a:lnTo>
                  <a:pt x="386" y="1313"/>
                </a:lnTo>
                <a:lnTo>
                  <a:pt x="361" y="1344"/>
                </a:lnTo>
                <a:lnTo>
                  <a:pt x="336" y="1373"/>
                </a:lnTo>
                <a:lnTo>
                  <a:pt x="311" y="1401"/>
                </a:lnTo>
                <a:lnTo>
                  <a:pt x="284" y="1428"/>
                </a:lnTo>
                <a:lnTo>
                  <a:pt x="259" y="1455"/>
                </a:lnTo>
                <a:lnTo>
                  <a:pt x="235" y="1482"/>
                </a:lnTo>
                <a:lnTo>
                  <a:pt x="221" y="1494"/>
                </a:lnTo>
                <a:lnTo>
                  <a:pt x="208" y="1507"/>
                </a:lnTo>
                <a:lnTo>
                  <a:pt x="196" y="1519"/>
                </a:lnTo>
                <a:lnTo>
                  <a:pt x="185" y="1528"/>
                </a:lnTo>
                <a:lnTo>
                  <a:pt x="162" y="1549"/>
                </a:lnTo>
                <a:lnTo>
                  <a:pt x="140" y="1568"/>
                </a:lnTo>
                <a:lnTo>
                  <a:pt x="121" y="1586"/>
                </a:lnTo>
                <a:lnTo>
                  <a:pt x="102" y="1601"/>
                </a:lnTo>
                <a:lnTo>
                  <a:pt x="87" y="1613"/>
                </a:lnTo>
                <a:lnTo>
                  <a:pt x="69" y="1624"/>
                </a:lnTo>
                <a:lnTo>
                  <a:pt x="56" y="1636"/>
                </a:lnTo>
                <a:lnTo>
                  <a:pt x="45" y="1643"/>
                </a:lnTo>
                <a:lnTo>
                  <a:pt x="33" y="1649"/>
                </a:lnTo>
                <a:lnTo>
                  <a:pt x="23" y="1653"/>
                </a:lnTo>
                <a:lnTo>
                  <a:pt x="16" y="1657"/>
                </a:lnTo>
                <a:lnTo>
                  <a:pt x="10" y="1659"/>
                </a:lnTo>
                <a:lnTo>
                  <a:pt x="4" y="1659"/>
                </a:lnTo>
                <a:lnTo>
                  <a:pt x="2" y="16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" name="组合 8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12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艹”宜宽；“敝”紧凑，末笔捺宜伸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矩形 3"/>
          <p:cNvSpPr/>
          <p:nvPr/>
        </p:nvSpPr>
        <p:spPr>
          <a:xfrm>
            <a:off x="2203560" y="202572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54"/>
          <p:cNvSpPr/>
          <p:nvPr/>
        </p:nvSpPr>
        <p:spPr>
          <a:xfrm>
            <a:off x="6513480" y="3929040"/>
            <a:ext cx="677880" cy="905040"/>
          </a:xfrm>
          <a:custGeom>
            <a:avLst/>
            <a:gdLst/>
            <a:ahLst/>
            <a:rect l="l" t="t" r="r" b="b"/>
            <a:pathLst>
              <a:path w="854" h="1141">
                <a:moveTo>
                  <a:pt x="378" y="1002"/>
                </a:moveTo>
                <a:lnTo>
                  <a:pt x="361" y="1014"/>
                </a:lnTo>
                <a:lnTo>
                  <a:pt x="346" y="1025"/>
                </a:lnTo>
                <a:lnTo>
                  <a:pt x="328" y="1037"/>
                </a:lnTo>
                <a:lnTo>
                  <a:pt x="313" y="1047"/>
                </a:lnTo>
                <a:lnTo>
                  <a:pt x="298" y="1056"/>
                </a:lnTo>
                <a:lnTo>
                  <a:pt x="282" y="1064"/>
                </a:lnTo>
                <a:lnTo>
                  <a:pt x="267" y="1073"/>
                </a:lnTo>
                <a:lnTo>
                  <a:pt x="251" y="1079"/>
                </a:lnTo>
                <a:lnTo>
                  <a:pt x="236" y="1087"/>
                </a:lnTo>
                <a:lnTo>
                  <a:pt x="221" y="1093"/>
                </a:lnTo>
                <a:lnTo>
                  <a:pt x="205" y="1098"/>
                </a:lnTo>
                <a:lnTo>
                  <a:pt x="190" y="1104"/>
                </a:lnTo>
                <a:lnTo>
                  <a:pt x="175" y="1108"/>
                </a:lnTo>
                <a:lnTo>
                  <a:pt x="157" y="1114"/>
                </a:lnTo>
                <a:lnTo>
                  <a:pt x="142" y="1116"/>
                </a:lnTo>
                <a:lnTo>
                  <a:pt x="127" y="1119"/>
                </a:lnTo>
                <a:lnTo>
                  <a:pt x="109" y="1123"/>
                </a:lnTo>
                <a:lnTo>
                  <a:pt x="96" y="1127"/>
                </a:lnTo>
                <a:lnTo>
                  <a:pt x="81" y="1131"/>
                </a:lnTo>
                <a:lnTo>
                  <a:pt x="69" y="1135"/>
                </a:lnTo>
                <a:lnTo>
                  <a:pt x="58" y="1137"/>
                </a:lnTo>
                <a:lnTo>
                  <a:pt x="48" y="1139"/>
                </a:lnTo>
                <a:lnTo>
                  <a:pt x="38" y="1139"/>
                </a:lnTo>
                <a:lnTo>
                  <a:pt x="31" y="1141"/>
                </a:lnTo>
                <a:lnTo>
                  <a:pt x="23" y="1141"/>
                </a:lnTo>
                <a:lnTo>
                  <a:pt x="17" y="1141"/>
                </a:lnTo>
                <a:lnTo>
                  <a:pt x="12" y="1141"/>
                </a:lnTo>
                <a:lnTo>
                  <a:pt x="8" y="1139"/>
                </a:lnTo>
                <a:lnTo>
                  <a:pt x="4" y="1139"/>
                </a:lnTo>
                <a:lnTo>
                  <a:pt x="2" y="1137"/>
                </a:lnTo>
                <a:lnTo>
                  <a:pt x="0" y="1135"/>
                </a:lnTo>
                <a:lnTo>
                  <a:pt x="0" y="1133"/>
                </a:lnTo>
                <a:lnTo>
                  <a:pt x="0" y="1129"/>
                </a:lnTo>
                <a:lnTo>
                  <a:pt x="2" y="1125"/>
                </a:lnTo>
                <a:lnTo>
                  <a:pt x="6" y="1121"/>
                </a:lnTo>
                <a:lnTo>
                  <a:pt x="10" y="1118"/>
                </a:lnTo>
                <a:lnTo>
                  <a:pt x="15" y="1112"/>
                </a:lnTo>
                <a:lnTo>
                  <a:pt x="21" y="1108"/>
                </a:lnTo>
                <a:lnTo>
                  <a:pt x="29" y="1102"/>
                </a:lnTo>
                <a:lnTo>
                  <a:pt x="36" y="1095"/>
                </a:lnTo>
                <a:lnTo>
                  <a:pt x="46" y="1089"/>
                </a:lnTo>
                <a:lnTo>
                  <a:pt x="56" y="1081"/>
                </a:lnTo>
                <a:lnTo>
                  <a:pt x="67" y="1073"/>
                </a:lnTo>
                <a:lnTo>
                  <a:pt x="81" y="1064"/>
                </a:lnTo>
                <a:lnTo>
                  <a:pt x="92" y="1056"/>
                </a:lnTo>
                <a:lnTo>
                  <a:pt x="108" y="1047"/>
                </a:lnTo>
                <a:lnTo>
                  <a:pt x="123" y="1037"/>
                </a:lnTo>
                <a:lnTo>
                  <a:pt x="138" y="1027"/>
                </a:lnTo>
                <a:lnTo>
                  <a:pt x="155" y="1018"/>
                </a:lnTo>
                <a:lnTo>
                  <a:pt x="171" y="1006"/>
                </a:lnTo>
                <a:lnTo>
                  <a:pt x="188" y="995"/>
                </a:lnTo>
                <a:lnTo>
                  <a:pt x="205" y="983"/>
                </a:lnTo>
                <a:lnTo>
                  <a:pt x="223" y="972"/>
                </a:lnTo>
                <a:lnTo>
                  <a:pt x="242" y="958"/>
                </a:lnTo>
                <a:lnTo>
                  <a:pt x="259" y="945"/>
                </a:lnTo>
                <a:lnTo>
                  <a:pt x="276" y="929"/>
                </a:lnTo>
                <a:lnTo>
                  <a:pt x="294" y="916"/>
                </a:lnTo>
                <a:lnTo>
                  <a:pt x="313" y="901"/>
                </a:lnTo>
                <a:lnTo>
                  <a:pt x="330" y="883"/>
                </a:lnTo>
                <a:lnTo>
                  <a:pt x="347" y="866"/>
                </a:lnTo>
                <a:lnTo>
                  <a:pt x="365" y="849"/>
                </a:lnTo>
                <a:lnTo>
                  <a:pt x="382" y="832"/>
                </a:lnTo>
                <a:lnTo>
                  <a:pt x="397" y="812"/>
                </a:lnTo>
                <a:lnTo>
                  <a:pt x="415" y="793"/>
                </a:lnTo>
                <a:lnTo>
                  <a:pt x="430" y="774"/>
                </a:lnTo>
                <a:lnTo>
                  <a:pt x="445" y="753"/>
                </a:lnTo>
                <a:lnTo>
                  <a:pt x="461" y="734"/>
                </a:lnTo>
                <a:lnTo>
                  <a:pt x="474" y="713"/>
                </a:lnTo>
                <a:lnTo>
                  <a:pt x="486" y="691"/>
                </a:lnTo>
                <a:lnTo>
                  <a:pt x="499" y="672"/>
                </a:lnTo>
                <a:lnTo>
                  <a:pt x="511" y="651"/>
                </a:lnTo>
                <a:lnTo>
                  <a:pt x="522" y="628"/>
                </a:lnTo>
                <a:lnTo>
                  <a:pt x="532" y="607"/>
                </a:lnTo>
                <a:lnTo>
                  <a:pt x="541" y="586"/>
                </a:lnTo>
                <a:lnTo>
                  <a:pt x="551" y="565"/>
                </a:lnTo>
                <a:lnTo>
                  <a:pt x="560" y="542"/>
                </a:lnTo>
                <a:lnTo>
                  <a:pt x="576" y="499"/>
                </a:lnTo>
                <a:lnTo>
                  <a:pt x="591" y="455"/>
                </a:lnTo>
                <a:lnTo>
                  <a:pt x="597" y="432"/>
                </a:lnTo>
                <a:lnTo>
                  <a:pt x="603" y="413"/>
                </a:lnTo>
                <a:lnTo>
                  <a:pt x="608" y="392"/>
                </a:lnTo>
                <a:lnTo>
                  <a:pt x="614" y="373"/>
                </a:lnTo>
                <a:lnTo>
                  <a:pt x="618" y="354"/>
                </a:lnTo>
                <a:lnTo>
                  <a:pt x="622" y="336"/>
                </a:lnTo>
                <a:lnTo>
                  <a:pt x="626" y="319"/>
                </a:lnTo>
                <a:lnTo>
                  <a:pt x="630" y="302"/>
                </a:lnTo>
                <a:lnTo>
                  <a:pt x="632" y="286"/>
                </a:lnTo>
                <a:lnTo>
                  <a:pt x="635" y="273"/>
                </a:lnTo>
                <a:lnTo>
                  <a:pt x="637" y="260"/>
                </a:lnTo>
                <a:lnTo>
                  <a:pt x="637" y="246"/>
                </a:lnTo>
                <a:lnTo>
                  <a:pt x="639" y="235"/>
                </a:lnTo>
                <a:lnTo>
                  <a:pt x="639" y="225"/>
                </a:lnTo>
                <a:lnTo>
                  <a:pt x="641" y="215"/>
                </a:lnTo>
                <a:lnTo>
                  <a:pt x="641" y="208"/>
                </a:lnTo>
                <a:lnTo>
                  <a:pt x="641" y="200"/>
                </a:lnTo>
                <a:lnTo>
                  <a:pt x="641" y="190"/>
                </a:lnTo>
                <a:lnTo>
                  <a:pt x="641" y="183"/>
                </a:lnTo>
                <a:lnTo>
                  <a:pt x="641" y="171"/>
                </a:lnTo>
                <a:lnTo>
                  <a:pt x="641" y="160"/>
                </a:lnTo>
                <a:lnTo>
                  <a:pt x="639" y="148"/>
                </a:lnTo>
                <a:lnTo>
                  <a:pt x="639" y="137"/>
                </a:lnTo>
                <a:lnTo>
                  <a:pt x="639" y="123"/>
                </a:lnTo>
                <a:lnTo>
                  <a:pt x="639" y="110"/>
                </a:lnTo>
                <a:lnTo>
                  <a:pt x="637" y="94"/>
                </a:lnTo>
                <a:lnTo>
                  <a:pt x="637" y="81"/>
                </a:lnTo>
                <a:lnTo>
                  <a:pt x="635" y="66"/>
                </a:lnTo>
                <a:lnTo>
                  <a:pt x="632" y="33"/>
                </a:lnTo>
                <a:lnTo>
                  <a:pt x="628" y="0"/>
                </a:lnTo>
                <a:lnTo>
                  <a:pt x="653" y="6"/>
                </a:lnTo>
                <a:lnTo>
                  <a:pt x="678" y="14"/>
                </a:lnTo>
                <a:lnTo>
                  <a:pt x="699" y="22"/>
                </a:lnTo>
                <a:lnTo>
                  <a:pt x="720" y="29"/>
                </a:lnTo>
                <a:lnTo>
                  <a:pt x="739" y="37"/>
                </a:lnTo>
                <a:lnTo>
                  <a:pt x="758" y="43"/>
                </a:lnTo>
                <a:lnTo>
                  <a:pt x="774" y="50"/>
                </a:lnTo>
                <a:lnTo>
                  <a:pt x="789" y="56"/>
                </a:lnTo>
                <a:lnTo>
                  <a:pt x="802" y="64"/>
                </a:lnTo>
                <a:lnTo>
                  <a:pt x="814" y="70"/>
                </a:lnTo>
                <a:lnTo>
                  <a:pt x="823" y="75"/>
                </a:lnTo>
                <a:lnTo>
                  <a:pt x="833" y="83"/>
                </a:lnTo>
                <a:lnTo>
                  <a:pt x="841" y="89"/>
                </a:lnTo>
                <a:lnTo>
                  <a:pt x="846" y="93"/>
                </a:lnTo>
                <a:lnTo>
                  <a:pt x="850" y="98"/>
                </a:lnTo>
                <a:lnTo>
                  <a:pt x="854" y="104"/>
                </a:lnTo>
                <a:lnTo>
                  <a:pt x="854" y="110"/>
                </a:lnTo>
                <a:lnTo>
                  <a:pt x="854" y="116"/>
                </a:lnTo>
                <a:lnTo>
                  <a:pt x="852" y="125"/>
                </a:lnTo>
                <a:lnTo>
                  <a:pt x="852" y="135"/>
                </a:lnTo>
                <a:lnTo>
                  <a:pt x="850" y="146"/>
                </a:lnTo>
                <a:lnTo>
                  <a:pt x="848" y="160"/>
                </a:lnTo>
                <a:lnTo>
                  <a:pt x="846" y="173"/>
                </a:lnTo>
                <a:lnTo>
                  <a:pt x="843" y="190"/>
                </a:lnTo>
                <a:lnTo>
                  <a:pt x="841" y="208"/>
                </a:lnTo>
                <a:lnTo>
                  <a:pt x="837" y="225"/>
                </a:lnTo>
                <a:lnTo>
                  <a:pt x="833" y="246"/>
                </a:lnTo>
                <a:lnTo>
                  <a:pt x="827" y="267"/>
                </a:lnTo>
                <a:lnTo>
                  <a:pt x="823" y="288"/>
                </a:lnTo>
                <a:lnTo>
                  <a:pt x="818" y="313"/>
                </a:lnTo>
                <a:lnTo>
                  <a:pt x="810" y="338"/>
                </a:lnTo>
                <a:lnTo>
                  <a:pt x="804" y="365"/>
                </a:lnTo>
                <a:lnTo>
                  <a:pt x="797" y="394"/>
                </a:lnTo>
                <a:lnTo>
                  <a:pt x="789" y="421"/>
                </a:lnTo>
                <a:lnTo>
                  <a:pt x="781" y="450"/>
                </a:lnTo>
                <a:lnTo>
                  <a:pt x="772" y="476"/>
                </a:lnTo>
                <a:lnTo>
                  <a:pt x="762" y="503"/>
                </a:lnTo>
                <a:lnTo>
                  <a:pt x="752" y="528"/>
                </a:lnTo>
                <a:lnTo>
                  <a:pt x="741" y="553"/>
                </a:lnTo>
                <a:lnTo>
                  <a:pt x="729" y="578"/>
                </a:lnTo>
                <a:lnTo>
                  <a:pt x="718" y="603"/>
                </a:lnTo>
                <a:lnTo>
                  <a:pt x="706" y="626"/>
                </a:lnTo>
                <a:lnTo>
                  <a:pt x="695" y="649"/>
                </a:lnTo>
                <a:lnTo>
                  <a:pt x="681" y="670"/>
                </a:lnTo>
                <a:lnTo>
                  <a:pt x="668" y="693"/>
                </a:lnTo>
                <a:lnTo>
                  <a:pt x="656" y="714"/>
                </a:lnTo>
                <a:lnTo>
                  <a:pt x="641" y="734"/>
                </a:lnTo>
                <a:lnTo>
                  <a:pt x="628" y="755"/>
                </a:lnTo>
                <a:lnTo>
                  <a:pt x="614" y="774"/>
                </a:lnTo>
                <a:lnTo>
                  <a:pt x="599" y="793"/>
                </a:lnTo>
                <a:lnTo>
                  <a:pt x="585" y="810"/>
                </a:lnTo>
                <a:lnTo>
                  <a:pt x="570" y="828"/>
                </a:lnTo>
                <a:lnTo>
                  <a:pt x="555" y="845"/>
                </a:lnTo>
                <a:lnTo>
                  <a:pt x="539" y="862"/>
                </a:lnTo>
                <a:lnTo>
                  <a:pt x="524" y="878"/>
                </a:lnTo>
                <a:lnTo>
                  <a:pt x="507" y="893"/>
                </a:lnTo>
                <a:lnTo>
                  <a:pt x="476" y="922"/>
                </a:lnTo>
                <a:lnTo>
                  <a:pt x="443" y="951"/>
                </a:lnTo>
                <a:lnTo>
                  <a:pt x="411" y="977"/>
                </a:lnTo>
                <a:lnTo>
                  <a:pt x="378" y="10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55"/>
          <p:cNvSpPr/>
          <p:nvPr/>
        </p:nvSpPr>
        <p:spPr>
          <a:xfrm>
            <a:off x="6622920" y="4092480"/>
            <a:ext cx="1176480" cy="920880"/>
          </a:xfrm>
          <a:custGeom>
            <a:avLst/>
            <a:gdLst/>
            <a:ahLst/>
            <a:rect l="l" t="t" r="r" b="b"/>
            <a:pathLst>
              <a:path w="1482" h="1159">
                <a:moveTo>
                  <a:pt x="1042" y="1159"/>
                </a:moveTo>
                <a:lnTo>
                  <a:pt x="1019" y="1157"/>
                </a:lnTo>
                <a:lnTo>
                  <a:pt x="998" y="1155"/>
                </a:lnTo>
                <a:lnTo>
                  <a:pt x="979" y="1153"/>
                </a:lnTo>
                <a:lnTo>
                  <a:pt x="960" y="1149"/>
                </a:lnTo>
                <a:lnTo>
                  <a:pt x="950" y="1148"/>
                </a:lnTo>
                <a:lnTo>
                  <a:pt x="943" y="1146"/>
                </a:lnTo>
                <a:lnTo>
                  <a:pt x="935" y="1144"/>
                </a:lnTo>
                <a:lnTo>
                  <a:pt x="927" y="1142"/>
                </a:lnTo>
                <a:lnTo>
                  <a:pt x="922" y="1140"/>
                </a:lnTo>
                <a:lnTo>
                  <a:pt x="916" y="1138"/>
                </a:lnTo>
                <a:lnTo>
                  <a:pt x="910" y="1134"/>
                </a:lnTo>
                <a:lnTo>
                  <a:pt x="904" y="1132"/>
                </a:lnTo>
                <a:lnTo>
                  <a:pt x="900" y="1128"/>
                </a:lnTo>
                <a:lnTo>
                  <a:pt x="893" y="1125"/>
                </a:lnTo>
                <a:lnTo>
                  <a:pt x="887" y="1119"/>
                </a:lnTo>
                <a:lnTo>
                  <a:pt x="879" y="1113"/>
                </a:lnTo>
                <a:lnTo>
                  <a:pt x="870" y="1105"/>
                </a:lnTo>
                <a:lnTo>
                  <a:pt x="860" y="1096"/>
                </a:lnTo>
                <a:lnTo>
                  <a:pt x="851" y="1086"/>
                </a:lnTo>
                <a:lnTo>
                  <a:pt x="839" y="1075"/>
                </a:lnTo>
                <a:lnTo>
                  <a:pt x="828" y="1063"/>
                </a:lnTo>
                <a:lnTo>
                  <a:pt x="816" y="1050"/>
                </a:lnTo>
                <a:lnTo>
                  <a:pt x="803" y="1036"/>
                </a:lnTo>
                <a:lnTo>
                  <a:pt x="789" y="1021"/>
                </a:lnTo>
                <a:lnTo>
                  <a:pt x="776" y="1006"/>
                </a:lnTo>
                <a:lnTo>
                  <a:pt x="760" y="988"/>
                </a:lnTo>
                <a:lnTo>
                  <a:pt x="745" y="969"/>
                </a:lnTo>
                <a:lnTo>
                  <a:pt x="730" y="950"/>
                </a:lnTo>
                <a:lnTo>
                  <a:pt x="691" y="911"/>
                </a:lnTo>
                <a:lnTo>
                  <a:pt x="657" y="873"/>
                </a:lnTo>
                <a:lnTo>
                  <a:pt x="622" y="837"/>
                </a:lnTo>
                <a:lnTo>
                  <a:pt x="589" y="802"/>
                </a:lnTo>
                <a:lnTo>
                  <a:pt x="574" y="785"/>
                </a:lnTo>
                <a:lnTo>
                  <a:pt x="559" y="768"/>
                </a:lnTo>
                <a:lnTo>
                  <a:pt x="543" y="750"/>
                </a:lnTo>
                <a:lnTo>
                  <a:pt x="530" y="733"/>
                </a:lnTo>
                <a:lnTo>
                  <a:pt x="515" y="716"/>
                </a:lnTo>
                <a:lnTo>
                  <a:pt x="503" y="698"/>
                </a:lnTo>
                <a:lnTo>
                  <a:pt x="490" y="681"/>
                </a:lnTo>
                <a:lnTo>
                  <a:pt x="478" y="664"/>
                </a:lnTo>
                <a:lnTo>
                  <a:pt x="467" y="649"/>
                </a:lnTo>
                <a:lnTo>
                  <a:pt x="453" y="633"/>
                </a:lnTo>
                <a:lnTo>
                  <a:pt x="440" y="616"/>
                </a:lnTo>
                <a:lnTo>
                  <a:pt x="426" y="601"/>
                </a:lnTo>
                <a:lnTo>
                  <a:pt x="411" y="581"/>
                </a:lnTo>
                <a:lnTo>
                  <a:pt x="396" y="564"/>
                </a:lnTo>
                <a:lnTo>
                  <a:pt x="380" y="545"/>
                </a:lnTo>
                <a:lnTo>
                  <a:pt x="365" y="526"/>
                </a:lnTo>
                <a:lnTo>
                  <a:pt x="348" y="505"/>
                </a:lnTo>
                <a:lnTo>
                  <a:pt x="330" y="483"/>
                </a:lnTo>
                <a:lnTo>
                  <a:pt x="311" y="462"/>
                </a:lnTo>
                <a:lnTo>
                  <a:pt x="294" y="439"/>
                </a:lnTo>
                <a:lnTo>
                  <a:pt x="275" y="414"/>
                </a:lnTo>
                <a:lnTo>
                  <a:pt x="256" y="389"/>
                </a:lnTo>
                <a:lnTo>
                  <a:pt x="234" y="364"/>
                </a:lnTo>
                <a:lnTo>
                  <a:pt x="213" y="338"/>
                </a:lnTo>
                <a:lnTo>
                  <a:pt x="194" y="315"/>
                </a:lnTo>
                <a:lnTo>
                  <a:pt x="175" y="291"/>
                </a:lnTo>
                <a:lnTo>
                  <a:pt x="156" y="270"/>
                </a:lnTo>
                <a:lnTo>
                  <a:pt x="138" y="249"/>
                </a:lnTo>
                <a:lnTo>
                  <a:pt x="123" y="232"/>
                </a:lnTo>
                <a:lnTo>
                  <a:pt x="108" y="213"/>
                </a:lnTo>
                <a:lnTo>
                  <a:pt x="92" y="197"/>
                </a:lnTo>
                <a:lnTo>
                  <a:pt x="79" y="182"/>
                </a:lnTo>
                <a:lnTo>
                  <a:pt x="67" y="169"/>
                </a:lnTo>
                <a:lnTo>
                  <a:pt x="54" y="155"/>
                </a:lnTo>
                <a:lnTo>
                  <a:pt x="44" y="144"/>
                </a:lnTo>
                <a:lnTo>
                  <a:pt x="33" y="134"/>
                </a:lnTo>
                <a:lnTo>
                  <a:pt x="25" y="124"/>
                </a:lnTo>
                <a:lnTo>
                  <a:pt x="16" y="117"/>
                </a:lnTo>
                <a:lnTo>
                  <a:pt x="8" y="109"/>
                </a:lnTo>
                <a:lnTo>
                  <a:pt x="0" y="103"/>
                </a:lnTo>
                <a:lnTo>
                  <a:pt x="39" y="52"/>
                </a:lnTo>
                <a:lnTo>
                  <a:pt x="58" y="27"/>
                </a:lnTo>
                <a:lnTo>
                  <a:pt x="75" y="0"/>
                </a:lnTo>
                <a:lnTo>
                  <a:pt x="110" y="44"/>
                </a:lnTo>
                <a:lnTo>
                  <a:pt x="144" y="86"/>
                </a:lnTo>
                <a:lnTo>
                  <a:pt x="179" y="128"/>
                </a:lnTo>
                <a:lnTo>
                  <a:pt x="213" y="169"/>
                </a:lnTo>
                <a:lnTo>
                  <a:pt x="248" y="209"/>
                </a:lnTo>
                <a:lnTo>
                  <a:pt x="282" y="247"/>
                </a:lnTo>
                <a:lnTo>
                  <a:pt x="315" y="284"/>
                </a:lnTo>
                <a:lnTo>
                  <a:pt x="348" y="320"/>
                </a:lnTo>
                <a:lnTo>
                  <a:pt x="382" y="355"/>
                </a:lnTo>
                <a:lnTo>
                  <a:pt x="415" y="389"/>
                </a:lnTo>
                <a:lnTo>
                  <a:pt x="447" y="424"/>
                </a:lnTo>
                <a:lnTo>
                  <a:pt x="478" y="455"/>
                </a:lnTo>
                <a:lnTo>
                  <a:pt x="511" y="485"/>
                </a:lnTo>
                <a:lnTo>
                  <a:pt x="542" y="516"/>
                </a:lnTo>
                <a:lnTo>
                  <a:pt x="572" y="545"/>
                </a:lnTo>
                <a:lnTo>
                  <a:pt x="603" y="572"/>
                </a:lnTo>
                <a:lnTo>
                  <a:pt x="634" y="599"/>
                </a:lnTo>
                <a:lnTo>
                  <a:pt x="666" y="625"/>
                </a:lnTo>
                <a:lnTo>
                  <a:pt x="697" y="650"/>
                </a:lnTo>
                <a:lnTo>
                  <a:pt x="730" y="675"/>
                </a:lnTo>
                <a:lnTo>
                  <a:pt x="764" y="698"/>
                </a:lnTo>
                <a:lnTo>
                  <a:pt x="797" y="721"/>
                </a:lnTo>
                <a:lnTo>
                  <a:pt x="831" y="744"/>
                </a:lnTo>
                <a:lnTo>
                  <a:pt x="866" y="766"/>
                </a:lnTo>
                <a:lnTo>
                  <a:pt x="902" y="787"/>
                </a:lnTo>
                <a:lnTo>
                  <a:pt x="939" y="808"/>
                </a:lnTo>
                <a:lnTo>
                  <a:pt x="975" y="827"/>
                </a:lnTo>
                <a:lnTo>
                  <a:pt x="1014" y="844"/>
                </a:lnTo>
                <a:lnTo>
                  <a:pt x="1052" y="863"/>
                </a:lnTo>
                <a:lnTo>
                  <a:pt x="1090" y="879"/>
                </a:lnTo>
                <a:lnTo>
                  <a:pt x="1129" y="896"/>
                </a:lnTo>
                <a:lnTo>
                  <a:pt x="1169" y="911"/>
                </a:lnTo>
                <a:lnTo>
                  <a:pt x="1188" y="919"/>
                </a:lnTo>
                <a:lnTo>
                  <a:pt x="1208" y="929"/>
                </a:lnTo>
                <a:lnTo>
                  <a:pt x="1225" y="936"/>
                </a:lnTo>
                <a:lnTo>
                  <a:pt x="1244" y="944"/>
                </a:lnTo>
                <a:lnTo>
                  <a:pt x="1259" y="952"/>
                </a:lnTo>
                <a:lnTo>
                  <a:pt x="1277" y="959"/>
                </a:lnTo>
                <a:lnTo>
                  <a:pt x="1292" y="965"/>
                </a:lnTo>
                <a:lnTo>
                  <a:pt x="1307" y="973"/>
                </a:lnTo>
                <a:lnTo>
                  <a:pt x="1323" y="979"/>
                </a:lnTo>
                <a:lnTo>
                  <a:pt x="1336" y="986"/>
                </a:lnTo>
                <a:lnTo>
                  <a:pt x="1350" y="992"/>
                </a:lnTo>
                <a:lnTo>
                  <a:pt x="1361" y="998"/>
                </a:lnTo>
                <a:lnTo>
                  <a:pt x="1373" y="1004"/>
                </a:lnTo>
                <a:lnTo>
                  <a:pt x="1384" y="1009"/>
                </a:lnTo>
                <a:lnTo>
                  <a:pt x="1396" y="1015"/>
                </a:lnTo>
                <a:lnTo>
                  <a:pt x="1405" y="1021"/>
                </a:lnTo>
                <a:lnTo>
                  <a:pt x="1415" y="1025"/>
                </a:lnTo>
                <a:lnTo>
                  <a:pt x="1424" y="1030"/>
                </a:lnTo>
                <a:lnTo>
                  <a:pt x="1432" y="1034"/>
                </a:lnTo>
                <a:lnTo>
                  <a:pt x="1440" y="1040"/>
                </a:lnTo>
                <a:lnTo>
                  <a:pt x="1446" y="1044"/>
                </a:lnTo>
                <a:lnTo>
                  <a:pt x="1453" y="1048"/>
                </a:lnTo>
                <a:lnTo>
                  <a:pt x="1459" y="1052"/>
                </a:lnTo>
                <a:lnTo>
                  <a:pt x="1463" y="1055"/>
                </a:lnTo>
                <a:lnTo>
                  <a:pt x="1469" y="1059"/>
                </a:lnTo>
                <a:lnTo>
                  <a:pt x="1472" y="1063"/>
                </a:lnTo>
                <a:lnTo>
                  <a:pt x="1474" y="1065"/>
                </a:lnTo>
                <a:lnTo>
                  <a:pt x="1478" y="1069"/>
                </a:lnTo>
                <a:lnTo>
                  <a:pt x="1480" y="1073"/>
                </a:lnTo>
                <a:lnTo>
                  <a:pt x="1482" y="1075"/>
                </a:lnTo>
                <a:lnTo>
                  <a:pt x="1482" y="1077"/>
                </a:lnTo>
                <a:lnTo>
                  <a:pt x="1482" y="1080"/>
                </a:lnTo>
                <a:lnTo>
                  <a:pt x="1482" y="1082"/>
                </a:lnTo>
                <a:lnTo>
                  <a:pt x="1480" y="1086"/>
                </a:lnTo>
                <a:lnTo>
                  <a:pt x="1476" y="1088"/>
                </a:lnTo>
                <a:lnTo>
                  <a:pt x="1472" y="1092"/>
                </a:lnTo>
                <a:lnTo>
                  <a:pt x="1467" y="1096"/>
                </a:lnTo>
                <a:lnTo>
                  <a:pt x="1461" y="1100"/>
                </a:lnTo>
                <a:lnTo>
                  <a:pt x="1453" y="1102"/>
                </a:lnTo>
                <a:lnTo>
                  <a:pt x="1444" y="1105"/>
                </a:lnTo>
                <a:lnTo>
                  <a:pt x="1432" y="1109"/>
                </a:lnTo>
                <a:lnTo>
                  <a:pt x="1421" y="1113"/>
                </a:lnTo>
                <a:lnTo>
                  <a:pt x="1407" y="1117"/>
                </a:lnTo>
                <a:lnTo>
                  <a:pt x="1392" y="1121"/>
                </a:lnTo>
                <a:lnTo>
                  <a:pt x="1376" y="1123"/>
                </a:lnTo>
                <a:lnTo>
                  <a:pt x="1359" y="1126"/>
                </a:lnTo>
                <a:lnTo>
                  <a:pt x="1340" y="1130"/>
                </a:lnTo>
                <a:lnTo>
                  <a:pt x="1319" y="1132"/>
                </a:lnTo>
                <a:lnTo>
                  <a:pt x="1277" y="1136"/>
                </a:lnTo>
                <a:lnTo>
                  <a:pt x="1236" y="1140"/>
                </a:lnTo>
                <a:lnTo>
                  <a:pt x="1217" y="1142"/>
                </a:lnTo>
                <a:lnTo>
                  <a:pt x="1198" y="1142"/>
                </a:lnTo>
                <a:lnTo>
                  <a:pt x="1181" y="1144"/>
                </a:lnTo>
                <a:lnTo>
                  <a:pt x="1161" y="1146"/>
                </a:lnTo>
                <a:lnTo>
                  <a:pt x="1144" y="1146"/>
                </a:lnTo>
                <a:lnTo>
                  <a:pt x="1129" y="1148"/>
                </a:lnTo>
                <a:lnTo>
                  <a:pt x="1112" y="1149"/>
                </a:lnTo>
                <a:lnTo>
                  <a:pt x="1096" y="1149"/>
                </a:lnTo>
                <a:lnTo>
                  <a:pt x="1083" y="1151"/>
                </a:lnTo>
                <a:lnTo>
                  <a:pt x="1067" y="1153"/>
                </a:lnTo>
                <a:lnTo>
                  <a:pt x="1056" y="1155"/>
                </a:lnTo>
                <a:lnTo>
                  <a:pt x="1042" y="11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56"/>
          <p:cNvSpPr/>
          <p:nvPr/>
        </p:nvSpPr>
        <p:spPr>
          <a:xfrm>
            <a:off x="6742080" y="3743280"/>
            <a:ext cx="717480" cy="257400"/>
          </a:xfrm>
          <a:custGeom>
            <a:avLst/>
            <a:gdLst/>
            <a:ahLst/>
            <a:rect l="l" t="t" r="r" b="b"/>
            <a:pathLst>
              <a:path w="904" h="325">
                <a:moveTo>
                  <a:pt x="439" y="104"/>
                </a:moveTo>
                <a:lnTo>
                  <a:pt x="457" y="98"/>
                </a:lnTo>
                <a:lnTo>
                  <a:pt x="476" y="90"/>
                </a:lnTo>
                <a:lnTo>
                  <a:pt x="493" y="85"/>
                </a:lnTo>
                <a:lnTo>
                  <a:pt x="510" y="81"/>
                </a:lnTo>
                <a:lnTo>
                  <a:pt x="526" y="75"/>
                </a:lnTo>
                <a:lnTo>
                  <a:pt x="543" y="69"/>
                </a:lnTo>
                <a:lnTo>
                  <a:pt x="558" y="64"/>
                </a:lnTo>
                <a:lnTo>
                  <a:pt x="572" y="60"/>
                </a:lnTo>
                <a:lnTo>
                  <a:pt x="587" y="54"/>
                </a:lnTo>
                <a:lnTo>
                  <a:pt x="601" y="50"/>
                </a:lnTo>
                <a:lnTo>
                  <a:pt x="614" y="46"/>
                </a:lnTo>
                <a:lnTo>
                  <a:pt x="628" y="41"/>
                </a:lnTo>
                <a:lnTo>
                  <a:pt x="639" y="37"/>
                </a:lnTo>
                <a:lnTo>
                  <a:pt x="652" y="33"/>
                </a:lnTo>
                <a:lnTo>
                  <a:pt x="664" y="29"/>
                </a:lnTo>
                <a:lnTo>
                  <a:pt x="674" y="27"/>
                </a:lnTo>
                <a:lnTo>
                  <a:pt x="685" y="23"/>
                </a:lnTo>
                <a:lnTo>
                  <a:pt x="695" y="19"/>
                </a:lnTo>
                <a:lnTo>
                  <a:pt x="704" y="18"/>
                </a:lnTo>
                <a:lnTo>
                  <a:pt x="712" y="16"/>
                </a:lnTo>
                <a:lnTo>
                  <a:pt x="722" y="12"/>
                </a:lnTo>
                <a:lnTo>
                  <a:pt x="729" y="10"/>
                </a:lnTo>
                <a:lnTo>
                  <a:pt x="735" y="8"/>
                </a:lnTo>
                <a:lnTo>
                  <a:pt x="743" y="6"/>
                </a:lnTo>
                <a:lnTo>
                  <a:pt x="748" y="4"/>
                </a:lnTo>
                <a:lnTo>
                  <a:pt x="754" y="4"/>
                </a:lnTo>
                <a:lnTo>
                  <a:pt x="760" y="2"/>
                </a:lnTo>
                <a:lnTo>
                  <a:pt x="764" y="0"/>
                </a:lnTo>
                <a:lnTo>
                  <a:pt x="768" y="0"/>
                </a:lnTo>
                <a:lnTo>
                  <a:pt x="771" y="0"/>
                </a:lnTo>
                <a:lnTo>
                  <a:pt x="775" y="0"/>
                </a:lnTo>
                <a:lnTo>
                  <a:pt x="777" y="0"/>
                </a:lnTo>
                <a:lnTo>
                  <a:pt x="783" y="0"/>
                </a:lnTo>
                <a:lnTo>
                  <a:pt x="789" y="2"/>
                </a:lnTo>
                <a:lnTo>
                  <a:pt x="796" y="4"/>
                </a:lnTo>
                <a:lnTo>
                  <a:pt x="806" y="8"/>
                </a:lnTo>
                <a:lnTo>
                  <a:pt x="816" y="14"/>
                </a:lnTo>
                <a:lnTo>
                  <a:pt x="827" y="21"/>
                </a:lnTo>
                <a:lnTo>
                  <a:pt x="841" y="29"/>
                </a:lnTo>
                <a:lnTo>
                  <a:pt x="854" y="39"/>
                </a:lnTo>
                <a:lnTo>
                  <a:pt x="860" y="46"/>
                </a:lnTo>
                <a:lnTo>
                  <a:pt x="866" y="52"/>
                </a:lnTo>
                <a:lnTo>
                  <a:pt x="871" y="60"/>
                </a:lnTo>
                <a:lnTo>
                  <a:pt x="877" y="66"/>
                </a:lnTo>
                <a:lnTo>
                  <a:pt x="881" y="71"/>
                </a:lnTo>
                <a:lnTo>
                  <a:pt x="885" y="77"/>
                </a:lnTo>
                <a:lnTo>
                  <a:pt x="892" y="87"/>
                </a:lnTo>
                <a:lnTo>
                  <a:pt x="898" y="96"/>
                </a:lnTo>
                <a:lnTo>
                  <a:pt x="900" y="104"/>
                </a:lnTo>
                <a:lnTo>
                  <a:pt x="902" y="112"/>
                </a:lnTo>
                <a:lnTo>
                  <a:pt x="904" y="117"/>
                </a:lnTo>
                <a:lnTo>
                  <a:pt x="904" y="119"/>
                </a:lnTo>
                <a:lnTo>
                  <a:pt x="902" y="121"/>
                </a:lnTo>
                <a:lnTo>
                  <a:pt x="900" y="123"/>
                </a:lnTo>
                <a:lnTo>
                  <a:pt x="898" y="127"/>
                </a:lnTo>
                <a:lnTo>
                  <a:pt x="894" y="129"/>
                </a:lnTo>
                <a:lnTo>
                  <a:pt x="890" y="133"/>
                </a:lnTo>
                <a:lnTo>
                  <a:pt x="885" y="135"/>
                </a:lnTo>
                <a:lnTo>
                  <a:pt x="879" y="138"/>
                </a:lnTo>
                <a:lnTo>
                  <a:pt x="873" y="140"/>
                </a:lnTo>
                <a:lnTo>
                  <a:pt x="867" y="144"/>
                </a:lnTo>
                <a:lnTo>
                  <a:pt x="860" y="148"/>
                </a:lnTo>
                <a:lnTo>
                  <a:pt x="850" y="152"/>
                </a:lnTo>
                <a:lnTo>
                  <a:pt x="841" y="154"/>
                </a:lnTo>
                <a:lnTo>
                  <a:pt x="831" y="158"/>
                </a:lnTo>
                <a:lnTo>
                  <a:pt x="821" y="161"/>
                </a:lnTo>
                <a:lnTo>
                  <a:pt x="810" y="165"/>
                </a:lnTo>
                <a:lnTo>
                  <a:pt x="796" y="169"/>
                </a:lnTo>
                <a:lnTo>
                  <a:pt x="785" y="173"/>
                </a:lnTo>
                <a:lnTo>
                  <a:pt x="771" y="177"/>
                </a:lnTo>
                <a:lnTo>
                  <a:pt x="756" y="181"/>
                </a:lnTo>
                <a:lnTo>
                  <a:pt x="741" y="185"/>
                </a:lnTo>
                <a:lnTo>
                  <a:pt x="725" y="188"/>
                </a:lnTo>
                <a:lnTo>
                  <a:pt x="708" y="192"/>
                </a:lnTo>
                <a:lnTo>
                  <a:pt x="691" y="196"/>
                </a:lnTo>
                <a:lnTo>
                  <a:pt x="674" y="202"/>
                </a:lnTo>
                <a:lnTo>
                  <a:pt x="654" y="206"/>
                </a:lnTo>
                <a:lnTo>
                  <a:pt x="635" y="209"/>
                </a:lnTo>
                <a:lnTo>
                  <a:pt x="614" y="215"/>
                </a:lnTo>
                <a:lnTo>
                  <a:pt x="595" y="219"/>
                </a:lnTo>
                <a:lnTo>
                  <a:pt x="572" y="223"/>
                </a:lnTo>
                <a:lnTo>
                  <a:pt x="551" y="229"/>
                </a:lnTo>
                <a:lnTo>
                  <a:pt x="528" y="234"/>
                </a:lnTo>
                <a:lnTo>
                  <a:pt x="503" y="240"/>
                </a:lnTo>
                <a:lnTo>
                  <a:pt x="478" y="246"/>
                </a:lnTo>
                <a:lnTo>
                  <a:pt x="455" y="252"/>
                </a:lnTo>
                <a:lnTo>
                  <a:pt x="432" y="256"/>
                </a:lnTo>
                <a:lnTo>
                  <a:pt x="411" y="261"/>
                </a:lnTo>
                <a:lnTo>
                  <a:pt x="388" y="267"/>
                </a:lnTo>
                <a:lnTo>
                  <a:pt x="366" y="271"/>
                </a:lnTo>
                <a:lnTo>
                  <a:pt x="345" y="275"/>
                </a:lnTo>
                <a:lnTo>
                  <a:pt x="326" y="280"/>
                </a:lnTo>
                <a:lnTo>
                  <a:pt x="305" y="284"/>
                </a:lnTo>
                <a:lnTo>
                  <a:pt x="286" y="288"/>
                </a:lnTo>
                <a:lnTo>
                  <a:pt x="267" y="292"/>
                </a:lnTo>
                <a:lnTo>
                  <a:pt x="249" y="294"/>
                </a:lnTo>
                <a:lnTo>
                  <a:pt x="232" y="298"/>
                </a:lnTo>
                <a:lnTo>
                  <a:pt x="215" y="302"/>
                </a:lnTo>
                <a:lnTo>
                  <a:pt x="198" y="304"/>
                </a:lnTo>
                <a:lnTo>
                  <a:pt x="180" y="307"/>
                </a:lnTo>
                <a:lnTo>
                  <a:pt x="165" y="309"/>
                </a:lnTo>
                <a:lnTo>
                  <a:pt x="150" y="311"/>
                </a:lnTo>
                <a:lnTo>
                  <a:pt x="136" y="313"/>
                </a:lnTo>
                <a:lnTo>
                  <a:pt x="121" y="315"/>
                </a:lnTo>
                <a:lnTo>
                  <a:pt x="107" y="317"/>
                </a:lnTo>
                <a:lnTo>
                  <a:pt x="94" y="319"/>
                </a:lnTo>
                <a:lnTo>
                  <a:pt x="82" y="319"/>
                </a:lnTo>
                <a:lnTo>
                  <a:pt x="69" y="321"/>
                </a:lnTo>
                <a:lnTo>
                  <a:pt x="57" y="323"/>
                </a:lnTo>
                <a:lnTo>
                  <a:pt x="46" y="323"/>
                </a:lnTo>
                <a:lnTo>
                  <a:pt x="36" y="323"/>
                </a:lnTo>
                <a:lnTo>
                  <a:pt x="27" y="325"/>
                </a:lnTo>
                <a:lnTo>
                  <a:pt x="17" y="325"/>
                </a:lnTo>
                <a:lnTo>
                  <a:pt x="8" y="325"/>
                </a:lnTo>
                <a:lnTo>
                  <a:pt x="0" y="325"/>
                </a:lnTo>
                <a:lnTo>
                  <a:pt x="31" y="267"/>
                </a:lnTo>
                <a:lnTo>
                  <a:pt x="61" y="208"/>
                </a:lnTo>
                <a:lnTo>
                  <a:pt x="75" y="208"/>
                </a:lnTo>
                <a:lnTo>
                  <a:pt x="88" y="206"/>
                </a:lnTo>
                <a:lnTo>
                  <a:pt x="104" y="204"/>
                </a:lnTo>
                <a:lnTo>
                  <a:pt x="121" y="200"/>
                </a:lnTo>
                <a:lnTo>
                  <a:pt x="140" y="196"/>
                </a:lnTo>
                <a:lnTo>
                  <a:pt x="159" y="192"/>
                </a:lnTo>
                <a:lnTo>
                  <a:pt x="180" y="186"/>
                </a:lnTo>
                <a:lnTo>
                  <a:pt x="203" y="181"/>
                </a:lnTo>
                <a:lnTo>
                  <a:pt x="228" y="173"/>
                </a:lnTo>
                <a:lnTo>
                  <a:pt x="253" y="165"/>
                </a:lnTo>
                <a:lnTo>
                  <a:pt x="280" y="158"/>
                </a:lnTo>
                <a:lnTo>
                  <a:pt x="309" y="148"/>
                </a:lnTo>
                <a:lnTo>
                  <a:pt x="340" y="138"/>
                </a:lnTo>
                <a:lnTo>
                  <a:pt x="370" y="127"/>
                </a:lnTo>
                <a:lnTo>
                  <a:pt x="405" y="115"/>
                </a:lnTo>
                <a:lnTo>
                  <a:pt x="439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157"/>
          <p:cNvSpPr/>
          <p:nvPr/>
        </p:nvSpPr>
        <p:spPr>
          <a:xfrm>
            <a:off x="6540480" y="3398760"/>
            <a:ext cx="490680" cy="892080"/>
          </a:xfrm>
          <a:custGeom>
            <a:avLst/>
            <a:gdLst/>
            <a:ahLst/>
            <a:rect l="l" t="t" r="r" b="b"/>
            <a:pathLst>
              <a:path w="618" h="1125">
                <a:moveTo>
                  <a:pt x="368" y="263"/>
                </a:moveTo>
                <a:lnTo>
                  <a:pt x="370" y="248"/>
                </a:lnTo>
                <a:lnTo>
                  <a:pt x="372" y="231"/>
                </a:lnTo>
                <a:lnTo>
                  <a:pt x="372" y="217"/>
                </a:lnTo>
                <a:lnTo>
                  <a:pt x="374" y="202"/>
                </a:lnTo>
                <a:lnTo>
                  <a:pt x="376" y="189"/>
                </a:lnTo>
                <a:lnTo>
                  <a:pt x="376" y="177"/>
                </a:lnTo>
                <a:lnTo>
                  <a:pt x="376" y="166"/>
                </a:lnTo>
                <a:lnTo>
                  <a:pt x="376" y="154"/>
                </a:lnTo>
                <a:lnTo>
                  <a:pt x="376" y="142"/>
                </a:lnTo>
                <a:lnTo>
                  <a:pt x="376" y="133"/>
                </a:lnTo>
                <a:lnTo>
                  <a:pt x="376" y="123"/>
                </a:lnTo>
                <a:lnTo>
                  <a:pt x="374" y="114"/>
                </a:lnTo>
                <a:lnTo>
                  <a:pt x="372" y="96"/>
                </a:lnTo>
                <a:lnTo>
                  <a:pt x="368" y="83"/>
                </a:lnTo>
                <a:lnTo>
                  <a:pt x="362" y="68"/>
                </a:lnTo>
                <a:lnTo>
                  <a:pt x="360" y="54"/>
                </a:lnTo>
                <a:lnTo>
                  <a:pt x="359" y="43"/>
                </a:lnTo>
                <a:lnTo>
                  <a:pt x="359" y="33"/>
                </a:lnTo>
                <a:lnTo>
                  <a:pt x="362" y="23"/>
                </a:lnTo>
                <a:lnTo>
                  <a:pt x="362" y="20"/>
                </a:lnTo>
                <a:lnTo>
                  <a:pt x="366" y="16"/>
                </a:lnTo>
                <a:lnTo>
                  <a:pt x="368" y="12"/>
                </a:lnTo>
                <a:lnTo>
                  <a:pt x="372" y="10"/>
                </a:lnTo>
                <a:lnTo>
                  <a:pt x="376" y="6"/>
                </a:lnTo>
                <a:lnTo>
                  <a:pt x="380" y="4"/>
                </a:lnTo>
                <a:lnTo>
                  <a:pt x="382" y="2"/>
                </a:lnTo>
                <a:lnTo>
                  <a:pt x="385" y="0"/>
                </a:lnTo>
                <a:lnTo>
                  <a:pt x="391" y="0"/>
                </a:lnTo>
                <a:lnTo>
                  <a:pt x="397" y="0"/>
                </a:lnTo>
                <a:lnTo>
                  <a:pt x="403" y="2"/>
                </a:lnTo>
                <a:lnTo>
                  <a:pt x="408" y="4"/>
                </a:lnTo>
                <a:lnTo>
                  <a:pt x="416" y="6"/>
                </a:lnTo>
                <a:lnTo>
                  <a:pt x="426" y="10"/>
                </a:lnTo>
                <a:lnTo>
                  <a:pt x="435" y="14"/>
                </a:lnTo>
                <a:lnTo>
                  <a:pt x="445" y="18"/>
                </a:lnTo>
                <a:lnTo>
                  <a:pt x="454" y="23"/>
                </a:lnTo>
                <a:lnTo>
                  <a:pt x="466" y="29"/>
                </a:lnTo>
                <a:lnTo>
                  <a:pt x="478" y="35"/>
                </a:lnTo>
                <a:lnTo>
                  <a:pt x="491" y="41"/>
                </a:lnTo>
                <a:lnTo>
                  <a:pt x="504" y="48"/>
                </a:lnTo>
                <a:lnTo>
                  <a:pt x="518" y="56"/>
                </a:lnTo>
                <a:lnTo>
                  <a:pt x="529" y="64"/>
                </a:lnTo>
                <a:lnTo>
                  <a:pt x="541" y="71"/>
                </a:lnTo>
                <a:lnTo>
                  <a:pt x="550" y="77"/>
                </a:lnTo>
                <a:lnTo>
                  <a:pt x="560" y="85"/>
                </a:lnTo>
                <a:lnTo>
                  <a:pt x="570" y="93"/>
                </a:lnTo>
                <a:lnTo>
                  <a:pt x="577" y="98"/>
                </a:lnTo>
                <a:lnTo>
                  <a:pt x="585" y="106"/>
                </a:lnTo>
                <a:lnTo>
                  <a:pt x="591" y="114"/>
                </a:lnTo>
                <a:lnTo>
                  <a:pt x="598" y="119"/>
                </a:lnTo>
                <a:lnTo>
                  <a:pt x="602" y="125"/>
                </a:lnTo>
                <a:lnTo>
                  <a:pt x="608" y="133"/>
                </a:lnTo>
                <a:lnTo>
                  <a:pt x="612" y="139"/>
                </a:lnTo>
                <a:lnTo>
                  <a:pt x="614" y="144"/>
                </a:lnTo>
                <a:lnTo>
                  <a:pt x="616" y="150"/>
                </a:lnTo>
                <a:lnTo>
                  <a:pt x="618" y="154"/>
                </a:lnTo>
                <a:lnTo>
                  <a:pt x="618" y="160"/>
                </a:lnTo>
                <a:lnTo>
                  <a:pt x="618" y="175"/>
                </a:lnTo>
                <a:lnTo>
                  <a:pt x="616" y="189"/>
                </a:lnTo>
                <a:lnTo>
                  <a:pt x="612" y="204"/>
                </a:lnTo>
                <a:lnTo>
                  <a:pt x="608" y="219"/>
                </a:lnTo>
                <a:lnTo>
                  <a:pt x="604" y="233"/>
                </a:lnTo>
                <a:lnTo>
                  <a:pt x="597" y="248"/>
                </a:lnTo>
                <a:lnTo>
                  <a:pt x="589" y="263"/>
                </a:lnTo>
                <a:lnTo>
                  <a:pt x="581" y="277"/>
                </a:lnTo>
                <a:lnTo>
                  <a:pt x="575" y="288"/>
                </a:lnTo>
                <a:lnTo>
                  <a:pt x="570" y="298"/>
                </a:lnTo>
                <a:lnTo>
                  <a:pt x="564" y="311"/>
                </a:lnTo>
                <a:lnTo>
                  <a:pt x="556" y="323"/>
                </a:lnTo>
                <a:lnTo>
                  <a:pt x="550" y="338"/>
                </a:lnTo>
                <a:lnTo>
                  <a:pt x="541" y="354"/>
                </a:lnTo>
                <a:lnTo>
                  <a:pt x="533" y="369"/>
                </a:lnTo>
                <a:lnTo>
                  <a:pt x="524" y="386"/>
                </a:lnTo>
                <a:lnTo>
                  <a:pt x="514" y="404"/>
                </a:lnTo>
                <a:lnTo>
                  <a:pt x="504" y="423"/>
                </a:lnTo>
                <a:lnTo>
                  <a:pt x="493" y="444"/>
                </a:lnTo>
                <a:lnTo>
                  <a:pt x="481" y="465"/>
                </a:lnTo>
                <a:lnTo>
                  <a:pt x="470" y="488"/>
                </a:lnTo>
                <a:lnTo>
                  <a:pt x="456" y="513"/>
                </a:lnTo>
                <a:lnTo>
                  <a:pt x="443" y="538"/>
                </a:lnTo>
                <a:lnTo>
                  <a:pt x="430" y="563"/>
                </a:lnTo>
                <a:lnTo>
                  <a:pt x="401" y="617"/>
                </a:lnTo>
                <a:lnTo>
                  <a:pt x="372" y="670"/>
                </a:lnTo>
                <a:lnTo>
                  <a:pt x="341" y="724"/>
                </a:lnTo>
                <a:lnTo>
                  <a:pt x="309" y="774"/>
                </a:lnTo>
                <a:lnTo>
                  <a:pt x="276" y="826"/>
                </a:lnTo>
                <a:lnTo>
                  <a:pt x="243" y="874"/>
                </a:lnTo>
                <a:lnTo>
                  <a:pt x="228" y="899"/>
                </a:lnTo>
                <a:lnTo>
                  <a:pt x="211" y="922"/>
                </a:lnTo>
                <a:lnTo>
                  <a:pt x="195" y="945"/>
                </a:lnTo>
                <a:lnTo>
                  <a:pt x="178" y="968"/>
                </a:lnTo>
                <a:lnTo>
                  <a:pt x="161" y="989"/>
                </a:lnTo>
                <a:lnTo>
                  <a:pt x="144" y="1008"/>
                </a:lnTo>
                <a:lnTo>
                  <a:pt x="126" y="1025"/>
                </a:lnTo>
                <a:lnTo>
                  <a:pt x="111" y="1043"/>
                </a:lnTo>
                <a:lnTo>
                  <a:pt x="96" y="1058"/>
                </a:lnTo>
                <a:lnTo>
                  <a:pt x="82" y="1072"/>
                </a:lnTo>
                <a:lnTo>
                  <a:pt x="71" y="1083"/>
                </a:lnTo>
                <a:lnTo>
                  <a:pt x="59" y="1095"/>
                </a:lnTo>
                <a:lnTo>
                  <a:pt x="48" y="1102"/>
                </a:lnTo>
                <a:lnTo>
                  <a:pt x="38" y="1110"/>
                </a:lnTo>
                <a:lnTo>
                  <a:pt x="28" y="1116"/>
                </a:lnTo>
                <a:lnTo>
                  <a:pt x="23" y="1121"/>
                </a:lnTo>
                <a:lnTo>
                  <a:pt x="15" y="1123"/>
                </a:lnTo>
                <a:lnTo>
                  <a:pt x="9" y="1125"/>
                </a:lnTo>
                <a:lnTo>
                  <a:pt x="5" y="1125"/>
                </a:lnTo>
                <a:lnTo>
                  <a:pt x="3" y="1123"/>
                </a:lnTo>
                <a:lnTo>
                  <a:pt x="1" y="1120"/>
                </a:lnTo>
                <a:lnTo>
                  <a:pt x="0" y="1116"/>
                </a:lnTo>
                <a:lnTo>
                  <a:pt x="0" y="1110"/>
                </a:lnTo>
                <a:lnTo>
                  <a:pt x="1" y="1104"/>
                </a:lnTo>
                <a:lnTo>
                  <a:pt x="3" y="1096"/>
                </a:lnTo>
                <a:lnTo>
                  <a:pt x="5" y="1087"/>
                </a:lnTo>
                <a:lnTo>
                  <a:pt x="9" y="1075"/>
                </a:lnTo>
                <a:lnTo>
                  <a:pt x="15" y="1064"/>
                </a:lnTo>
                <a:lnTo>
                  <a:pt x="21" y="1052"/>
                </a:lnTo>
                <a:lnTo>
                  <a:pt x="26" y="1039"/>
                </a:lnTo>
                <a:lnTo>
                  <a:pt x="34" y="1024"/>
                </a:lnTo>
                <a:lnTo>
                  <a:pt x="44" y="1006"/>
                </a:lnTo>
                <a:lnTo>
                  <a:pt x="53" y="989"/>
                </a:lnTo>
                <a:lnTo>
                  <a:pt x="65" y="970"/>
                </a:lnTo>
                <a:lnTo>
                  <a:pt x="78" y="949"/>
                </a:lnTo>
                <a:lnTo>
                  <a:pt x="92" y="928"/>
                </a:lnTo>
                <a:lnTo>
                  <a:pt x="115" y="883"/>
                </a:lnTo>
                <a:lnTo>
                  <a:pt x="138" y="837"/>
                </a:lnTo>
                <a:lnTo>
                  <a:pt x="161" y="791"/>
                </a:lnTo>
                <a:lnTo>
                  <a:pt x="186" y="745"/>
                </a:lnTo>
                <a:lnTo>
                  <a:pt x="209" y="699"/>
                </a:lnTo>
                <a:lnTo>
                  <a:pt x="232" y="653"/>
                </a:lnTo>
                <a:lnTo>
                  <a:pt x="257" y="607"/>
                </a:lnTo>
                <a:lnTo>
                  <a:pt x="280" y="563"/>
                </a:lnTo>
                <a:lnTo>
                  <a:pt x="287" y="542"/>
                </a:lnTo>
                <a:lnTo>
                  <a:pt x="297" y="521"/>
                </a:lnTo>
                <a:lnTo>
                  <a:pt x="305" y="500"/>
                </a:lnTo>
                <a:lnTo>
                  <a:pt x="312" y="480"/>
                </a:lnTo>
                <a:lnTo>
                  <a:pt x="318" y="461"/>
                </a:lnTo>
                <a:lnTo>
                  <a:pt x="326" y="442"/>
                </a:lnTo>
                <a:lnTo>
                  <a:pt x="337" y="404"/>
                </a:lnTo>
                <a:lnTo>
                  <a:pt x="347" y="367"/>
                </a:lnTo>
                <a:lnTo>
                  <a:pt x="355" y="333"/>
                </a:lnTo>
                <a:lnTo>
                  <a:pt x="362" y="298"/>
                </a:lnTo>
                <a:lnTo>
                  <a:pt x="368" y="2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58"/>
          <p:cNvSpPr/>
          <p:nvPr/>
        </p:nvSpPr>
        <p:spPr>
          <a:xfrm>
            <a:off x="6154560" y="4289400"/>
            <a:ext cx="130320" cy="233280"/>
          </a:xfrm>
          <a:custGeom>
            <a:avLst/>
            <a:gdLst/>
            <a:ahLst/>
            <a:rect l="l" t="t" r="r" b="b"/>
            <a:pathLst>
              <a:path w="163" h="294">
                <a:moveTo>
                  <a:pt x="0" y="0"/>
                </a:moveTo>
                <a:lnTo>
                  <a:pt x="13" y="0"/>
                </a:lnTo>
                <a:lnTo>
                  <a:pt x="27" y="2"/>
                </a:lnTo>
                <a:lnTo>
                  <a:pt x="42" y="6"/>
                </a:lnTo>
                <a:lnTo>
                  <a:pt x="56" y="12"/>
                </a:lnTo>
                <a:lnTo>
                  <a:pt x="63" y="14"/>
                </a:lnTo>
                <a:lnTo>
                  <a:pt x="69" y="18"/>
                </a:lnTo>
                <a:lnTo>
                  <a:pt x="77" y="23"/>
                </a:lnTo>
                <a:lnTo>
                  <a:pt x="84" y="27"/>
                </a:lnTo>
                <a:lnTo>
                  <a:pt x="90" y="33"/>
                </a:lnTo>
                <a:lnTo>
                  <a:pt x="98" y="39"/>
                </a:lnTo>
                <a:lnTo>
                  <a:pt x="106" y="44"/>
                </a:lnTo>
                <a:lnTo>
                  <a:pt x="111" y="52"/>
                </a:lnTo>
                <a:lnTo>
                  <a:pt x="119" y="60"/>
                </a:lnTo>
                <a:lnTo>
                  <a:pt x="125" y="68"/>
                </a:lnTo>
                <a:lnTo>
                  <a:pt x="130" y="75"/>
                </a:lnTo>
                <a:lnTo>
                  <a:pt x="136" y="81"/>
                </a:lnTo>
                <a:lnTo>
                  <a:pt x="140" y="89"/>
                </a:lnTo>
                <a:lnTo>
                  <a:pt x="144" y="96"/>
                </a:lnTo>
                <a:lnTo>
                  <a:pt x="152" y="112"/>
                </a:lnTo>
                <a:lnTo>
                  <a:pt x="155" y="129"/>
                </a:lnTo>
                <a:lnTo>
                  <a:pt x="159" y="146"/>
                </a:lnTo>
                <a:lnTo>
                  <a:pt x="161" y="163"/>
                </a:lnTo>
                <a:lnTo>
                  <a:pt x="163" y="183"/>
                </a:lnTo>
                <a:lnTo>
                  <a:pt x="163" y="194"/>
                </a:lnTo>
                <a:lnTo>
                  <a:pt x="163" y="206"/>
                </a:lnTo>
                <a:lnTo>
                  <a:pt x="161" y="215"/>
                </a:lnTo>
                <a:lnTo>
                  <a:pt x="161" y="225"/>
                </a:lnTo>
                <a:lnTo>
                  <a:pt x="161" y="233"/>
                </a:lnTo>
                <a:lnTo>
                  <a:pt x="161" y="240"/>
                </a:lnTo>
                <a:lnTo>
                  <a:pt x="161" y="248"/>
                </a:lnTo>
                <a:lnTo>
                  <a:pt x="161" y="254"/>
                </a:lnTo>
                <a:lnTo>
                  <a:pt x="159" y="259"/>
                </a:lnTo>
                <a:lnTo>
                  <a:pt x="159" y="265"/>
                </a:lnTo>
                <a:lnTo>
                  <a:pt x="157" y="269"/>
                </a:lnTo>
                <a:lnTo>
                  <a:pt x="157" y="273"/>
                </a:lnTo>
                <a:lnTo>
                  <a:pt x="153" y="281"/>
                </a:lnTo>
                <a:lnTo>
                  <a:pt x="150" y="286"/>
                </a:lnTo>
                <a:lnTo>
                  <a:pt x="146" y="290"/>
                </a:lnTo>
                <a:lnTo>
                  <a:pt x="140" y="294"/>
                </a:lnTo>
                <a:lnTo>
                  <a:pt x="134" y="294"/>
                </a:lnTo>
                <a:lnTo>
                  <a:pt x="129" y="294"/>
                </a:lnTo>
                <a:lnTo>
                  <a:pt x="127" y="294"/>
                </a:lnTo>
                <a:lnTo>
                  <a:pt x="123" y="292"/>
                </a:lnTo>
                <a:lnTo>
                  <a:pt x="119" y="290"/>
                </a:lnTo>
                <a:lnTo>
                  <a:pt x="115" y="288"/>
                </a:lnTo>
                <a:lnTo>
                  <a:pt x="111" y="286"/>
                </a:lnTo>
                <a:lnTo>
                  <a:pt x="107" y="283"/>
                </a:lnTo>
                <a:lnTo>
                  <a:pt x="104" y="279"/>
                </a:lnTo>
                <a:lnTo>
                  <a:pt x="100" y="273"/>
                </a:lnTo>
                <a:lnTo>
                  <a:pt x="94" y="269"/>
                </a:lnTo>
                <a:lnTo>
                  <a:pt x="90" y="265"/>
                </a:lnTo>
                <a:lnTo>
                  <a:pt x="84" y="258"/>
                </a:lnTo>
                <a:lnTo>
                  <a:pt x="79" y="248"/>
                </a:lnTo>
                <a:lnTo>
                  <a:pt x="73" y="238"/>
                </a:lnTo>
                <a:lnTo>
                  <a:pt x="67" y="225"/>
                </a:lnTo>
                <a:lnTo>
                  <a:pt x="59" y="211"/>
                </a:lnTo>
                <a:lnTo>
                  <a:pt x="54" y="194"/>
                </a:lnTo>
                <a:lnTo>
                  <a:pt x="48" y="177"/>
                </a:lnTo>
                <a:lnTo>
                  <a:pt x="40" y="158"/>
                </a:lnTo>
                <a:lnTo>
                  <a:pt x="34" y="137"/>
                </a:lnTo>
                <a:lnTo>
                  <a:pt x="27" y="112"/>
                </a:lnTo>
                <a:lnTo>
                  <a:pt x="19" y="87"/>
                </a:lnTo>
                <a:lnTo>
                  <a:pt x="13" y="60"/>
                </a:lnTo>
                <a:lnTo>
                  <a:pt x="6" y="31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59"/>
          <p:cNvSpPr/>
          <p:nvPr/>
        </p:nvSpPr>
        <p:spPr>
          <a:xfrm>
            <a:off x="5738760" y="4278240"/>
            <a:ext cx="216000" cy="376200"/>
          </a:xfrm>
          <a:custGeom>
            <a:avLst/>
            <a:gdLst/>
            <a:ahLst/>
            <a:rect l="l" t="t" r="r" b="b"/>
            <a:pathLst>
              <a:path w="272" h="472">
                <a:moveTo>
                  <a:pt x="33" y="351"/>
                </a:moveTo>
                <a:lnTo>
                  <a:pt x="46" y="322"/>
                </a:lnTo>
                <a:lnTo>
                  <a:pt x="59" y="296"/>
                </a:lnTo>
                <a:lnTo>
                  <a:pt x="69" y="271"/>
                </a:lnTo>
                <a:lnTo>
                  <a:pt x="81" y="246"/>
                </a:lnTo>
                <a:lnTo>
                  <a:pt x="84" y="234"/>
                </a:lnTo>
                <a:lnTo>
                  <a:pt x="88" y="223"/>
                </a:lnTo>
                <a:lnTo>
                  <a:pt x="92" y="213"/>
                </a:lnTo>
                <a:lnTo>
                  <a:pt x="96" y="203"/>
                </a:lnTo>
                <a:lnTo>
                  <a:pt x="100" y="194"/>
                </a:lnTo>
                <a:lnTo>
                  <a:pt x="104" y="184"/>
                </a:lnTo>
                <a:lnTo>
                  <a:pt x="105" y="176"/>
                </a:lnTo>
                <a:lnTo>
                  <a:pt x="109" y="169"/>
                </a:lnTo>
                <a:lnTo>
                  <a:pt x="113" y="155"/>
                </a:lnTo>
                <a:lnTo>
                  <a:pt x="115" y="140"/>
                </a:lnTo>
                <a:lnTo>
                  <a:pt x="117" y="125"/>
                </a:lnTo>
                <a:lnTo>
                  <a:pt x="117" y="111"/>
                </a:lnTo>
                <a:lnTo>
                  <a:pt x="117" y="96"/>
                </a:lnTo>
                <a:lnTo>
                  <a:pt x="115" y="81"/>
                </a:lnTo>
                <a:lnTo>
                  <a:pt x="113" y="67"/>
                </a:lnTo>
                <a:lnTo>
                  <a:pt x="109" y="52"/>
                </a:lnTo>
                <a:lnTo>
                  <a:pt x="104" y="42"/>
                </a:lnTo>
                <a:lnTo>
                  <a:pt x="102" y="34"/>
                </a:lnTo>
                <a:lnTo>
                  <a:pt x="100" y="27"/>
                </a:lnTo>
                <a:lnTo>
                  <a:pt x="100" y="21"/>
                </a:lnTo>
                <a:lnTo>
                  <a:pt x="104" y="15"/>
                </a:lnTo>
                <a:lnTo>
                  <a:pt x="104" y="13"/>
                </a:lnTo>
                <a:lnTo>
                  <a:pt x="107" y="10"/>
                </a:lnTo>
                <a:lnTo>
                  <a:pt x="109" y="8"/>
                </a:lnTo>
                <a:lnTo>
                  <a:pt x="113" y="6"/>
                </a:lnTo>
                <a:lnTo>
                  <a:pt x="117" y="2"/>
                </a:lnTo>
                <a:lnTo>
                  <a:pt x="121" y="0"/>
                </a:lnTo>
                <a:lnTo>
                  <a:pt x="130" y="0"/>
                </a:lnTo>
                <a:lnTo>
                  <a:pt x="140" y="2"/>
                </a:lnTo>
                <a:lnTo>
                  <a:pt x="150" y="6"/>
                </a:lnTo>
                <a:lnTo>
                  <a:pt x="159" y="10"/>
                </a:lnTo>
                <a:lnTo>
                  <a:pt x="171" y="15"/>
                </a:lnTo>
                <a:lnTo>
                  <a:pt x="182" y="23"/>
                </a:lnTo>
                <a:lnTo>
                  <a:pt x="196" y="31"/>
                </a:lnTo>
                <a:lnTo>
                  <a:pt x="209" y="40"/>
                </a:lnTo>
                <a:lnTo>
                  <a:pt x="215" y="44"/>
                </a:lnTo>
                <a:lnTo>
                  <a:pt x="223" y="50"/>
                </a:lnTo>
                <a:lnTo>
                  <a:pt x="226" y="54"/>
                </a:lnTo>
                <a:lnTo>
                  <a:pt x="232" y="59"/>
                </a:lnTo>
                <a:lnTo>
                  <a:pt x="242" y="69"/>
                </a:lnTo>
                <a:lnTo>
                  <a:pt x="249" y="81"/>
                </a:lnTo>
                <a:lnTo>
                  <a:pt x="257" y="92"/>
                </a:lnTo>
                <a:lnTo>
                  <a:pt x="263" y="104"/>
                </a:lnTo>
                <a:lnTo>
                  <a:pt x="267" y="115"/>
                </a:lnTo>
                <a:lnTo>
                  <a:pt x="272" y="130"/>
                </a:lnTo>
                <a:lnTo>
                  <a:pt x="271" y="138"/>
                </a:lnTo>
                <a:lnTo>
                  <a:pt x="271" y="146"/>
                </a:lnTo>
                <a:lnTo>
                  <a:pt x="267" y="155"/>
                </a:lnTo>
                <a:lnTo>
                  <a:pt x="265" y="165"/>
                </a:lnTo>
                <a:lnTo>
                  <a:pt x="259" y="175"/>
                </a:lnTo>
                <a:lnTo>
                  <a:pt x="255" y="186"/>
                </a:lnTo>
                <a:lnTo>
                  <a:pt x="248" y="198"/>
                </a:lnTo>
                <a:lnTo>
                  <a:pt x="242" y="209"/>
                </a:lnTo>
                <a:lnTo>
                  <a:pt x="232" y="223"/>
                </a:lnTo>
                <a:lnTo>
                  <a:pt x="224" y="236"/>
                </a:lnTo>
                <a:lnTo>
                  <a:pt x="213" y="251"/>
                </a:lnTo>
                <a:lnTo>
                  <a:pt x="201" y="267"/>
                </a:lnTo>
                <a:lnTo>
                  <a:pt x="190" y="284"/>
                </a:lnTo>
                <a:lnTo>
                  <a:pt x="177" y="301"/>
                </a:lnTo>
                <a:lnTo>
                  <a:pt x="161" y="319"/>
                </a:lnTo>
                <a:lnTo>
                  <a:pt x="146" y="338"/>
                </a:lnTo>
                <a:lnTo>
                  <a:pt x="130" y="357"/>
                </a:lnTo>
                <a:lnTo>
                  <a:pt x="115" y="374"/>
                </a:lnTo>
                <a:lnTo>
                  <a:pt x="102" y="390"/>
                </a:lnTo>
                <a:lnTo>
                  <a:pt x="90" y="405"/>
                </a:lnTo>
                <a:lnTo>
                  <a:pt x="79" y="418"/>
                </a:lnTo>
                <a:lnTo>
                  <a:pt x="67" y="430"/>
                </a:lnTo>
                <a:lnTo>
                  <a:pt x="58" y="439"/>
                </a:lnTo>
                <a:lnTo>
                  <a:pt x="48" y="447"/>
                </a:lnTo>
                <a:lnTo>
                  <a:pt x="40" y="455"/>
                </a:lnTo>
                <a:lnTo>
                  <a:pt x="34" y="461"/>
                </a:lnTo>
                <a:lnTo>
                  <a:pt x="27" y="466"/>
                </a:lnTo>
                <a:lnTo>
                  <a:pt x="23" y="468"/>
                </a:lnTo>
                <a:lnTo>
                  <a:pt x="17" y="470"/>
                </a:lnTo>
                <a:lnTo>
                  <a:pt x="13" y="472"/>
                </a:lnTo>
                <a:lnTo>
                  <a:pt x="10" y="470"/>
                </a:lnTo>
                <a:lnTo>
                  <a:pt x="8" y="468"/>
                </a:lnTo>
                <a:lnTo>
                  <a:pt x="6" y="466"/>
                </a:lnTo>
                <a:lnTo>
                  <a:pt x="4" y="463"/>
                </a:lnTo>
                <a:lnTo>
                  <a:pt x="2" y="459"/>
                </a:lnTo>
                <a:lnTo>
                  <a:pt x="2" y="455"/>
                </a:lnTo>
                <a:lnTo>
                  <a:pt x="0" y="449"/>
                </a:lnTo>
                <a:lnTo>
                  <a:pt x="0" y="443"/>
                </a:lnTo>
                <a:lnTo>
                  <a:pt x="2" y="438"/>
                </a:lnTo>
                <a:lnTo>
                  <a:pt x="2" y="430"/>
                </a:lnTo>
                <a:lnTo>
                  <a:pt x="4" y="422"/>
                </a:lnTo>
                <a:lnTo>
                  <a:pt x="6" y="415"/>
                </a:lnTo>
                <a:lnTo>
                  <a:pt x="8" y="405"/>
                </a:lnTo>
                <a:lnTo>
                  <a:pt x="11" y="395"/>
                </a:lnTo>
                <a:lnTo>
                  <a:pt x="15" y="386"/>
                </a:lnTo>
                <a:lnTo>
                  <a:pt x="21" y="374"/>
                </a:lnTo>
                <a:lnTo>
                  <a:pt x="27" y="363"/>
                </a:lnTo>
                <a:lnTo>
                  <a:pt x="33" y="3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60"/>
          <p:cNvSpPr/>
          <p:nvPr/>
        </p:nvSpPr>
        <p:spPr>
          <a:xfrm>
            <a:off x="5675400" y="3959280"/>
            <a:ext cx="838080" cy="1074600"/>
          </a:xfrm>
          <a:custGeom>
            <a:avLst/>
            <a:gdLst/>
            <a:ahLst/>
            <a:rect l="l" t="t" r="r" b="b"/>
            <a:pathLst>
              <a:path w="1056" h="1353">
                <a:moveTo>
                  <a:pt x="906" y="1301"/>
                </a:moveTo>
                <a:lnTo>
                  <a:pt x="901" y="1309"/>
                </a:lnTo>
                <a:lnTo>
                  <a:pt x="897" y="1315"/>
                </a:lnTo>
                <a:lnTo>
                  <a:pt x="891" y="1320"/>
                </a:lnTo>
                <a:lnTo>
                  <a:pt x="887" y="1326"/>
                </a:lnTo>
                <a:lnTo>
                  <a:pt x="881" y="1330"/>
                </a:lnTo>
                <a:lnTo>
                  <a:pt x="878" y="1334"/>
                </a:lnTo>
                <a:lnTo>
                  <a:pt x="874" y="1338"/>
                </a:lnTo>
                <a:lnTo>
                  <a:pt x="870" y="1342"/>
                </a:lnTo>
                <a:lnTo>
                  <a:pt x="862" y="1347"/>
                </a:lnTo>
                <a:lnTo>
                  <a:pt x="854" y="1351"/>
                </a:lnTo>
                <a:lnTo>
                  <a:pt x="849" y="1353"/>
                </a:lnTo>
                <a:lnTo>
                  <a:pt x="843" y="1353"/>
                </a:lnTo>
                <a:lnTo>
                  <a:pt x="841" y="1353"/>
                </a:lnTo>
                <a:lnTo>
                  <a:pt x="837" y="1351"/>
                </a:lnTo>
                <a:lnTo>
                  <a:pt x="835" y="1351"/>
                </a:lnTo>
                <a:lnTo>
                  <a:pt x="833" y="1347"/>
                </a:lnTo>
                <a:lnTo>
                  <a:pt x="831" y="1345"/>
                </a:lnTo>
                <a:lnTo>
                  <a:pt x="828" y="1342"/>
                </a:lnTo>
                <a:lnTo>
                  <a:pt x="826" y="1338"/>
                </a:lnTo>
                <a:lnTo>
                  <a:pt x="824" y="1332"/>
                </a:lnTo>
                <a:lnTo>
                  <a:pt x="822" y="1326"/>
                </a:lnTo>
                <a:lnTo>
                  <a:pt x="818" y="1318"/>
                </a:lnTo>
                <a:lnTo>
                  <a:pt x="816" y="1313"/>
                </a:lnTo>
                <a:lnTo>
                  <a:pt x="814" y="1303"/>
                </a:lnTo>
                <a:lnTo>
                  <a:pt x="812" y="1295"/>
                </a:lnTo>
                <a:lnTo>
                  <a:pt x="810" y="1284"/>
                </a:lnTo>
                <a:lnTo>
                  <a:pt x="806" y="1274"/>
                </a:lnTo>
                <a:lnTo>
                  <a:pt x="805" y="1263"/>
                </a:lnTo>
                <a:lnTo>
                  <a:pt x="803" y="1249"/>
                </a:lnTo>
                <a:lnTo>
                  <a:pt x="799" y="1238"/>
                </a:lnTo>
                <a:lnTo>
                  <a:pt x="795" y="1226"/>
                </a:lnTo>
                <a:lnTo>
                  <a:pt x="791" y="1215"/>
                </a:lnTo>
                <a:lnTo>
                  <a:pt x="782" y="1194"/>
                </a:lnTo>
                <a:lnTo>
                  <a:pt x="770" y="1175"/>
                </a:lnTo>
                <a:lnTo>
                  <a:pt x="758" y="1155"/>
                </a:lnTo>
                <a:lnTo>
                  <a:pt x="745" y="1138"/>
                </a:lnTo>
                <a:lnTo>
                  <a:pt x="732" y="1121"/>
                </a:lnTo>
                <a:lnTo>
                  <a:pt x="716" y="1105"/>
                </a:lnTo>
                <a:lnTo>
                  <a:pt x="709" y="1098"/>
                </a:lnTo>
                <a:lnTo>
                  <a:pt x="699" y="1092"/>
                </a:lnTo>
                <a:lnTo>
                  <a:pt x="691" y="1084"/>
                </a:lnTo>
                <a:lnTo>
                  <a:pt x="684" y="1079"/>
                </a:lnTo>
                <a:lnTo>
                  <a:pt x="678" y="1073"/>
                </a:lnTo>
                <a:lnTo>
                  <a:pt x="670" y="1067"/>
                </a:lnTo>
                <a:lnTo>
                  <a:pt x="666" y="1061"/>
                </a:lnTo>
                <a:lnTo>
                  <a:pt x="661" y="1057"/>
                </a:lnTo>
                <a:lnTo>
                  <a:pt x="657" y="1052"/>
                </a:lnTo>
                <a:lnTo>
                  <a:pt x="653" y="1048"/>
                </a:lnTo>
                <a:lnTo>
                  <a:pt x="649" y="1044"/>
                </a:lnTo>
                <a:lnTo>
                  <a:pt x="645" y="1040"/>
                </a:lnTo>
                <a:lnTo>
                  <a:pt x="643" y="1036"/>
                </a:lnTo>
                <a:lnTo>
                  <a:pt x="643" y="1032"/>
                </a:lnTo>
                <a:lnTo>
                  <a:pt x="641" y="1031"/>
                </a:lnTo>
                <a:lnTo>
                  <a:pt x="641" y="1029"/>
                </a:lnTo>
                <a:lnTo>
                  <a:pt x="641" y="1025"/>
                </a:lnTo>
                <a:lnTo>
                  <a:pt x="643" y="1023"/>
                </a:lnTo>
                <a:lnTo>
                  <a:pt x="643" y="1021"/>
                </a:lnTo>
                <a:lnTo>
                  <a:pt x="645" y="1019"/>
                </a:lnTo>
                <a:lnTo>
                  <a:pt x="649" y="1017"/>
                </a:lnTo>
                <a:lnTo>
                  <a:pt x="651" y="1015"/>
                </a:lnTo>
                <a:lnTo>
                  <a:pt x="659" y="1011"/>
                </a:lnTo>
                <a:lnTo>
                  <a:pt x="668" y="1009"/>
                </a:lnTo>
                <a:lnTo>
                  <a:pt x="678" y="1009"/>
                </a:lnTo>
                <a:lnTo>
                  <a:pt x="686" y="1009"/>
                </a:lnTo>
                <a:lnTo>
                  <a:pt x="691" y="1011"/>
                </a:lnTo>
                <a:lnTo>
                  <a:pt x="697" y="1013"/>
                </a:lnTo>
                <a:lnTo>
                  <a:pt x="705" y="1015"/>
                </a:lnTo>
                <a:lnTo>
                  <a:pt x="718" y="1019"/>
                </a:lnTo>
                <a:lnTo>
                  <a:pt x="734" y="1023"/>
                </a:lnTo>
                <a:lnTo>
                  <a:pt x="747" y="1025"/>
                </a:lnTo>
                <a:lnTo>
                  <a:pt x="760" y="1025"/>
                </a:lnTo>
                <a:lnTo>
                  <a:pt x="776" y="1025"/>
                </a:lnTo>
                <a:lnTo>
                  <a:pt x="789" y="1023"/>
                </a:lnTo>
                <a:lnTo>
                  <a:pt x="803" y="1019"/>
                </a:lnTo>
                <a:lnTo>
                  <a:pt x="818" y="1015"/>
                </a:lnTo>
                <a:lnTo>
                  <a:pt x="824" y="1011"/>
                </a:lnTo>
                <a:lnTo>
                  <a:pt x="831" y="1009"/>
                </a:lnTo>
                <a:lnTo>
                  <a:pt x="835" y="1008"/>
                </a:lnTo>
                <a:lnTo>
                  <a:pt x="841" y="1004"/>
                </a:lnTo>
                <a:lnTo>
                  <a:pt x="851" y="1000"/>
                </a:lnTo>
                <a:lnTo>
                  <a:pt x="858" y="994"/>
                </a:lnTo>
                <a:lnTo>
                  <a:pt x="864" y="986"/>
                </a:lnTo>
                <a:lnTo>
                  <a:pt x="870" y="981"/>
                </a:lnTo>
                <a:lnTo>
                  <a:pt x="876" y="973"/>
                </a:lnTo>
                <a:lnTo>
                  <a:pt x="881" y="963"/>
                </a:lnTo>
                <a:lnTo>
                  <a:pt x="881" y="961"/>
                </a:lnTo>
                <a:lnTo>
                  <a:pt x="881" y="960"/>
                </a:lnTo>
                <a:lnTo>
                  <a:pt x="881" y="956"/>
                </a:lnTo>
                <a:lnTo>
                  <a:pt x="881" y="952"/>
                </a:lnTo>
                <a:lnTo>
                  <a:pt x="881" y="948"/>
                </a:lnTo>
                <a:lnTo>
                  <a:pt x="881" y="942"/>
                </a:lnTo>
                <a:lnTo>
                  <a:pt x="881" y="937"/>
                </a:lnTo>
                <a:lnTo>
                  <a:pt x="881" y="931"/>
                </a:lnTo>
                <a:lnTo>
                  <a:pt x="881" y="923"/>
                </a:lnTo>
                <a:lnTo>
                  <a:pt x="881" y="915"/>
                </a:lnTo>
                <a:lnTo>
                  <a:pt x="881" y="908"/>
                </a:lnTo>
                <a:lnTo>
                  <a:pt x="881" y="898"/>
                </a:lnTo>
                <a:lnTo>
                  <a:pt x="881" y="889"/>
                </a:lnTo>
                <a:lnTo>
                  <a:pt x="881" y="879"/>
                </a:lnTo>
                <a:lnTo>
                  <a:pt x="881" y="867"/>
                </a:lnTo>
                <a:lnTo>
                  <a:pt x="881" y="856"/>
                </a:lnTo>
                <a:lnTo>
                  <a:pt x="881" y="842"/>
                </a:lnTo>
                <a:lnTo>
                  <a:pt x="881" y="829"/>
                </a:lnTo>
                <a:lnTo>
                  <a:pt x="881" y="816"/>
                </a:lnTo>
                <a:lnTo>
                  <a:pt x="881" y="800"/>
                </a:lnTo>
                <a:lnTo>
                  <a:pt x="881" y="785"/>
                </a:lnTo>
                <a:lnTo>
                  <a:pt x="881" y="770"/>
                </a:lnTo>
                <a:lnTo>
                  <a:pt x="881" y="752"/>
                </a:lnTo>
                <a:lnTo>
                  <a:pt x="881" y="735"/>
                </a:lnTo>
                <a:lnTo>
                  <a:pt x="881" y="718"/>
                </a:lnTo>
                <a:lnTo>
                  <a:pt x="881" y="699"/>
                </a:lnTo>
                <a:lnTo>
                  <a:pt x="881" y="679"/>
                </a:lnTo>
                <a:lnTo>
                  <a:pt x="881" y="660"/>
                </a:lnTo>
                <a:lnTo>
                  <a:pt x="881" y="639"/>
                </a:lnTo>
                <a:lnTo>
                  <a:pt x="881" y="618"/>
                </a:lnTo>
                <a:lnTo>
                  <a:pt x="881" y="595"/>
                </a:lnTo>
                <a:lnTo>
                  <a:pt x="881" y="572"/>
                </a:lnTo>
                <a:lnTo>
                  <a:pt x="879" y="549"/>
                </a:lnTo>
                <a:lnTo>
                  <a:pt x="878" y="528"/>
                </a:lnTo>
                <a:lnTo>
                  <a:pt x="878" y="507"/>
                </a:lnTo>
                <a:lnTo>
                  <a:pt x="876" y="485"/>
                </a:lnTo>
                <a:lnTo>
                  <a:pt x="874" y="464"/>
                </a:lnTo>
                <a:lnTo>
                  <a:pt x="874" y="445"/>
                </a:lnTo>
                <a:lnTo>
                  <a:pt x="872" y="426"/>
                </a:lnTo>
                <a:lnTo>
                  <a:pt x="872" y="409"/>
                </a:lnTo>
                <a:lnTo>
                  <a:pt x="870" y="391"/>
                </a:lnTo>
                <a:lnTo>
                  <a:pt x="868" y="374"/>
                </a:lnTo>
                <a:lnTo>
                  <a:pt x="868" y="359"/>
                </a:lnTo>
                <a:lnTo>
                  <a:pt x="866" y="343"/>
                </a:lnTo>
                <a:lnTo>
                  <a:pt x="866" y="328"/>
                </a:lnTo>
                <a:lnTo>
                  <a:pt x="864" y="315"/>
                </a:lnTo>
                <a:lnTo>
                  <a:pt x="862" y="301"/>
                </a:lnTo>
                <a:lnTo>
                  <a:pt x="862" y="288"/>
                </a:lnTo>
                <a:lnTo>
                  <a:pt x="860" y="276"/>
                </a:lnTo>
                <a:lnTo>
                  <a:pt x="858" y="265"/>
                </a:lnTo>
                <a:lnTo>
                  <a:pt x="858" y="253"/>
                </a:lnTo>
                <a:lnTo>
                  <a:pt x="856" y="244"/>
                </a:lnTo>
                <a:lnTo>
                  <a:pt x="856" y="234"/>
                </a:lnTo>
                <a:lnTo>
                  <a:pt x="854" y="224"/>
                </a:lnTo>
                <a:lnTo>
                  <a:pt x="853" y="217"/>
                </a:lnTo>
                <a:lnTo>
                  <a:pt x="853" y="209"/>
                </a:lnTo>
                <a:lnTo>
                  <a:pt x="851" y="201"/>
                </a:lnTo>
                <a:lnTo>
                  <a:pt x="849" y="194"/>
                </a:lnTo>
                <a:lnTo>
                  <a:pt x="849" y="188"/>
                </a:lnTo>
                <a:lnTo>
                  <a:pt x="847" y="184"/>
                </a:lnTo>
                <a:lnTo>
                  <a:pt x="847" y="178"/>
                </a:lnTo>
                <a:lnTo>
                  <a:pt x="845" y="174"/>
                </a:lnTo>
                <a:lnTo>
                  <a:pt x="843" y="171"/>
                </a:lnTo>
                <a:lnTo>
                  <a:pt x="843" y="169"/>
                </a:lnTo>
                <a:lnTo>
                  <a:pt x="824" y="159"/>
                </a:lnTo>
                <a:lnTo>
                  <a:pt x="814" y="155"/>
                </a:lnTo>
                <a:lnTo>
                  <a:pt x="806" y="151"/>
                </a:lnTo>
                <a:lnTo>
                  <a:pt x="799" y="148"/>
                </a:lnTo>
                <a:lnTo>
                  <a:pt x="791" y="146"/>
                </a:lnTo>
                <a:lnTo>
                  <a:pt x="785" y="144"/>
                </a:lnTo>
                <a:lnTo>
                  <a:pt x="780" y="144"/>
                </a:lnTo>
                <a:lnTo>
                  <a:pt x="776" y="144"/>
                </a:lnTo>
                <a:lnTo>
                  <a:pt x="772" y="144"/>
                </a:lnTo>
                <a:lnTo>
                  <a:pt x="766" y="144"/>
                </a:lnTo>
                <a:lnTo>
                  <a:pt x="758" y="144"/>
                </a:lnTo>
                <a:lnTo>
                  <a:pt x="751" y="146"/>
                </a:lnTo>
                <a:lnTo>
                  <a:pt x="741" y="148"/>
                </a:lnTo>
                <a:lnTo>
                  <a:pt x="730" y="148"/>
                </a:lnTo>
                <a:lnTo>
                  <a:pt x="716" y="150"/>
                </a:lnTo>
                <a:lnTo>
                  <a:pt x="703" y="151"/>
                </a:lnTo>
                <a:lnTo>
                  <a:pt x="687" y="153"/>
                </a:lnTo>
                <a:lnTo>
                  <a:pt x="670" y="155"/>
                </a:lnTo>
                <a:lnTo>
                  <a:pt x="651" y="159"/>
                </a:lnTo>
                <a:lnTo>
                  <a:pt x="632" y="161"/>
                </a:lnTo>
                <a:lnTo>
                  <a:pt x="611" y="163"/>
                </a:lnTo>
                <a:lnTo>
                  <a:pt x="588" y="167"/>
                </a:lnTo>
                <a:lnTo>
                  <a:pt x="565" y="171"/>
                </a:lnTo>
                <a:lnTo>
                  <a:pt x="540" y="173"/>
                </a:lnTo>
                <a:lnTo>
                  <a:pt x="513" y="176"/>
                </a:lnTo>
                <a:lnTo>
                  <a:pt x="486" y="180"/>
                </a:lnTo>
                <a:lnTo>
                  <a:pt x="455" y="184"/>
                </a:lnTo>
                <a:lnTo>
                  <a:pt x="425" y="190"/>
                </a:lnTo>
                <a:lnTo>
                  <a:pt x="394" y="194"/>
                </a:lnTo>
                <a:lnTo>
                  <a:pt x="361" y="198"/>
                </a:lnTo>
                <a:lnTo>
                  <a:pt x="327" y="203"/>
                </a:lnTo>
                <a:lnTo>
                  <a:pt x="290" y="207"/>
                </a:lnTo>
                <a:lnTo>
                  <a:pt x="252" y="213"/>
                </a:lnTo>
                <a:lnTo>
                  <a:pt x="213" y="219"/>
                </a:lnTo>
                <a:lnTo>
                  <a:pt x="173" y="224"/>
                </a:lnTo>
                <a:lnTo>
                  <a:pt x="133" y="228"/>
                </a:lnTo>
                <a:lnTo>
                  <a:pt x="91" y="234"/>
                </a:lnTo>
                <a:lnTo>
                  <a:pt x="46" y="242"/>
                </a:lnTo>
                <a:lnTo>
                  <a:pt x="0" y="247"/>
                </a:lnTo>
                <a:lnTo>
                  <a:pt x="0" y="196"/>
                </a:lnTo>
                <a:lnTo>
                  <a:pt x="0" y="144"/>
                </a:lnTo>
                <a:lnTo>
                  <a:pt x="33" y="144"/>
                </a:lnTo>
                <a:lnTo>
                  <a:pt x="64" y="142"/>
                </a:lnTo>
                <a:lnTo>
                  <a:pt x="94" y="142"/>
                </a:lnTo>
                <a:lnTo>
                  <a:pt x="123" y="142"/>
                </a:lnTo>
                <a:lnTo>
                  <a:pt x="152" y="140"/>
                </a:lnTo>
                <a:lnTo>
                  <a:pt x="177" y="138"/>
                </a:lnTo>
                <a:lnTo>
                  <a:pt x="204" y="134"/>
                </a:lnTo>
                <a:lnTo>
                  <a:pt x="227" y="130"/>
                </a:lnTo>
                <a:lnTo>
                  <a:pt x="236" y="127"/>
                </a:lnTo>
                <a:lnTo>
                  <a:pt x="248" y="125"/>
                </a:lnTo>
                <a:lnTo>
                  <a:pt x="261" y="123"/>
                </a:lnTo>
                <a:lnTo>
                  <a:pt x="275" y="121"/>
                </a:lnTo>
                <a:lnTo>
                  <a:pt x="288" y="117"/>
                </a:lnTo>
                <a:lnTo>
                  <a:pt x="304" y="115"/>
                </a:lnTo>
                <a:lnTo>
                  <a:pt x="321" y="111"/>
                </a:lnTo>
                <a:lnTo>
                  <a:pt x="338" y="109"/>
                </a:lnTo>
                <a:lnTo>
                  <a:pt x="357" y="105"/>
                </a:lnTo>
                <a:lnTo>
                  <a:pt x="377" y="102"/>
                </a:lnTo>
                <a:lnTo>
                  <a:pt x="398" y="100"/>
                </a:lnTo>
                <a:lnTo>
                  <a:pt x="421" y="96"/>
                </a:lnTo>
                <a:lnTo>
                  <a:pt x="442" y="92"/>
                </a:lnTo>
                <a:lnTo>
                  <a:pt x="467" y="86"/>
                </a:lnTo>
                <a:lnTo>
                  <a:pt x="492" y="82"/>
                </a:lnTo>
                <a:lnTo>
                  <a:pt x="517" y="79"/>
                </a:lnTo>
                <a:lnTo>
                  <a:pt x="542" y="73"/>
                </a:lnTo>
                <a:lnTo>
                  <a:pt x="565" y="67"/>
                </a:lnTo>
                <a:lnTo>
                  <a:pt x="588" y="63"/>
                </a:lnTo>
                <a:lnTo>
                  <a:pt x="611" y="57"/>
                </a:lnTo>
                <a:lnTo>
                  <a:pt x="630" y="54"/>
                </a:lnTo>
                <a:lnTo>
                  <a:pt x="649" y="50"/>
                </a:lnTo>
                <a:lnTo>
                  <a:pt x="668" y="44"/>
                </a:lnTo>
                <a:lnTo>
                  <a:pt x="684" y="40"/>
                </a:lnTo>
                <a:lnTo>
                  <a:pt x="699" y="36"/>
                </a:lnTo>
                <a:lnTo>
                  <a:pt x="712" y="32"/>
                </a:lnTo>
                <a:lnTo>
                  <a:pt x="726" y="29"/>
                </a:lnTo>
                <a:lnTo>
                  <a:pt x="737" y="25"/>
                </a:lnTo>
                <a:lnTo>
                  <a:pt x="747" y="21"/>
                </a:lnTo>
                <a:lnTo>
                  <a:pt x="755" y="19"/>
                </a:lnTo>
                <a:lnTo>
                  <a:pt x="762" y="15"/>
                </a:lnTo>
                <a:lnTo>
                  <a:pt x="768" y="13"/>
                </a:lnTo>
                <a:lnTo>
                  <a:pt x="776" y="7"/>
                </a:lnTo>
                <a:lnTo>
                  <a:pt x="785" y="6"/>
                </a:lnTo>
                <a:lnTo>
                  <a:pt x="797" y="4"/>
                </a:lnTo>
                <a:lnTo>
                  <a:pt x="806" y="2"/>
                </a:lnTo>
                <a:lnTo>
                  <a:pt x="818" y="0"/>
                </a:lnTo>
                <a:lnTo>
                  <a:pt x="830" y="0"/>
                </a:lnTo>
                <a:lnTo>
                  <a:pt x="841" y="0"/>
                </a:lnTo>
                <a:lnTo>
                  <a:pt x="854" y="0"/>
                </a:lnTo>
                <a:lnTo>
                  <a:pt x="862" y="0"/>
                </a:lnTo>
                <a:lnTo>
                  <a:pt x="870" y="2"/>
                </a:lnTo>
                <a:lnTo>
                  <a:pt x="876" y="2"/>
                </a:lnTo>
                <a:lnTo>
                  <a:pt x="883" y="4"/>
                </a:lnTo>
                <a:lnTo>
                  <a:pt x="891" y="7"/>
                </a:lnTo>
                <a:lnTo>
                  <a:pt x="899" y="9"/>
                </a:lnTo>
                <a:lnTo>
                  <a:pt x="906" y="13"/>
                </a:lnTo>
                <a:lnTo>
                  <a:pt x="914" y="17"/>
                </a:lnTo>
                <a:lnTo>
                  <a:pt x="931" y="27"/>
                </a:lnTo>
                <a:lnTo>
                  <a:pt x="950" y="38"/>
                </a:lnTo>
                <a:lnTo>
                  <a:pt x="960" y="44"/>
                </a:lnTo>
                <a:lnTo>
                  <a:pt x="972" y="50"/>
                </a:lnTo>
                <a:lnTo>
                  <a:pt x="981" y="57"/>
                </a:lnTo>
                <a:lnTo>
                  <a:pt x="993" y="65"/>
                </a:lnTo>
                <a:lnTo>
                  <a:pt x="1004" y="75"/>
                </a:lnTo>
                <a:lnTo>
                  <a:pt x="1014" y="84"/>
                </a:lnTo>
                <a:lnTo>
                  <a:pt x="1023" y="92"/>
                </a:lnTo>
                <a:lnTo>
                  <a:pt x="1031" y="102"/>
                </a:lnTo>
                <a:lnTo>
                  <a:pt x="1037" y="109"/>
                </a:lnTo>
                <a:lnTo>
                  <a:pt x="1043" y="117"/>
                </a:lnTo>
                <a:lnTo>
                  <a:pt x="1048" y="125"/>
                </a:lnTo>
                <a:lnTo>
                  <a:pt x="1050" y="132"/>
                </a:lnTo>
                <a:lnTo>
                  <a:pt x="1054" y="138"/>
                </a:lnTo>
                <a:lnTo>
                  <a:pt x="1054" y="144"/>
                </a:lnTo>
                <a:lnTo>
                  <a:pt x="1056" y="150"/>
                </a:lnTo>
                <a:lnTo>
                  <a:pt x="1054" y="155"/>
                </a:lnTo>
                <a:lnTo>
                  <a:pt x="1054" y="159"/>
                </a:lnTo>
                <a:lnTo>
                  <a:pt x="1050" y="163"/>
                </a:lnTo>
                <a:lnTo>
                  <a:pt x="1048" y="167"/>
                </a:lnTo>
                <a:lnTo>
                  <a:pt x="1044" y="169"/>
                </a:lnTo>
                <a:lnTo>
                  <a:pt x="1037" y="174"/>
                </a:lnTo>
                <a:lnTo>
                  <a:pt x="1031" y="178"/>
                </a:lnTo>
                <a:lnTo>
                  <a:pt x="1025" y="184"/>
                </a:lnTo>
                <a:lnTo>
                  <a:pt x="1020" y="188"/>
                </a:lnTo>
                <a:lnTo>
                  <a:pt x="1016" y="194"/>
                </a:lnTo>
                <a:lnTo>
                  <a:pt x="1012" y="198"/>
                </a:lnTo>
                <a:lnTo>
                  <a:pt x="1004" y="207"/>
                </a:lnTo>
                <a:lnTo>
                  <a:pt x="998" y="215"/>
                </a:lnTo>
                <a:lnTo>
                  <a:pt x="997" y="222"/>
                </a:lnTo>
                <a:lnTo>
                  <a:pt x="995" y="228"/>
                </a:lnTo>
                <a:lnTo>
                  <a:pt x="993" y="234"/>
                </a:lnTo>
                <a:lnTo>
                  <a:pt x="993" y="240"/>
                </a:lnTo>
                <a:lnTo>
                  <a:pt x="993" y="247"/>
                </a:lnTo>
                <a:lnTo>
                  <a:pt x="993" y="257"/>
                </a:lnTo>
                <a:lnTo>
                  <a:pt x="993" y="269"/>
                </a:lnTo>
                <a:lnTo>
                  <a:pt x="995" y="282"/>
                </a:lnTo>
                <a:lnTo>
                  <a:pt x="995" y="295"/>
                </a:lnTo>
                <a:lnTo>
                  <a:pt x="995" y="313"/>
                </a:lnTo>
                <a:lnTo>
                  <a:pt x="995" y="332"/>
                </a:lnTo>
                <a:lnTo>
                  <a:pt x="997" y="351"/>
                </a:lnTo>
                <a:lnTo>
                  <a:pt x="997" y="374"/>
                </a:lnTo>
                <a:lnTo>
                  <a:pt x="997" y="399"/>
                </a:lnTo>
                <a:lnTo>
                  <a:pt x="998" y="424"/>
                </a:lnTo>
                <a:lnTo>
                  <a:pt x="1000" y="453"/>
                </a:lnTo>
                <a:lnTo>
                  <a:pt x="1002" y="482"/>
                </a:lnTo>
                <a:lnTo>
                  <a:pt x="1004" y="512"/>
                </a:lnTo>
                <a:lnTo>
                  <a:pt x="1006" y="547"/>
                </a:lnTo>
                <a:lnTo>
                  <a:pt x="1006" y="579"/>
                </a:lnTo>
                <a:lnTo>
                  <a:pt x="1006" y="612"/>
                </a:lnTo>
                <a:lnTo>
                  <a:pt x="1006" y="645"/>
                </a:lnTo>
                <a:lnTo>
                  <a:pt x="1006" y="675"/>
                </a:lnTo>
                <a:lnTo>
                  <a:pt x="1006" y="706"/>
                </a:lnTo>
                <a:lnTo>
                  <a:pt x="1006" y="735"/>
                </a:lnTo>
                <a:lnTo>
                  <a:pt x="1006" y="762"/>
                </a:lnTo>
                <a:lnTo>
                  <a:pt x="1006" y="789"/>
                </a:lnTo>
                <a:lnTo>
                  <a:pt x="1006" y="814"/>
                </a:lnTo>
                <a:lnTo>
                  <a:pt x="1006" y="839"/>
                </a:lnTo>
                <a:lnTo>
                  <a:pt x="1006" y="862"/>
                </a:lnTo>
                <a:lnTo>
                  <a:pt x="1006" y="885"/>
                </a:lnTo>
                <a:lnTo>
                  <a:pt x="1006" y="906"/>
                </a:lnTo>
                <a:lnTo>
                  <a:pt x="1006" y="927"/>
                </a:lnTo>
                <a:lnTo>
                  <a:pt x="1006" y="946"/>
                </a:lnTo>
                <a:lnTo>
                  <a:pt x="1006" y="963"/>
                </a:lnTo>
                <a:lnTo>
                  <a:pt x="1004" y="996"/>
                </a:lnTo>
                <a:lnTo>
                  <a:pt x="1004" y="1029"/>
                </a:lnTo>
                <a:lnTo>
                  <a:pt x="1002" y="1044"/>
                </a:lnTo>
                <a:lnTo>
                  <a:pt x="1000" y="1057"/>
                </a:lnTo>
                <a:lnTo>
                  <a:pt x="1000" y="1073"/>
                </a:lnTo>
                <a:lnTo>
                  <a:pt x="998" y="1086"/>
                </a:lnTo>
                <a:lnTo>
                  <a:pt x="997" y="1100"/>
                </a:lnTo>
                <a:lnTo>
                  <a:pt x="995" y="1111"/>
                </a:lnTo>
                <a:lnTo>
                  <a:pt x="993" y="1123"/>
                </a:lnTo>
                <a:lnTo>
                  <a:pt x="991" y="1134"/>
                </a:lnTo>
                <a:lnTo>
                  <a:pt x="987" y="1146"/>
                </a:lnTo>
                <a:lnTo>
                  <a:pt x="985" y="1153"/>
                </a:lnTo>
                <a:lnTo>
                  <a:pt x="983" y="1163"/>
                </a:lnTo>
                <a:lnTo>
                  <a:pt x="981" y="1171"/>
                </a:lnTo>
                <a:lnTo>
                  <a:pt x="972" y="1190"/>
                </a:lnTo>
                <a:lnTo>
                  <a:pt x="962" y="1207"/>
                </a:lnTo>
                <a:lnTo>
                  <a:pt x="952" y="1224"/>
                </a:lnTo>
                <a:lnTo>
                  <a:pt x="943" y="1242"/>
                </a:lnTo>
                <a:lnTo>
                  <a:pt x="933" y="1257"/>
                </a:lnTo>
                <a:lnTo>
                  <a:pt x="924" y="1272"/>
                </a:lnTo>
                <a:lnTo>
                  <a:pt x="906" y="13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61"/>
          <p:cNvSpPr/>
          <p:nvPr/>
        </p:nvSpPr>
        <p:spPr>
          <a:xfrm>
            <a:off x="5538960" y="4037040"/>
            <a:ext cx="196560" cy="965160"/>
          </a:xfrm>
          <a:custGeom>
            <a:avLst/>
            <a:gdLst/>
            <a:ahLst/>
            <a:rect l="l" t="t" r="r" b="b"/>
            <a:pathLst>
              <a:path w="248" h="1217">
                <a:moveTo>
                  <a:pt x="47" y="5"/>
                </a:moveTo>
                <a:lnTo>
                  <a:pt x="50" y="4"/>
                </a:lnTo>
                <a:lnTo>
                  <a:pt x="58" y="2"/>
                </a:lnTo>
                <a:lnTo>
                  <a:pt x="64" y="2"/>
                </a:lnTo>
                <a:lnTo>
                  <a:pt x="71" y="0"/>
                </a:lnTo>
                <a:lnTo>
                  <a:pt x="81" y="2"/>
                </a:lnTo>
                <a:lnTo>
                  <a:pt x="91" y="2"/>
                </a:lnTo>
                <a:lnTo>
                  <a:pt x="102" y="4"/>
                </a:lnTo>
                <a:lnTo>
                  <a:pt x="114" y="5"/>
                </a:lnTo>
                <a:lnTo>
                  <a:pt x="127" y="7"/>
                </a:lnTo>
                <a:lnTo>
                  <a:pt x="141" y="11"/>
                </a:lnTo>
                <a:lnTo>
                  <a:pt x="156" y="15"/>
                </a:lnTo>
                <a:lnTo>
                  <a:pt x="171" y="21"/>
                </a:lnTo>
                <a:lnTo>
                  <a:pt x="189" y="25"/>
                </a:lnTo>
                <a:lnTo>
                  <a:pt x="208" y="30"/>
                </a:lnTo>
                <a:lnTo>
                  <a:pt x="227" y="38"/>
                </a:lnTo>
                <a:lnTo>
                  <a:pt x="248" y="46"/>
                </a:lnTo>
                <a:lnTo>
                  <a:pt x="238" y="71"/>
                </a:lnTo>
                <a:lnTo>
                  <a:pt x="231" y="96"/>
                </a:lnTo>
                <a:lnTo>
                  <a:pt x="225" y="123"/>
                </a:lnTo>
                <a:lnTo>
                  <a:pt x="219" y="149"/>
                </a:lnTo>
                <a:lnTo>
                  <a:pt x="215" y="176"/>
                </a:lnTo>
                <a:lnTo>
                  <a:pt x="212" y="203"/>
                </a:lnTo>
                <a:lnTo>
                  <a:pt x="210" y="228"/>
                </a:lnTo>
                <a:lnTo>
                  <a:pt x="210" y="253"/>
                </a:lnTo>
                <a:lnTo>
                  <a:pt x="210" y="259"/>
                </a:lnTo>
                <a:lnTo>
                  <a:pt x="210" y="267"/>
                </a:lnTo>
                <a:lnTo>
                  <a:pt x="210" y="274"/>
                </a:lnTo>
                <a:lnTo>
                  <a:pt x="210" y="284"/>
                </a:lnTo>
                <a:lnTo>
                  <a:pt x="210" y="291"/>
                </a:lnTo>
                <a:lnTo>
                  <a:pt x="208" y="301"/>
                </a:lnTo>
                <a:lnTo>
                  <a:pt x="208" y="313"/>
                </a:lnTo>
                <a:lnTo>
                  <a:pt x="208" y="324"/>
                </a:lnTo>
                <a:lnTo>
                  <a:pt x="208" y="336"/>
                </a:lnTo>
                <a:lnTo>
                  <a:pt x="206" y="347"/>
                </a:lnTo>
                <a:lnTo>
                  <a:pt x="206" y="361"/>
                </a:lnTo>
                <a:lnTo>
                  <a:pt x="206" y="374"/>
                </a:lnTo>
                <a:lnTo>
                  <a:pt x="204" y="389"/>
                </a:lnTo>
                <a:lnTo>
                  <a:pt x="204" y="405"/>
                </a:lnTo>
                <a:lnTo>
                  <a:pt x="202" y="420"/>
                </a:lnTo>
                <a:lnTo>
                  <a:pt x="202" y="437"/>
                </a:lnTo>
                <a:lnTo>
                  <a:pt x="200" y="455"/>
                </a:lnTo>
                <a:lnTo>
                  <a:pt x="200" y="472"/>
                </a:lnTo>
                <a:lnTo>
                  <a:pt x="198" y="489"/>
                </a:lnTo>
                <a:lnTo>
                  <a:pt x="198" y="508"/>
                </a:lnTo>
                <a:lnTo>
                  <a:pt x="196" y="529"/>
                </a:lnTo>
                <a:lnTo>
                  <a:pt x="196" y="549"/>
                </a:lnTo>
                <a:lnTo>
                  <a:pt x="194" y="570"/>
                </a:lnTo>
                <a:lnTo>
                  <a:pt x="194" y="591"/>
                </a:lnTo>
                <a:lnTo>
                  <a:pt x="192" y="614"/>
                </a:lnTo>
                <a:lnTo>
                  <a:pt x="190" y="637"/>
                </a:lnTo>
                <a:lnTo>
                  <a:pt x="190" y="660"/>
                </a:lnTo>
                <a:lnTo>
                  <a:pt x="189" y="685"/>
                </a:lnTo>
                <a:lnTo>
                  <a:pt x="189" y="708"/>
                </a:lnTo>
                <a:lnTo>
                  <a:pt x="187" y="735"/>
                </a:lnTo>
                <a:lnTo>
                  <a:pt x="185" y="760"/>
                </a:lnTo>
                <a:lnTo>
                  <a:pt x="185" y="787"/>
                </a:lnTo>
                <a:lnTo>
                  <a:pt x="183" y="814"/>
                </a:lnTo>
                <a:lnTo>
                  <a:pt x="179" y="839"/>
                </a:lnTo>
                <a:lnTo>
                  <a:pt x="177" y="863"/>
                </a:lnTo>
                <a:lnTo>
                  <a:pt x="175" y="887"/>
                </a:lnTo>
                <a:lnTo>
                  <a:pt x="173" y="910"/>
                </a:lnTo>
                <a:lnTo>
                  <a:pt x="171" y="933"/>
                </a:lnTo>
                <a:lnTo>
                  <a:pt x="167" y="954"/>
                </a:lnTo>
                <a:lnTo>
                  <a:pt x="166" y="975"/>
                </a:lnTo>
                <a:lnTo>
                  <a:pt x="164" y="994"/>
                </a:lnTo>
                <a:lnTo>
                  <a:pt x="162" y="1013"/>
                </a:lnTo>
                <a:lnTo>
                  <a:pt x="160" y="1030"/>
                </a:lnTo>
                <a:lnTo>
                  <a:pt x="158" y="1048"/>
                </a:lnTo>
                <a:lnTo>
                  <a:pt x="154" y="1065"/>
                </a:lnTo>
                <a:lnTo>
                  <a:pt x="152" y="1080"/>
                </a:lnTo>
                <a:lnTo>
                  <a:pt x="150" y="1096"/>
                </a:lnTo>
                <a:lnTo>
                  <a:pt x="148" y="1109"/>
                </a:lnTo>
                <a:lnTo>
                  <a:pt x="146" y="1123"/>
                </a:lnTo>
                <a:lnTo>
                  <a:pt x="144" y="1134"/>
                </a:lnTo>
                <a:lnTo>
                  <a:pt x="143" y="1146"/>
                </a:lnTo>
                <a:lnTo>
                  <a:pt x="141" y="1155"/>
                </a:lnTo>
                <a:lnTo>
                  <a:pt x="139" y="1165"/>
                </a:lnTo>
                <a:lnTo>
                  <a:pt x="137" y="1174"/>
                </a:lnTo>
                <a:lnTo>
                  <a:pt x="135" y="1182"/>
                </a:lnTo>
                <a:lnTo>
                  <a:pt x="133" y="1190"/>
                </a:lnTo>
                <a:lnTo>
                  <a:pt x="131" y="1196"/>
                </a:lnTo>
                <a:lnTo>
                  <a:pt x="131" y="1201"/>
                </a:lnTo>
                <a:lnTo>
                  <a:pt x="129" y="1205"/>
                </a:lnTo>
                <a:lnTo>
                  <a:pt x="127" y="1209"/>
                </a:lnTo>
                <a:lnTo>
                  <a:pt x="125" y="1213"/>
                </a:lnTo>
                <a:lnTo>
                  <a:pt x="125" y="1215"/>
                </a:lnTo>
                <a:lnTo>
                  <a:pt x="123" y="1217"/>
                </a:lnTo>
                <a:lnTo>
                  <a:pt x="121" y="1217"/>
                </a:lnTo>
                <a:lnTo>
                  <a:pt x="118" y="1217"/>
                </a:lnTo>
                <a:lnTo>
                  <a:pt x="112" y="1215"/>
                </a:lnTo>
                <a:lnTo>
                  <a:pt x="108" y="1213"/>
                </a:lnTo>
                <a:lnTo>
                  <a:pt x="102" y="1209"/>
                </a:lnTo>
                <a:lnTo>
                  <a:pt x="98" y="1205"/>
                </a:lnTo>
                <a:lnTo>
                  <a:pt x="93" y="1201"/>
                </a:lnTo>
                <a:lnTo>
                  <a:pt x="87" y="1196"/>
                </a:lnTo>
                <a:lnTo>
                  <a:pt x="83" y="1188"/>
                </a:lnTo>
                <a:lnTo>
                  <a:pt x="77" y="1182"/>
                </a:lnTo>
                <a:lnTo>
                  <a:pt x="71" y="1174"/>
                </a:lnTo>
                <a:lnTo>
                  <a:pt x="66" y="1165"/>
                </a:lnTo>
                <a:lnTo>
                  <a:pt x="60" y="1155"/>
                </a:lnTo>
                <a:lnTo>
                  <a:pt x="54" y="1146"/>
                </a:lnTo>
                <a:lnTo>
                  <a:pt x="47" y="1136"/>
                </a:lnTo>
                <a:lnTo>
                  <a:pt x="41" y="1125"/>
                </a:lnTo>
                <a:lnTo>
                  <a:pt x="33" y="1113"/>
                </a:lnTo>
                <a:lnTo>
                  <a:pt x="27" y="1100"/>
                </a:lnTo>
                <a:lnTo>
                  <a:pt x="22" y="1088"/>
                </a:lnTo>
                <a:lnTo>
                  <a:pt x="16" y="1077"/>
                </a:lnTo>
                <a:lnTo>
                  <a:pt x="12" y="1065"/>
                </a:lnTo>
                <a:lnTo>
                  <a:pt x="8" y="1055"/>
                </a:lnTo>
                <a:lnTo>
                  <a:pt x="6" y="1044"/>
                </a:lnTo>
                <a:lnTo>
                  <a:pt x="4" y="1034"/>
                </a:lnTo>
                <a:lnTo>
                  <a:pt x="2" y="1025"/>
                </a:lnTo>
                <a:lnTo>
                  <a:pt x="2" y="1015"/>
                </a:lnTo>
                <a:lnTo>
                  <a:pt x="0" y="1006"/>
                </a:lnTo>
                <a:lnTo>
                  <a:pt x="2" y="996"/>
                </a:lnTo>
                <a:lnTo>
                  <a:pt x="2" y="988"/>
                </a:lnTo>
                <a:lnTo>
                  <a:pt x="4" y="971"/>
                </a:lnTo>
                <a:lnTo>
                  <a:pt x="8" y="956"/>
                </a:lnTo>
                <a:lnTo>
                  <a:pt x="10" y="954"/>
                </a:lnTo>
                <a:lnTo>
                  <a:pt x="12" y="950"/>
                </a:lnTo>
                <a:lnTo>
                  <a:pt x="12" y="946"/>
                </a:lnTo>
                <a:lnTo>
                  <a:pt x="14" y="942"/>
                </a:lnTo>
                <a:lnTo>
                  <a:pt x="16" y="936"/>
                </a:lnTo>
                <a:lnTo>
                  <a:pt x="18" y="931"/>
                </a:lnTo>
                <a:lnTo>
                  <a:pt x="18" y="925"/>
                </a:lnTo>
                <a:lnTo>
                  <a:pt x="20" y="919"/>
                </a:lnTo>
                <a:lnTo>
                  <a:pt x="22" y="913"/>
                </a:lnTo>
                <a:lnTo>
                  <a:pt x="24" y="906"/>
                </a:lnTo>
                <a:lnTo>
                  <a:pt x="25" y="898"/>
                </a:lnTo>
                <a:lnTo>
                  <a:pt x="27" y="888"/>
                </a:lnTo>
                <a:lnTo>
                  <a:pt x="29" y="881"/>
                </a:lnTo>
                <a:lnTo>
                  <a:pt x="31" y="871"/>
                </a:lnTo>
                <a:lnTo>
                  <a:pt x="31" y="860"/>
                </a:lnTo>
                <a:lnTo>
                  <a:pt x="33" y="850"/>
                </a:lnTo>
                <a:lnTo>
                  <a:pt x="35" y="839"/>
                </a:lnTo>
                <a:lnTo>
                  <a:pt x="37" y="827"/>
                </a:lnTo>
                <a:lnTo>
                  <a:pt x="39" y="815"/>
                </a:lnTo>
                <a:lnTo>
                  <a:pt x="41" y="804"/>
                </a:lnTo>
                <a:lnTo>
                  <a:pt x="43" y="791"/>
                </a:lnTo>
                <a:lnTo>
                  <a:pt x="45" y="777"/>
                </a:lnTo>
                <a:lnTo>
                  <a:pt x="47" y="764"/>
                </a:lnTo>
                <a:lnTo>
                  <a:pt x="48" y="748"/>
                </a:lnTo>
                <a:lnTo>
                  <a:pt x="50" y="720"/>
                </a:lnTo>
                <a:lnTo>
                  <a:pt x="54" y="687"/>
                </a:lnTo>
                <a:lnTo>
                  <a:pt x="56" y="652"/>
                </a:lnTo>
                <a:lnTo>
                  <a:pt x="60" y="618"/>
                </a:lnTo>
                <a:lnTo>
                  <a:pt x="62" y="581"/>
                </a:lnTo>
                <a:lnTo>
                  <a:pt x="64" y="547"/>
                </a:lnTo>
                <a:lnTo>
                  <a:pt x="66" y="514"/>
                </a:lnTo>
                <a:lnTo>
                  <a:pt x="68" y="483"/>
                </a:lnTo>
                <a:lnTo>
                  <a:pt x="70" y="453"/>
                </a:lnTo>
                <a:lnTo>
                  <a:pt x="71" y="426"/>
                </a:lnTo>
                <a:lnTo>
                  <a:pt x="73" y="399"/>
                </a:lnTo>
                <a:lnTo>
                  <a:pt x="75" y="374"/>
                </a:lnTo>
                <a:lnTo>
                  <a:pt x="77" y="349"/>
                </a:lnTo>
                <a:lnTo>
                  <a:pt x="79" y="328"/>
                </a:lnTo>
                <a:lnTo>
                  <a:pt x="81" y="307"/>
                </a:lnTo>
                <a:lnTo>
                  <a:pt x="81" y="288"/>
                </a:lnTo>
                <a:lnTo>
                  <a:pt x="83" y="270"/>
                </a:lnTo>
                <a:lnTo>
                  <a:pt x="83" y="255"/>
                </a:lnTo>
                <a:lnTo>
                  <a:pt x="83" y="240"/>
                </a:lnTo>
                <a:lnTo>
                  <a:pt x="85" y="228"/>
                </a:lnTo>
                <a:lnTo>
                  <a:pt x="79" y="203"/>
                </a:lnTo>
                <a:lnTo>
                  <a:pt x="75" y="180"/>
                </a:lnTo>
                <a:lnTo>
                  <a:pt x="70" y="159"/>
                </a:lnTo>
                <a:lnTo>
                  <a:pt x="66" y="140"/>
                </a:lnTo>
                <a:lnTo>
                  <a:pt x="60" y="121"/>
                </a:lnTo>
                <a:lnTo>
                  <a:pt x="56" y="103"/>
                </a:lnTo>
                <a:lnTo>
                  <a:pt x="50" y="86"/>
                </a:lnTo>
                <a:lnTo>
                  <a:pt x="47" y="71"/>
                </a:lnTo>
                <a:lnTo>
                  <a:pt x="43" y="63"/>
                </a:lnTo>
                <a:lnTo>
                  <a:pt x="39" y="57"/>
                </a:lnTo>
                <a:lnTo>
                  <a:pt x="35" y="52"/>
                </a:lnTo>
                <a:lnTo>
                  <a:pt x="33" y="46"/>
                </a:lnTo>
                <a:lnTo>
                  <a:pt x="31" y="40"/>
                </a:lnTo>
                <a:lnTo>
                  <a:pt x="29" y="36"/>
                </a:lnTo>
                <a:lnTo>
                  <a:pt x="27" y="32"/>
                </a:lnTo>
                <a:lnTo>
                  <a:pt x="27" y="29"/>
                </a:lnTo>
                <a:lnTo>
                  <a:pt x="27" y="25"/>
                </a:lnTo>
                <a:lnTo>
                  <a:pt x="29" y="21"/>
                </a:lnTo>
                <a:lnTo>
                  <a:pt x="29" y="19"/>
                </a:lnTo>
                <a:lnTo>
                  <a:pt x="31" y="15"/>
                </a:lnTo>
                <a:lnTo>
                  <a:pt x="35" y="13"/>
                </a:lnTo>
                <a:lnTo>
                  <a:pt x="39" y="11"/>
                </a:lnTo>
                <a:lnTo>
                  <a:pt x="41" y="7"/>
                </a:lnTo>
                <a:lnTo>
                  <a:pt x="47" y="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62"/>
          <p:cNvSpPr/>
          <p:nvPr/>
        </p:nvSpPr>
        <p:spPr>
          <a:xfrm>
            <a:off x="6170760" y="3576600"/>
            <a:ext cx="352440" cy="331920"/>
          </a:xfrm>
          <a:custGeom>
            <a:avLst/>
            <a:gdLst/>
            <a:ahLst/>
            <a:rect l="l" t="t" r="r" b="b"/>
            <a:pathLst>
              <a:path w="445" h="418">
                <a:moveTo>
                  <a:pt x="194" y="157"/>
                </a:moveTo>
                <a:lnTo>
                  <a:pt x="202" y="142"/>
                </a:lnTo>
                <a:lnTo>
                  <a:pt x="209" y="127"/>
                </a:lnTo>
                <a:lnTo>
                  <a:pt x="215" y="113"/>
                </a:lnTo>
                <a:lnTo>
                  <a:pt x="219" y="98"/>
                </a:lnTo>
                <a:lnTo>
                  <a:pt x="223" y="83"/>
                </a:lnTo>
                <a:lnTo>
                  <a:pt x="223" y="75"/>
                </a:lnTo>
                <a:lnTo>
                  <a:pt x="223" y="69"/>
                </a:lnTo>
                <a:lnTo>
                  <a:pt x="223" y="61"/>
                </a:lnTo>
                <a:lnTo>
                  <a:pt x="223" y="54"/>
                </a:lnTo>
                <a:lnTo>
                  <a:pt x="221" y="46"/>
                </a:lnTo>
                <a:lnTo>
                  <a:pt x="219" y="38"/>
                </a:lnTo>
                <a:lnTo>
                  <a:pt x="217" y="35"/>
                </a:lnTo>
                <a:lnTo>
                  <a:pt x="215" y="31"/>
                </a:lnTo>
                <a:lnTo>
                  <a:pt x="213" y="25"/>
                </a:lnTo>
                <a:lnTo>
                  <a:pt x="213" y="21"/>
                </a:lnTo>
                <a:lnTo>
                  <a:pt x="213" y="19"/>
                </a:lnTo>
                <a:lnTo>
                  <a:pt x="215" y="15"/>
                </a:lnTo>
                <a:lnTo>
                  <a:pt x="217" y="10"/>
                </a:lnTo>
                <a:lnTo>
                  <a:pt x="221" y="6"/>
                </a:lnTo>
                <a:lnTo>
                  <a:pt x="227" y="2"/>
                </a:lnTo>
                <a:lnTo>
                  <a:pt x="234" y="0"/>
                </a:lnTo>
                <a:lnTo>
                  <a:pt x="244" y="0"/>
                </a:lnTo>
                <a:lnTo>
                  <a:pt x="246" y="0"/>
                </a:lnTo>
                <a:lnTo>
                  <a:pt x="250" y="0"/>
                </a:lnTo>
                <a:lnTo>
                  <a:pt x="254" y="2"/>
                </a:lnTo>
                <a:lnTo>
                  <a:pt x="257" y="2"/>
                </a:lnTo>
                <a:lnTo>
                  <a:pt x="263" y="4"/>
                </a:lnTo>
                <a:lnTo>
                  <a:pt x="269" y="6"/>
                </a:lnTo>
                <a:lnTo>
                  <a:pt x="275" y="6"/>
                </a:lnTo>
                <a:lnTo>
                  <a:pt x="282" y="8"/>
                </a:lnTo>
                <a:lnTo>
                  <a:pt x="288" y="10"/>
                </a:lnTo>
                <a:lnTo>
                  <a:pt x="296" y="12"/>
                </a:lnTo>
                <a:lnTo>
                  <a:pt x="305" y="13"/>
                </a:lnTo>
                <a:lnTo>
                  <a:pt x="315" y="17"/>
                </a:lnTo>
                <a:lnTo>
                  <a:pt x="325" y="19"/>
                </a:lnTo>
                <a:lnTo>
                  <a:pt x="334" y="21"/>
                </a:lnTo>
                <a:lnTo>
                  <a:pt x="346" y="23"/>
                </a:lnTo>
                <a:lnTo>
                  <a:pt x="357" y="27"/>
                </a:lnTo>
                <a:lnTo>
                  <a:pt x="369" y="31"/>
                </a:lnTo>
                <a:lnTo>
                  <a:pt x="378" y="37"/>
                </a:lnTo>
                <a:lnTo>
                  <a:pt x="388" y="40"/>
                </a:lnTo>
                <a:lnTo>
                  <a:pt x="397" y="46"/>
                </a:lnTo>
                <a:lnTo>
                  <a:pt x="405" y="50"/>
                </a:lnTo>
                <a:lnTo>
                  <a:pt x="413" y="56"/>
                </a:lnTo>
                <a:lnTo>
                  <a:pt x="419" y="61"/>
                </a:lnTo>
                <a:lnTo>
                  <a:pt x="424" y="65"/>
                </a:lnTo>
                <a:lnTo>
                  <a:pt x="428" y="71"/>
                </a:lnTo>
                <a:lnTo>
                  <a:pt x="434" y="75"/>
                </a:lnTo>
                <a:lnTo>
                  <a:pt x="438" y="81"/>
                </a:lnTo>
                <a:lnTo>
                  <a:pt x="440" y="84"/>
                </a:lnTo>
                <a:lnTo>
                  <a:pt x="442" y="90"/>
                </a:lnTo>
                <a:lnTo>
                  <a:pt x="444" y="94"/>
                </a:lnTo>
                <a:lnTo>
                  <a:pt x="444" y="100"/>
                </a:lnTo>
                <a:lnTo>
                  <a:pt x="445" y="104"/>
                </a:lnTo>
                <a:lnTo>
                  <a:pt x="444" y="109"/>
                </a:lnTo>
                <a:lnTo>
                  <a:pt x="442" y="115"/>
                </a:lnTo>
                <a:lnTo>
                  <a:pt x="438" y="123"/>
                </a:lnTo>
                <a:lnTo>
                  <a:pt x="432" y="131"/>
                </a:lnTo>
                <a:lnTo>
                  <a:pt x="426" y="140"/>
                </a:lnTo>
                <a:lnTo>
                  <a:pt x="417" y="150"/>
                </a:lnTo>
                <a:lnTo>
                  <a:pt x="407" y="159"/>
                </a:lnTo>
                <a:lnTo>
                  <a:pt x="396" y="171"/>
                </a:lnTo>
                <a:lnTo>
                  <a:pt x="382" y="182"/>
                </a:lnTo>
                <a:lnTo>
                  <a:pt x="367" y="196"/>
                </a:lnTo>
                <a:lnTo>
                  <a:pt x="351" y="209"/>
                </a:lnTo>
                <a:lnTo>
                  <a:pt x="332" y="223"/>
                </a:lnTo>
                <a:lnTo>
                  <a:pt x="313" y="238"/>
                </a:lnTo>
                <a:lnTo>
                  <a:pt x="292" y="253"/>
                </a:lnTo>
                <a:lnTo>
                  <a:pt x="269" y="269"/>
                </a:lnTo>
                <a:lnTo>
                  <a:pt x="244" y="286"/>
                </a:lnTo>
                <a:lnTo>
                  <a:pt x="219" y="303"/>
                </a:lnTo>
                <a:lnTo>
                  <a:pt x="194" y="319"/>
                </a:lnTo>
                <a:lnTo>
                  <a:pt x="171" y="334"/>
                </a:lnTo>
                <a:lnTo>
                  <a:pt x="150" y="347"/>
                </a:lnTo>
                <a:lnTo>
                  <a:pt x="131" y="361"/>
                </a:lnTo>
                <a:lnTo>
                  <a:pt x="111" y="372"/>
                </a:lnTo>
                <a:lnTo>
                  <a:pt x="94" y="382"/>
                </a:lnTo>
                <a:lnTo>
                  <a:pt x="77" y="392"/>
                </a:lnTo>
                <a:lnTo>
                  <a:pt x="63" y="399"/>
                </a:lnTo>
                <a:lnTo>
                  <a:pt x="50" y="405"/>
                </a:lnTo>
                <a:lnTo>
                  <a:pt x="39" y="411"/>
                </a:lnTo>
                <a:lnTo>
                  <a:pt x="29" y="415"/>
                </a:lnTo>
                <a:lnTo>
                  <a:pt x="19" y="417"/>
                </a:lnTo>
                <a:lnTo>
                  <a:pt x="14" y="418"/>
                </a:lnTo>
                <a:lnTo>
                  <a:pt x="8" y="418"/>
                </a:lnTo>
                <a:lnTo>
                  <a:pt x="6" y="417"/>
                </a:lnTo>
                <a:lnTo>
                  <a:pt x="2" y="417"/>
                </a:lnTo>
                <a:lnTo>
                  <a:pt x="2" y="415"/>
                </a:lnTo>
                <a:lnTo>
                  <a:pt x="0" y="413"/>
                </a:lnTo>
                <a:lnTo>
                  <a:pt x="0" y="409"/>
                </a:lnTo>
                <a:lnTo>
                  <a:pt x="2" y="405"/>
                </a:lnTo>
                <a:lnTo>
                  <a:pt x="2" y="401"/>
                </a:lnTo>
                <a:lnTo>
                  <a:pt x="6" y="395"/>
                </a:lnTo>
                <a:lnTo>
                  <a:pt x="8" y="390"/>
                </a:lnTo>
                <a:lnTo>
                  <a:pt x="12" y="382"/>
                </a:lnTo>
                <a:lnTo>
                  <a:pt x="17" y="374"/>
                </a:lnTo>
                <a:lnTo>
                  <a:pt x="23" y="367"/>
                </a:lnTo>
                <a:lnTo>
                  <a:pt x="31" y="357"/>
                </a:lnTo>
                <a:lnTo>
                  <a:pt x="39" y="346"/>
                </a:lnTo>
                <a:lnTo>
                  <a:pt x="46" y="336"/>
                </a:lnTo>
                <a:lnTo>
                  <a:pt x="56" y="324"/>
                </a:lnTo>
                <a:lnTo>
                  <a:pt x="67" y="313"/>
                </a:lnTo>
                <a:lnTo>
                  <a:pt x="79" y="299"/>
                </a:lnTo>
                <a:lnTo>
                  <a:pt x="90" y="288"/>
                </a:lnTo>
                <a:lnTo>
                  <a:pt x="100" y="276"/>
                </a:lnTo>
                <a:lnTo>
                  <a:pt x="110" y="265"/>
                </a:lnTo>
                <a:lnTo>
                  <a:pt x="119" y="255"/>
                </a:lnTo>
                <a:lnTo>
                  <a:pt x="129" y="244"/>
                </a:lnTo>
                <a:lnTo>
                  <a:pt x="144" y="225"/>
                </a:lnTo>
                <a:lnTo>
                  <a:pt x="159" y="205"/>
                </a:lnTo>
                <a:lnTo>
                  <a:pt x="173" y="188"/>
                </a:lnTo>
                <a:lnTo>
                  <a:pt x="184" y="171"/>
                </a:lnTo>
                <a:lnTo>
                  <a:pt x="194" y="1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63"/>
          <p:cNvSpPr/>
          <p:nvPr/>
        </p:nvSpPr>
        <p:spPr>
          <a:xfrm>
            <a:off x="5583240" y="3679920"/>
            <a:ext cx="237960" cy="249120"/>
          </a:xfrm>
          <a:custGeom>
            <a:avLst/>
            <a:gdLst/>
            <a:ahLst/>
            <a:rect l="l" t="t" r="r" b="b"/>
            <a:pathLst>
              <a:path w="300" h="312">
                <a:moveTo>
                  <a:pt x="280" y="261"/>
                </a:moveTo>
                <a:lnTo>
                  <a:pt x="277" y="266"/>
                </a:lnTo>
                <a:lnTo>
                  <a:pt x="275" y="272"/>
                </a:lnTo>
                <a:lnTo>
                  <a:pt x="273" y="280"/>
                </a:lnTo>
                <a:lnTo>
                  <a:pt x="271" y="284"/>
                </a:lnTo>
                <a:lnTo>
                  <a:pt x="267" y="289"/>
                </a:lnTo>
                <a:lnTo>
                  <a:pt x="265" y="293"/>
                </a:lnTo>
                <a:lnTo>
                  <a:pt x="263" y="297"/>
                </a:lnTo>
                <a:lnTo>
                  <a:pt x="261" y="301"/>
                </a:lnTo>
                <a:lnTo>
                  <a:pt x="255" y="305"/>
                </a:lnTo>
                <a:lnTo>
                  <a:pt x="252" y="309"/>
                </a:lnTo>
                <a:lnTo>
                  <a:pt x="246" y="311"/>
                </a:lnTo>
                <a:lnTo>
                  <a:pt x="242" y="312"/>
                </a:lnTo>
                <a:lnTo>
                  <a:pt x="238" y="311"/>
                </a:lnTo>
                <a:lnTo>
                  <a:pt x="234" y="309"/>
                </a:lnTo>
                <a:lnTo>
                  <a:pt x="230" y="307"/>
                </a:lnTo>
                <a:lnTo>
                  <a:pt x="225" y="303"/>
                </a:lnTo>
                <a:lnTo>
                  <a:pt x="219" y="297"/>
                </a:lnTo>
                <a:lnTo>
                  <a:pt x="211" y="291"/>
                </a:lnTo>
                <a:lnTo>
                  <a:pt x="204" y="284"/>
                </a:lnTo>
                <a:lnTo>
                  <a:pt x="196" y="274"/>
                </a:lnTo>
                <a:lnTo>
                  <a:pt x="186" y="264"/>
                </a:lnTo>
                <a:lnTo>
                  <a:pt x="177" y="255"/>
                </a:lnTo>
                <a:lnTo>
                  <a:pt x="165" y="241"/>
                </a:lnTo>
                <a:lnTo>
                  <a:pt x="154" y="230"/>
                </a:lnTo>
                <a:lnTo>
                  <a:pt x="142" y="216"/>
                </a:lnTo>
                <a:lnTo>
                  <a:pt x="131" y="201"/>
                </a:lnTo>
                <a:lnTo>
                  <a:pt x="117" y="186"/>
                </a:lnTo>
                <a:lnTo>
                  <a:pt x="104" y="168"/>
                </a:lnTo>
                <a:lnTo>
                  <a:pt x="90" y="151"/>
                </a:lnTo>
                <a:lnTo>
                  <a:pt x="77" y="136"/>
                </a:lnTo>
                <a:lnTo>
                  <a:pt x="65" y="120"/>
                </a:lnTo>
                <a:lnTo>
                  <a:pt x="54" y="107"/>
                </a:lnTo>
                <a:lnTo>
                  <a:pt x="44" y="94"/>
                </a:lnTo>
                <a:lnTo>
                  <a:pt x="35" y="82"/>
                </a:lnTo>
                <a:lnTo>
                  <a:pt x="27" y="71"/>
                </a:lnTo>
                <a:lnTo>
                  <a:pt x="21" y="61"/>
                </a:lnTo>
                <a:lnTo>
                  <a:pt x="15" y="51"/>
                </a:lnTo>
                <a:lnTo>
                  <a:pt x="10" y="44"/>
                </a:lnTo>
                <a:lnTo>
                  <a:pt x="6" y="36"/>
                </a:lnTo>
                <a:lnTo>
                  <a:pt x="2" y="28"/>
                </a:lnTo>
                <a:lnTo>
                  <a:pt x="2" y="25"/>
                </a:lnTo>
                <a:lnTo>
                  <a:pt x="0" y="19"/>
                </a:lnTo>
                <a:lnTo>
                  <a:pt x="2" y="15"/>
                </a:lnTo>
                <a:lnTo>
                  <a:pt x="4" y="13"/>
                </a:lnTo>
                <a:lnTo>
                  <a:pt x="4" y="7"/>
                </a:lnTo>
                <a:lnTo>
                  <a:pt x="6" y="5"/>
                </a:lnTo>
                <a:lnTo>
                  <a:pt x="8" y="1"/>
                </a:lnTo>
                <a:lnTo>
                  <a:pt x="12" y="1"/>
                </a:lnTo>
                <a:lnTo>
                  <a:pt x="17" y="0"/>
                </a:lnTo>
                <a:lnTo>
                  <a:pt x="23" y="0"/>
                </a:lnTo>
                <a:lnTo>
                  <a:pt x="31" y="0"/>
                </a:lnTo>
                <a:lnTo>
                  <a:pt x="40" y="0"/>
                </a:lnTo>
                <a:lnTo>
                  <a:pt x="46" y="0"/>
                </a:lnTo>
                <a:lnTo>
                  <a:pt x="52" y="0"/>
                </a:lnTo>
                <a:lnTo>
                  <a:pt x="58" y="0"/>
                </a:lnTo>
                <a:lnTo>
                  <a:pt x="63" y="1"/>
                </a:lnTo>
                <a:lnTo>
                  <a:pt x="71" y="3"/>
                </a:lnTo>
                <a:lnTo>
                  <a:pt x="79" y="3"/>
                </a:lnTo>
                <a:lnTo>
                  <a:pt x="96" y="7"/>
                </a:lnTo>
                <a:lnTo>
                  <a:pt x="113" y="11"/>
                </a:lnTo>
                <a:lnTo>
                  <a:pt x="134" y="15"/>
                </a:lnTo>
                <a:lnTo>
                  <a:pt x="156" y="21"/>
                </a:lnTo>
                <a:lnTo>
                  <a:pt x="179" y="26"/>
                </a:lnTo>
                <a:lnTo>
                  <a:pt x="190" y="30"/>
                </a:lnTo>
                <a:lnTo>
                  <a:pt x="202" y="36"/>
                </a:lnTo>
                <a:lnTo>
                  <a:pt x="211" y="42"/>
                </a:lnTo>
                <a:lnTo>
                  <a:pt x="221" y="48"/>
                </a:lnTo>
                <a:lnTo>
                  <a:pt x="230" y="53"/>
                </a:lnTo>
                <a:lnTo>
                  <a:pt x="238" y="59"/>
                </a:lnTo>
                <a:lnTo>
                  <a:pt x="248" y="67"/>
                </a:lnTo>
                <a:lnTo>
                  <a:pt x="254" y="72"/>
                </a:lnTo>
                <a:lnTo>
                  <a:pt x="261" y="80"/>
                </a:lnTo>
                <a:lnTo>
                  <a:pt x="267" y="86"/>
                </a:lnTo>
                <a:lnTo>
                  <a:pt x="273" y="94"/>
                </a:lnTo>
                <a:lnTo>
                  <a:pt x="278" y="99"/>
                </a:lnTo>
                <a:lnTo>
                  <a:pt x="282" y="107"/>
                </a:lnTo>
                <a:lnTo>
                  <a:pt x="286" y="115"/>
                </a:lnTo>
                <a:lnTo>
                  <a:pt x="290" y="122"/>
                </a:lnTo>
                <a:lnTo>
                  <a:pt x="292" y="130"/>
                </a:lnTo>
                <a:lnTo>
                  <a:pt x="296" y="147"/>
                </a:lnTo>
                <a:lnTo>
                  <a:pt x="298" y="167"/>
                </a:lnTo>
                <a:lnTo>
                  <a:pt x="300" y="184"/>
                </a:lnTo>
                <a:lnTo>
                  <a:pt x="300" y="199"/>
                </a:lnTo>
                <a:lnTo>
                  <a:pt x="298" y="215"/>
                </a:lnTo>
                <a:lnTo>
                  <a:pt x="296" y="222"/>
                </a:lnTo>
                <a:lnTo>
                  <a:pt x="294" y="230"/>
                </a:lnTo>
                <a:lnTo>
                  <a:pt x="290" y="238"/>
                </a:lnTo>
                <a:lnTo>
                  <a:pt x="288" y="245"/>
                </a:lnTo>
                <a:lnTo>
                  <a:pt x="284" y="253"/>
                </a:lnTo>
                <a:lnTo>
                  <a:pt x="280" y="2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64"/>
          <p:cNvSpPr/>
          <p:nvPr/>
        </p:nvSpPr>
        <p:spPr>
          <a:xfrm>
            <a:off x="5888160" y="3508200"/>
            <a:ext cx="217440" cy="1420920"/>
          </a:xfrm>
          <a:custGeom>
            <a:avLst/>
            <a:gdLst/>
            <a:ahLst/>
            <a:rect l="l" t="t" r="r" b="b"/>
            <a:pathLst>
              <a:path w="275" h="1791">
                <a:moveTo>
                  <a:pt x="234" y="919"/>
                </a:moveTo>
                <a:lnTo>
                  <a:pt x="234" y="959"/>
                </a:lnTo>
                <a:lnTo>
                  <a:pt x="234" y="1000"/>
                </a:lnTo>
                <a:lnTo>
                  <a:pt x="234" y="1038"/>
                </a:lnTo>
                <a:lnTo>
                  <a:pt x="234" y="1076"/>
                </a:lnTo>
                <a:lnTo>
                  <a:pt x="234" y="1113"/>
                </a:lnTo>
                <a:lnTo>
                  <a:pt x="234" y="1149"/>
                </a:lnTo>
                <a:lnTo>
                  <a:pt x="234" y="1184"/>
                </a:lnTo>
                <a:lnTo>
                  <a:pt x="234" y="1217"/>
                </a:lnTo>
                <a:lnTo>
                  <a:pt x="234" y="1249"/>
                </a:lnTo>
                <a:lnTo>
                  <a:pt x="234" y="1280"/>
                </a:lnTo>
                <a:lnTo>
                  <a:pt x="234" y="1311"/>
                </a:lnTo>
                <a:lnTo>
                  <a:pt x="234" y="1339"/>
                </a:lnTo>
                <a:lnTo>
                  <a:pt x="234" y="1366"/>
                </a:lnTo>
                <a:lnTo>
                  <a:pt x="232" y="1393"/>
                </a:lnTo>
                <a:lnTo>
                  <a:pt x="232" y="1420"/>
                </a:lnTo>
                <a:lnTo>
                  <a:pt x="232" y="1445"/>
                </a:lnTo>
                <a:lnTo>
                  <a:pt x="232" y="1468"/>
                </a:lnTo>
                <a:lnTo>
                  <a:pt x="232" y="1491"/>
                </a:lnTo>
                <a:lnTo>
                  <a:pt x="232" y="1512"/>
                </a:lnTo>
                <a:lnTo>
                  <a:pt x="230" y="1531"/>
                </a:lnTo>
                <a:lnTo>
                  <a:pt x="230" y="1551"/>
                </a:lnTo>
                <a:lnTo>
                  <a:pt x="230" y="1570"/>
                </a:lnTo>
                <a:lnTo>
                  <a:pt x="230" y="1585"/>
                </a:lnTo>
                <a:lnTo>
                  <a:pt x="228" y="1602"/>
                </a:lnTo>
                <a:lnTo>
                  <a:pt x="228" y="1616"/>
                </a:lnTo>
                <a:lnTo>
                  <a:pt x="228" y="1629"/>
                </a:lnTo>
                <a:lnTo>
                  <a:pt x="227" y="1643"/>
                </a:lnTo>
                <a:lnTo>
                  <a:pt x="227" y="1654"/>
                </a:lnTo>
                <a:lnTo>
                  <a:pt x="225" y="1664"/>
                </a:lnTo>
                <a:lnTo>
                  <a:pt x="225" y="1672"/>
                </a:lnTo>
                <a:lnTo>
                  <a:pt x="223" y="1681"/>
                </a:lnTo>
                <a:lnTo>
                  <a:pt x="223" y="1687"/>
                </a:lnTo>
                <a:lnTo>
                  <a:pt x="219" y="1698"/>
                </a:lnTo>
                <a:lnTo>
                  <a:pt x="217" y="1710"/>
                </a:lnTo>
                <a:lnTo>
                  <a:pt x="215" y="1721"/>
                </a:lnTo>
                <a:lnTo>
                  <a:pt x="213" y="1731"/>
                </a:lnTo>
                <a:lnTo>
                  <a:pt x="211" y="1741"/>
                </a:lnTo>
                <a:lnTo>
                  <a:pt x="207" y="1748"/>
                </a:lnTo>
                <a:lnTo>
                  <a:pt x="205" y="1756"/>
                </a:lnTo>
                <a:lnTo>
                  <a:pt x="203" y="1764"/>
                </a:lnTo>
                <a:lnTo>
                  <a:pt x="202" y="1769"/>
                </a:lnTo>
                <a:lnTo>
                  <a:pt x="198" y="1775"/>
                </a:lnTo>
                <a:lnTo>
                  <a:pt x="196" y="1781"/>
                </a:lnTo>
                <a:lnTo>
                  <a:pt x="194" y="1785"/>
                </a:lnTo>
                <a:lnTo>
                  <a:pt x="192" y="1787"/>
                </a:lnTo>
                <a:lnTo>
                  <a:pt x="188" y="1789"/>
                </a:lnTo>
                <a:lnTo>
                  <a:pt x="186" y="1791"/>
                </a:lnTo>
                <a:lnTo>
                  <a:pt x="184" y="1791"/>
                </a:lnTo>
                <a:lnTo>
                  <a:pt x="182" y="1791"/>
                </a:lnTo>
                <a:lnTo>
                  <a:pt x="179" y="1791"/>
                </a:lnTo>
                <a:lnTo>
                  <a:pt x="177" y="1789"/>
                </a:lnTo>
                <a:lnTo>
                  <a:pt x="173" y="1787"/>
                </a:lnTo>
                <a:lnTo>
                  <a:pt x="169" y="1783"/>
                </a:lnTo>
                <a:lnTo>
                  <a:pt x="165" y="1781"/>
                </a:lnTo>
                <a:lnTo>
                  <a:pt x="161" y="1775"/>
                </a:lnTo>
                <a:lnTo>
                  <a:pt x="157" y="1771"/>
                </a:lnTo>
                <a:lnTo>
                  <a:pt x="154" y="1766"/>
                </a:lnTo>
                <a:lnTo>
                  <a:pt x="148" y="1760"/>
                </a:lnTo>
                <a:lnTo>
                  <a:pt x="144" y="1754"/>
                </a:lnTo>
                <a:lnTo>
                  <a:pt x="140" y="1746"/>
                </a:lnTo>
                <a:lnTo>
                  <a:pt x="134" y="1739"/>
                </a:lnTo>
                <a:lnTo>
                  <a:pt x="131" y="1731"/>
                </a:lnTo>
                <a:lnTo>
                  <a:pt x="127" y="1721"/>
                </a:lnTo>
                <a:lnTo>
                  <a:pt x="121" y="1714"/>
                </a:lnTo>
                <a:lnTo>
                  <a:pt x="115" y="1704"/>
                </a:lnTo>
                <a:lnTo>
                  <a:pt x="109" y="1696"/>
                </a:lnTo>
                <a:lnTo>
                  <a:pt x="104" y="1685"/>
                </a:lnTo>
                <a:lnTo>
                  <a:pt x="100" y="1673"/>
                </a:lnTo>
                <a:lnTo>
                  <a:pt x="96" y="1660"/>
                </a:lnTo>
                <a:lnTo>
                  <a:pt x="94" y="1647"/>
                </a:lnTo>
                <a:lnTo>
                  <a:pt x="92" y="1631"/>
                </a:lnTo>
                <a:lnTo>
                  <a:pt x="90" y="1616"/>
                </a:lnTo>
                <a:lnTo>
                  <a:pt x="90" y="1597"/>
                </a:lnTo>
                <a:lnTo>
                  <a:pt x="88" y="1579"/>
                </a:lnTo>
                <a:lnTo>
                  <a:pt x="88" y="1558"/>
                </a:lnTo>
                <a:lnTo>
                  <a:pt x="90" y="1537"/>
                </a:lnTo>
                <a:lnTo>
                  <a:pt x="90" y="1514"/>
                </a:lnTo>
                <a:lnTo>
                  <a:pt x="92" y="1491"/>
                </a:lnTo>
                <a:lnTo>
                  <a:pt x="94" y="1466"/>
                </a:lnTo>
                <a:lnTo>
                  <a:pt x="96" y="1439"/>
                </a:lnTo>
                <a:lnTo>
                  <a:pt x="98" y="1426"/>
                </a:lnTo>
                <a:lnTo>
                  <a:pt x="98" y="1412"/>
                </a:lnTo>
                <a:lnTo>
                  <a:pt x="100" y="1397"/>
                </a:lnTo>
                <a:lnTo>
                  <a:pt x="100" y="1382"/>
                </a:lnTo>
                <a:lnTo>
                  <a:pt x="102" y="1366"/>
                </a:lnTo>
                <a:lnTo>
                  <a:pt x="104" y="1349"/>
                </a:lnTo>
                <a:lnTo>
                  <a:pt x="104" y="1332"/>
                </a:lnTo>
                <a:lnTo>
                  <a:pt x="106" y="1314"/>
                </a:lnTo>
                <a:lnTo>
                  <a:pt x="106" y="1297"/>
                </a:lnTo>
                <a:lnTo>
                  <a:pt x="108" y="1278"/>
                </a:lnTo>
                <a:lnTo>
                  <a:pt x="109" y="1259"/>
                </a:lnTo>
                <a:lnTo>
                  <a:pt x="109" y="1240"/>
                </a:lnTo>
                <a:lnTo>
                  <a:pt x="111" y="1220"/>
                </a:lnTo>
                <a:lnTo>
                  <a:pt x="111" y="1199"/>
                </a:lnTo>
                <a:lnTo>
                  <a:pt x="113" y="1178"/>
                </a:lnTo>
                <a:lnTo>
                  <a:pt x="113" y="1157"/>
                </a:lnTo>
                <a:lnTo>
                  <a:pt x="115" y="1134"/>
                </a:lnTo>
                <a:lnTo>
                  <a:pt x="115" y="1111"/>
                </a:lnTo>
                <a:lnTo>
                  <a:pt x="115" y="1088"/>
                </a:lnTo>
                <a:lnTo>
                  <a:pt x="117" y="1065"/>
                </a:lnTo>
                <a:lnTo>
                  <a:pt x="117" y="1040"/>
                </a:lnTo>
                <a:lnTo>
                  <a:pt x="119" y="1015"/>
                </a:lnTo>
                <a:lnTo>
                  <a:pt x="119" y="990"/>
                </a:lnTo>
                <a:lnTo>
                  <a:pt x="119" y="963"/>
                </a:lnTo>
                <a:lnTo>
                  <a:pt x="119" y="936"/>
                </a:lnTo>
                <a:lnTo>
                  <a:pt x="121" y="909"/>
                </a:lnTo>
                <a:lnTo>
                  <a:pt x="121" y="883"/>
                </a:lnTo>
                <a:lnTo>
                  <a:pt x="121" y="854"/>
                </a:lnTo>
                <a:lnTo>
                  <a:pt x="121" y="825"/>
                </a:lnTo>
                <a:lnTo>
                  <a:pt x="121" y="796"/>
                </a:lnTo>
                <a:lnTo>
                  <a:pt x="121" y="767"/>
                </a:lnTo>
                <a:lnTo>
                  <a:pt x="121" y="737"/>
                </a:lnTo>
                <a:lnTo>
                  <a:pt x="121" y="706"/>
                </a:lnTo>
                <a:lnTo>
                  <a:pt x="119" y="677"/>
                </a:lnTo>
                <a:lnTo>
                  <a:pt x="117" y="648"/>
                </a:lnTo>
                <a:lnTo>
                  <a:pt x="117" y="622"/>
                </a:lnTo>
                <a:lnTo>
                  <a:pt x="115" y="595"/>
                </a:lnTo>
                <a:lnTo>
                  <a:pt x="115" y="570"/>
                </a:lnTo>
                <a:lnTo>
                  <a:pt x="113" y="543"/>
                </a:lnTo>
                <a:lnTo>
                  <a:pt x="111" y="520"/>
                </a:lnTo>
                <a:lnTo>
                  <a:pt x="111" y="497"/>
                </a:lnTo>
                <a:lnTo>
                  <a:pt x="109" y="474"/>
                </a:lnTo>
                <a:lnTo>
                  <a:pt x="108" y="451"/>
                </a:lnTo>
                <a:lnTo>
                  <a:pt x="108" y="430"/>
                </a:lnTo>
                <a:lnTo>
                  <a:pt x="106" y="410"/>
                </a:lnTo>
                <a:lnTo>
                  <a:pt x="106" y="391"/>
                </a:lnTo>
                <a:lnTo>
                  <a:pt x="104" y="372"/>
                </a:lnTo>
                <a:lnTo>
                  <a:pt x="102" y="355"/>
                </a:lnTo>
                <a:lnTo>
                  <a:pt x="102" y="337"/>
                </a:lnTo>
                <a:lnTo>
                  <a:pt x="100" y="322"/>
                </a:lnTo>
                <a:lnTo>
                  <a:pt x="100" y="307"/>
                </a:lnTo>
                <a:lnTo>
                  <a:pt x="98" y="291"/>
                </a:lnTo>
                <a:lnTo>
                  <a:pt x="96" y="278"/>
                </a:lnTo>
                <a:lnTo>
                  <a:pt x="96" y="265"/>
                </a:lnTo>
                <a:lnTo>
                  <a:pt x="94" y="253"/>
                </a:lnTo>
                <a:lnTo>
                  <a:pt x="92" y="242"/>
                </a:lnTo>
                <a:lnTo>
                  <a:pt x="92" y="230"/>
                </a:lnTo>
                <a:lnTo>
                  <a:pt x="90" y="220"/>
                </a:lnTo>
                <a:lnTo>
                  <a:pt x="90" y="211"/>
                </a:lnTo>
                <a:lnTo>
                  <a:pt x="88" y="203"/>
                </a:lnTo>
                <a:lnTo>
                  <a:pt x="86" y="195"/>
                </a:lnTo>
                <a:lnTo>
                  <a:pt x="86" y="188"/>
                </a:lnTo>
                <a:lnTo>
                  <a:pt x="84" y="182"/>
                </a:lnTo>
                <a:lnTo>
                  <a:pt x="84" y="178"/>
                </a:lnTo>
                <a:lnTo>
                  <a:pt x="79" y="163"/>
                </a:lnTo>
                <a:lnTo>
                  <a:pt x="73" y="147"/>
                </a:lnTo>
                <a:lnTo>
                  <a:pt x="65" y="134"/>
                </a:lnTo>
                <a:lnTo>
                  <a:pt x="58" y="121"/>
                </a:lnTo>
                <a:lnTo>
                  <a:pt x="48" y="107"/>
                </a:lnTo>
                <a:lnTo>
                  <a:pt x="38" y="96"/>
                </a:lnTo>
                <a:lnTo>
                  <a:pt x="31" y="84"/>
                </a:lnTo>
                <a:lnTo>
                  <a:pt x="21" y="73"/>
                </a:lnTo>
                <a:lnTo>
                  <a:pt x="15" y="71"/>
                </a:lnTo>
                <a:lnTo>
                  <a:pt x="12" y="67"/>
                </a:lnTo>
                <a:lnTo>
                  <a:pt x="10" y="65"/>
                </a:lnTo>
                <a:lnTo>
                  <a:pt x="6" y="61"/>
                </a:lnTo>
                <a:lnTo>
                  <a:pt x="4" y="57"/>
                </a:lnTo>
                <a:lnTo>
                  <a:pt x="2" y="53"/>
                </a:lnTo>
                <a:lnTo>
                  <a:pt x="0" y="46"/>
                </a:lnTo>
                <a:lnTo>
                  <a:pt x="0" y="36"/>
                </a:lnTo>
                <a:lnTo>
                  <a:pt x="2" y="27"/>
                </a:lnTo>
                <a:lnTo>
                  <a:pt x="4" y="17"/>
                </a:lnTo>
                <a:lnTo>
                  <a:pt x="8" y="7"/>
                </a:lnTo>
                <a:lnTo>
                  <a:pt x="12" y="5"/>
                </a:lnTo>
                <a:lnTo>
                  <a:pt x="15" y="3"/>
                </a:lnTo>
                <a:lnTo>
                  <a:pt x="19" y="2"/>
                </a:lnTo>
                <a:lnTo>
                  <a:pt x="25" y="2"/>
                </a:lnTo>
                <a:lnTo>
                  <a:pt x="31" y="0"/>
                </a:lnTo>
                <a:lnTo>
                  <a:pt x="38" y="0"/>
                </a:lnTo>
                <a:lnTo>
                  <a:pt x="46" y="0"/>
                </a:lnTo>
                <a:lnTo>
                  <a:pt x="56" y="2"/>
                </a:lnTo>
                <a:lnTo>
                  <a:pt x="65" y="3"/>
                </a:lnTo>
                <a:lnTo>
                  <a:pt x="77" y="5"/>
                </a:lnTo>
                <a:lnTo>
                  <a:pt x="88" y="7"/>
                </a:lnTo>
                <a:lnTo>
                  <a:pt x="100" y="11"/>
                </a:lnTo>
                <a:lnTo>
                  <a:pt x="113" y="15"/>
                </a:lnTo>
                <a:lnTo>
                  <a:pt x="129" y="21"/>
                </a:lnTo>
                <a:lnTo>
                  <a:pt x="142" y="27"/>
                </a:lnTo>
                <a:lnTo>
                  <a:pt x="159" y="34"/>
                </a:lnTo>
                <a:lnTo>
                  <a:pt x="175" y="42"/>
                </a:lnTo>
                <a:lnTo>
                  <a:pt x="190" y="50"/>
                </a:lnTo>
                <a:lnTo>
                  <a:pt x="203" y="57"/>
                </a:lnTo>
                <a:lnTo>
                  <a:pt x="215" y="63"/>
                </a:lnTo>
                <a:lnTo>
                  <a:pt x="227" y="71"/>
                </a:lnTo>
                <a:lnTo>
                  <a:pt x="236" y="78"/>
                </a:lnTo>
                <a:lnTo>
                  <a:pt x="246" y="86"/>
                </a:lnTo>
                <a:lnTo>
                  <a:pt x="253" y="94"/>
                </a:lnTo>
                <a:lnTo>
                  <a:pt x="259" y="103"/>
                </a:lnTo>
                <a:lnTo>
                  <a:pt x="265" y="111"/>
                </a:lnTo>
                <a:lnTo>
                  <a:pt x="269" y="119"/>
                </a:lnTo>
                <a:lnTo>
                  <a:pt x="273" y="128"/>
                </a:lnTo>
                <a:lnTo>
                  <a:pt x="275" y="136"/>
                </a:lnTo>
                <a:lnTo>
                  <a:pt x="275" y="146"/>
                </a:lnTo>
                <a:lnTo>
                  <a:pt x="275" y="155"/>
                </a:lnTo>
                <a:lnTo>
                  <a:pt x="273" y="165"/>
                </a:lnTo>
                <a:lnTo>
                  <a:pt x="271" y="170"/>
                </a:lnTo>
                <a:lnTo>
                  <a:pt x="271" y="176"/>
                </a:lnTo>
                <a:lnTo>
                  <a:pt x="269" y="184"/>
                </a:lnTo>
                <a:lnTo>
                  <a:pt x="267" y="194"/>
                </a:lnTo>
                <a:lnTo>
                  <a:pt x="267" y="203"/>
                </a:lnTo>
                <a:lnTo>
                  <a:pt x="265" y="215"/>
                </a:lnTo>
                <a:lnTo>
                  <a:pt x="263" y="226"/>
                </a:lnTo>
                <a:lnTo>
                  <a:pt x="263" y="240"/>
                </a:lnTo>
                <a:lnTo>
                  <a:pt x="261" y="255"/>
                </a:lnTo>
                <a:lnTo>
                  <a:pt x="261" y="270"/>
                </a:lnTo>
                <a:lnTo>
                  <a:pt x="259" y="288"/>
                </a:lnTo>
                <a:lnTo>
                  <a:pt x="257" y="307"/>
                </a:lnTo>
                <a:lnTo>
                  <a:pt x="257" y="326"/>
                </a:lnTo>
                <a:lnTo>
                  <a:pt x="255" y="345"/>
                </a:lnTo>
                <a:lnTo>
                  <a:pt x="255" y="368"/>
                </a:lnTo>
                <a:lnTo>
                  <a:pt x="253" y="391"/>
                </a:lnTo>
                <a:lnTo>
                  <a:pt x="251" y="414"/>
                </a:lnTo>
                <a:lnTo>
                  <a:pt x="251" y="439"/>
                </a:lnTo>
                <a:lnTo>
                  <a:pt x="250" y="466"/>
                </a:lnTo>
                <a:lnTo>
                  <a:pt x="248" y="493"/>
                </a:lnTo>
                <a:lnTo>
                  <a:pt x="248" y="522"/>
                </a:lnTo>
                <a:lnTo>
                  <a:pt x="246" y="552"/>
                </a:lnTo>
                <a:lnTo>
                  <a:pt x="246" y="583"/>
                </a:lnTo>
                <a:lnTo>
                  <a:pt x="244" y="616"/>
                </a:lnTo>
                <a:lnTo>
                  <a:pt x="242" y="650"/>
                </a:lnTo>
                <a:lnTo>
                  <a:pt x="242" y="685"/>
                </a:lnTo>
                <a:lnTo>
                  <a:pt x="240" y="721"/>
                </a:lnTo>
                <a:lnTo>
                  <a:pt x="238" y="758"/>
                </a:lnTo>
                <a:lnTo>
                  <a:pt x="238" y="796"/>
                </a:lnTo>
                <a:lnTo>
                  <a:pt x="236" y="837"/>
                </a:lnTo>
                <a:lnTo>
                  <a:pt x="236" y="877"/>
                </a:lnTo>
                <a:lnTo>
                  <a:pt x="234" y="9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65"/>
          <p:cNvSpPr/>
          <p:nvPr/>
        </p:nvSpPr>
        <p:spPr>
          <a:xfrm>
            <a:off x="6597720" y="2752560"/>
            <a:ext cx="339480" cy="711360"/>
          </a:xfrm>
          <a:custGeom>
            <a:avLst/>
            <a:gdLst/>
            <a:ahLst/>
            <a:rect l="l" t="t" r="r" b="b"/>
            <a:pathLst>
              <a:path w="428" h="896">
                <a:moveTo>
                  <a:pt x="182" y="232"/>
                </a:moveTo>
                <a:lnTo>
                  <a:pt x="184" y="220"/>
                </a:lnTo>
                <a:lnTo>
                  <a:pt x="184" y="209"/>
                </a:lnTo>
                <a:lnTo>
                  <a:pt x="186" y="197"/>
                </a:lnTo>
                <a:lnTo>
                  <a:pt x="186" y="188"/>
                </a:lnTo>
                <a:lnTo>
                  <a:pt x="186" y="169"/>
                </a:lnTo>
                <a:lnTo>
                  <a:pt x="184" y="149"/>
                </a:lnTo>
                <a:lnTo>
                  <a:pt x="182" y="134"/>
                </a:lnTo>
                <a:lnTo>
                  <a:pt x="178" y="119"/>
                </a:lnTo>
                <a:lnTo>
                  <a:pt x="172" y="103"/>
                </a:lnTo>
                <a:lnTo>
                  <a:pt x="168" y="88"/>
                </a:lnTo>
                <a:lnTo>
                  <a:pt x="165" y="80"/>
                </a:lnTo>
                <a:lnTo>
                  <a:pt x="161" y="74"/>
                </a:lnTo>
                <a:lnTo>
                  <a:pt x="157" y="67"/>
                </a:lnTo>
                <a:lnTo>
                  <a:pt x="155" y="61"/>
                </a:lnTo>
                <a:lnTo>
                  <a:pt x="151" y="55"/>
                </a:lnTo>
                <a:lnTo>
                  <a:pt x="151" y="50"/>
                </a:lnTo>
                <a:lnTo>
                  <a:pt x="147" y="40"/>
                </a:lnTo>
                <a:lnTo>
                  <a:pt x="147" y="30"/>
                </a:lnTo>
                <a:lnTo>
                  <a:pt x="149" y="23"/>
                </a:lnTo>
                <a:lnTo>
                  <a:pt x="151" y="15"/>
                </a:lnTo>
                <a:lnTo>
                  <a:pt x="157" y="11"/>
                </a:lnTo>
                <a:lnTo>
                  <a:pt x="159" y="7"/>
                </a:lnTo>
                <a:lnTo>
                  <a:pt x="163" y="5"/>
                </a:lnTo>
                <a:lnTo>
                  <a:pt x="166" y="3"/>
                </a:lnTo>
                <a:lnTo>
                  <a:pt x="172" y="3"/>
                </a:lnTo>
                <a:lnTo>
                  <a:pt x="178" y="2"/>
                </a:lnTo>
                <a:lnTo>
                  <a:pt x="184" y="2"/>
                </a:lnTo>
                <a:lnTo>
                  <a:pt x="191" y="0"/>
                </a:lnTo>
                <a:lnTo>
                  <a:pt x="199" y="0"/>
                </a:lnTo>
                <a:lnTo>
                  <a:pt x="209" y="0"/>
                </a:lnTo>
                <a:lnTo>
                  <a:pt x="218" y="2"/>
                </a:lnTo>
                <a:lnTo>
                  <a:pt x="228" y="2"/>
                </a:lnTo>
                <a:lnTo>
                  <a:pt x="238" y="3"/>
                </a:lnTo>
                <a:lnTo>
                  <a:pt x="259" y="5"/>
                </a:lnTo>
                <a:lnTo>
                  <a:pt x="282" y="11"/>
                </a:lnTo>
                <a:lnTo>
                  <a:pt x="305" y="15"/>
                </a:lnTo>
                <a:lnTo>
                  <a:pt x="326" y="23"/>
                </a:lnTo>
                <a:lnTo>
                  <a:pt x="347" y="28"/>
                </a:lnTo>
                <a:lnTo>
                  <a:pt x="364" y="36"/>
                </a:lnTo>
                <a:lnTo>
                  <a:pt x="381" y="44"/>
                </a:lnTo>
                <a:lnTo>
                  <a:pt x="389" y="48"/>
                </a:lnTo>
                <a:lnTo>
                  <a:pt x="397" y="50"/>
                </a:lnTo>
                <a:lnTo>
                  <a:pt x="403" y="53"/>
                </a:lnTo>
                <a:lnTo>
                  <a:pt x="408" y="57"/>
                </a:lnTo>
                <a:lnTo>
                  <a:pt x="414" y="59"/>
                </a:lnTo>
                <a:lnTo>
                  <a:pt x="420" y="63"/>
                </a:lnTo>
                <a:lnTo>
                  <a:pt x="422" y="67"/>
                </a:lnTo>
                <a:lnTo>
                  <a:pt x="424" y="73"/>
                </a:lnTo>
                <a:lnTo>
                  <a:pt x="426" y="80"/>
                </a:lnTo>
                <a:lnTo>
                  <a:pt x="426" y="86"/>
                </a:lnTo>
                <a:lnTo>
                  <a:pt x="428" y="94"/>
                </a:lnTo>
                <a:lnTo>
                  <a:pt x="428" y="103"/>
                </a:lnTo>
                <a:lnTo>
                  <a:pt x="426" y="113"/>
                </a:lnTo>
                <a:lnTo>
                  <a:pt x="426" y="122"/>
                </a:lnTo>
                <a:lnTo>
                  <a:pt x="424" y="132"/>
                </a:lnTo>
                <a:lnTo>
                  <a:pt x="422" y="144"/>
                </a:lnTo>
                <a:lnTo>
                  <a:pt x="420" y="157"/>
                </a:lnTo>
                <a:lnTo>
                  <a:pt x="416" y="170"/>
                </a:lnTo>
                <a:lnTo>
                  <a:pt x="412" y="184"/>
                </a:lnTo>
                <a:lnTo>
                  <a:pt x="406" y="199"/>
                </a:lnTo>
                <a:lnTo>
                  <a:pt x="401" y="215"/>
                </a:lnTo>
                <a:lnTo>
                  <a:pt x="395" y="232"/>
                </a:lnTo>
                <a:lnTo>
                  <a:pt x="387" y="249"/>
                </a:lnTo>
                <a:lnTo>
                  <a:pt x="380" y="268"/>
                </a:lnTo>
                <a:lnTo>
                  <a:pt x="370" y="288"/>
                </a:lnTo>
                <a:lnTo>
                  <a:pt x="362" y="309"/>
                </a:lnTo>
                <a:lnTo>
                  <a:pt x="351" y="332"/>
                </a:lnTo>
                <a:lnTo>
                  <a:pt x="341" y="355"/>
                </a:lnTo>
                <a:lnTo>
                  <a:pt x="330" y="378"/>
                </a:lnTo>
                <a:lnTo>
                  <a:pt x="318" y="403"/>
                </a:lnTo>
                <a:lnTo>
                  <a:pt x="305" y="430"/>
                </a:lnTo>
                <a:lnTo>
                  <a:pt x="291" y="456"/>
                </a:lnTo>
                <a:lnTo>
                  <a:pt x="276" y="483"/>
                </a:lnTo>
                <a:lnTo>
                  <a:pt x="262" y="512"/>
                </a:lnTo>
                <a:lnTo>
                  <a:pt x="245" y="543"/>
                </a:lnTo>
                <a:lnTo>
                  <a:pt x="230" y="572"/>
                </a:lnTo>
                <a:lnTo>
                  <a:pt x="213" y="602"/>
                </a:lnTo>
                <a:lnTo>
                  <a:pt x="193" y="635"/>
                </a:lnTo>
                <a:lnTo>
                  <a:pt x="184" y="652"/>
                </a:lnTo>
                <a:lnTo>
                  <a:pt x="176" y="668"/>
                </a:lnTo>
                <a:lnTo>
                  <a:pt x="166" y="683"/>
                </a:lnTo>
                <a:lnTo>
                  <a:pt x="159" y="698"/>
                </a:lnTo>
                <a:lnTo>
                  <a:pt x="149" y="714"/>
                </a:lnTo>
                <a:lnTo>
                  <a:pt x="142" y="727"/>
                </a:lnTo>
                <a:lnTo>
                  <a:pt x="134" y="741"/>
                </a:lnTo>
                <a:lnTo>
                  <a:pt x="126" y="754"/>
                </a:lnTo>
                <a:lnTo>
                  <a:pt x="119" y="767"/>
                </a:lnTo>
                <a:lnTo>
                  <a:pt x="111" y="779"/>
                </a:lnTo>
                <a:lnTo>
                  <a:pt x="105" y="790"/>
                </a:lnTo>
                <a:lnTo>
                  <a:pt x="97" y="800"/>
                </a:lnTo>
                <a:lnTo>
                  <a:pt x="92" y="812"/>
                </a:lnTo>
                <a:lnTo>
                  <a:pt x="86" y="821"/>
                </a:lnTo>
                <a:lnTo>
                  <a:pt x="78" y="831"/>
                </a:lnTo>
                <a:lnTo>
                  <a:pt x="72" y="838"/>
                </a:lnTo>
                <a:lnTo>
                  <a:pt x="69" y="846"/>
                </a:lnTo>
                <a:lnTo>
                  <a:pt x="63" y="854"/>
                </a:lnTo>
                <a:lnTo>
                  <a:pt x="57" y="860"/>
                </a:lnTo>
                <a:lnTo>
                  <a:pt x="53" y="867"/>
                </a:lnTo>
                <a:lnTo>
                  <a:pt x="47" y="873"/>
                </a:lnTo>
                <a:lnTo>
                  <a:pt x="44" y="877"/>
                </a:lnTo>
                <a:lnTo>
                  <a:pt x="40" y="883"/>
                </a:lnTo>
                <a:lnTo>
                  <a:pt x="36" y="886"/>
                </a:lnTo>
                <a:lnTo>
                  <a:pt x="34" y="888"/>
                </a:lnTo>
                <a:lnTo>
                  <a:pt x="30" y="892"/>
                </a:lnTo>
                <a:lnTo>
                  <a:pt x="28" y="894"/>
                </a:lnTo>
                <a:lnTo>
                  <a:pt x="24" y="896"/>
                </a:lnTo>
                <a:lnTo>
                  <a:pt x="23" y="896"/>
                </a:lnTo>
                <a:lnTo>
                  <a:pt x="21" y="896"/>
                </a:lnTo>
                <a:lnTo>
                  <a:pt x="19" y="896"/>
                </a:lnTo>
                <a:lnTo>
                  <a:pt x="13" y="894"/>
                </a:lnTo>
                <a:lnTo>
                  <a:pt x="9" y="894"/>
                </a:lnTo>
                <a:lnTo>
                  <a:pt x="7" y="892"/>
                </a:lnTo>
                <a:lnTo>
                  <a:pt x="3" y="890"/>
                </a:lnTo>
                <a:lnTo>
                  <a:pt x="1" y="886"/>
                </a:lnTo>
                <a:lnTo>
                  <a:pt x="0" y="883"/>
                </a:lnTo>
                <a:lnTo>
                  <a:pt x="0" y="879"/>
                </a:lnTo>
                <a:lnTo>
                  <a:pt x="0" y="875"/>
                </a:lnTo>
                <a:lnTo>
                  <a:pt x="0" y="867"/>
                </a:lnTo>
                <a:lnTo>
                  <a:pt x="0" y="861"/>
                </a:lnTo>
                <a:lnTo>
                  <a:pt x="1" y="854"/>
                </a:lnTo>
                <a:lnTo>
                  <a:pt x="3" y="846"/>
                </a:lnTo>
                <a:lnTo>
                  <a:pt x="7" y="836"/>
                </a:lnTo>
                <a:lnTo>
                  <a:pt x="9" y="827"/>
                </a:lnTo>
                <a:lnTo>
                  <a:pt x="13" y="815"/>
                </a:lnTo>
                <a:lnTo>
                  <a:pt x="19" y="804"/>
                </a:lnTo>
                <a:lnTo>
                  <a:pt x="21" y="794"/>
                </a:lnTo>
                <a:lnTo>
                  <a:pt x="24" y="783"/>
                </a:lnTo>
                <a:lnTo>
                  <a:pt x="28" y="771"/>
                </a:lnTo>
                <a:lnTo>
                  <a:pt x="32" y="758"/>
                </a:lnTo>
                <a:lnTo>
                  <a:pt x="36" y="742"/>
                </a:lnTo>
                <a:lnTo>
                  <a:pt x="42" y="729"/>
                </a:lnTo>
                <a:lnTo>
                  <a:pt x="47" y="712"/>
                </a:lnTo>
                <a:lnTo>
                  <a:pt x="55" y="694"/>
                </a:lnTo>
                <a:lnTo>
                  <a:pt x="61" y="677"/>
                </a:lnTo>
                <a:lnTo>
                  <a:pt x="69" y="658"/>
                </a:lnTo>
                <a:lnTo>
                  <a:pt x="76" y="637"/>
                </a:lnTo>
                <a:lnTo>
                  <a:pt x="84" y="616"/>
                </a:lnTo>
                <a:lnTo>
                  <a:pt x="92" y="593"/>
                </a:lnTo>
                <a:lnTo>
                  <a:pt x="99" y="570"/>
                </a:lnTo>
                <a:lnTo>
                  <a:pt x="109" y="543"/>
                </a:lnTo>
                <a:lnTo>
                  <a:pt x="119" y="518"/>
                </a:lnTo>
                <a:lnTo>
                  <a:pt x="124" y="493"/>
                </a:lnTo>
                <a:lnTo>
                  <a:pt x="132" y="470"/>
                </a:lnTo>
                <a:lnTo>
                  <a:pt x="138" y="449"/>
                </a:lnTo>
                <a:lnTo>
                  <a:pt x="143" y="428"/>
                </a:lnTo>
                <a:lnTo>
                  <a:pt x="149" y="407"/>
                </a:lnTo>
                <a:lnTo>
                  <a:pt x="155" y="387"/>
                </a:lnTo>
                <a:lnTo>
                  <a:pt x="159" y="368"/>
                </a:lnTo>
                <a:lnTo>
                  <a:pt x="163" y="351"/>
                </a:lnTo>
                <a:lnTo>
                  <a:pt x="166" y="334"/>
                </a:lnTo>
                <a:lnTo>
                  <a:pt x="170" y="316"/>
                </a:lnTo>
                <a:lnTo>
                  <a:pt x="174" y="301"/>
                </a:lnTo>
                <a:lnTo>
                  <a:pt x="176" y="286"/>
                </a:lnTo>
                <a:lnTo>
                  <a:pt x="178" y="270"/>
                </a:lnTo>
                <a:lnTo>
                  <a:pt x="180" y="257"/>
                </a:lnTo>
                <a:lnTo>
                  <a:pt x="180" y="243"/>
                </a:lnTo>
                <a:lnTo>
                  <a:pt x="182" y="2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66"/>
          <p:cNvSpPr/>
          <p:nvPr/>
        </p:nvSpPr>
        <p:spPr>
          <a:xfrm>
            <a:off x="5964120" y="2870280"/>
            <a:ext cx="249480" cy="561960"/>
          </a:xfrm>
          <a:custGeom>
            <a:avLst/>
            <a:gdLst/>
            <a:ahLst/>
            <a:rect l="l" t="t" r="r" b="b"/>
            <a:pathLst>
              <a:path w="315" h="709">
                <a:moveTo>
                  <a:pt x="38" y="98"/>
                </a:moveTo>
                <a:lnTo>
                  <a:pt x="29" y="87"/>
                </a:lnTo>
                <a:lnTo>
                  <a:pt x="21" y="77"/>
                </a:lnTo>
                <a:lnTo>
                  <a:pt x="15" y="68"/>
                </a:lnTo>
                <a:lnTo>
                  <a:pt x="10" y="58"/>
                </a:lnTo>
                <a:lnTo>
                  <a:pt x="6" y="48"/>
                </a:lnTo>
                <a:lnTo>
                  <a:pt x="2" y="39"/>
                </a:lnTo>
                <a:lnTo>
                  <a:pt x="0" y="29"/>
                </a:lnTo>
                <a:lnTo>
                  <a:pt x="0" y="20"/>
                </a:lnTo>
                <a:lnTo>
                  <a:pt x="0" y="18"/>
                </a:lnTo>
                <a:lnTo>
                  <a:pt x="2" y="14"/>
                </a:lnTo>
                <a:lnTo>
                  <a:pt x="2" y="12"/>
                </a:lnTo>
                <a:lnTo>
                  <a:pt x="6" y="10"/>
                </a:lnTo>
                <a:lnTo>
                  <a:pt x="8" y="8"/>
                </a:lnTo>
                <a:lnTo>
                  <a:pt x="12" y="6"/>
                </a:lnTo>
                <a:lnTo>
                  <a:pt x="15" y="4"/>
                </a:lnTo>
                <a:lnTo>
                  <a:pt x="21" y="2"/>
                </a:lnTo>
                <a:lnTo>
                  <a:pt x="27" y="2"/>
                </a:lnTo>
                <a:lnTo>
                  <a:pt x="33" y="0"/>
                </a:lnTo>
                <a:lnTo>
                  <a:pt x="40" y="0"/>
                </a:lnTo>
                <a:lnTo>
                  <a:pt x="48" y="0"/>
                </a:lnTo>
                <a:lnTo>
                  <a:pt x="58" y="0"/>
                </a:lnTo>
                <a:lnTo>
                  <a:pt x="67" y="2"/>
                </a:lnTo>
                <a:lnTo>
                  <a:pt x="77" y="4"/>
                </a:lnTo>
                <a:lnTo>
                  <a:pt x="88" y="6"/>
                </a:lnTo>
                <a:lnTo>
                  <a:pt x="163" y="25"/>
                </a:lnTo>
                <a:lnTo>
                  <a:pt x="240" y="45"/>
                </a:lnTo>
                <a:lnTo>
                  <a:pt x="253" y="54"/>
                </a:lnTo>
                <a:lnTo>
                  <a:pt x="265" y="64"/>
                </a:lnTo>
                <a:lnTo>
                  <a:pt x="276" y="73"/>
                </a:lnTo>
                <a:lnTo>
                  <a:pt x="286" y="83"/>
                </a:lnTo>
                <a:lnTo>
                  <a:pt x="296" y="91"/>
                </a:lnTo>
                <a:lnTo>
                  <a:pt x="303" y="98"/>
                </a:lnTo>
                <a:lnTo>
                  <a:pt x="309" y="104"/>
                </a:lnTo>
                <a:lnTo>
                  <a:pt x="315" y="110"/>
                </a:lnTo>
                <a:lnTo>
                  <a:pt x="315" y="116"/>
                </a:lnTo>
                <a:lnTo>
                  <a:pt x="315" y="123"/>
                </a:lnTo>
                <a:lnTo>
                  <a:pt x="315" y="133"/>
                </a:lnTo>
                <a:lnTo>
                  <a:pt x="315" y="144"/>
                </a:lnTo>
                <a:lnTo>
                  <a:pt x="315" y="158"/>
                </a:lnTo>
                <a:lnTo>
                  <a:pt x="315" y="173"/>
                </a:lnTo>
                <a:lnTo>
                  <a:pt x="315" y="189"/>
                </a:lnTo>
                <a:lnTo>
                  <a:pt x="315" y="208"/>
                </a:lnTo>
                <a:lnTo>
                  <a:pt x="315" y="229"/>
                </a:lnTo>
                <a:lnTo>
                  <a:pt x="315" y="250"/>
                </a:lnTo>
                <a:lnTo>
                  <a:pt x="315" y="275"/>
                </a:lnTo>
                <a:lnTo>
                  <a:pt x="315" y="300"/>
                </a:lnTo>
                <a:lnTo>
                  <a:pt x="315" y="329"/>
                </a:lnTo>
                <a:lnTo>
                  <a:pt x="315" y="357"/>
                </a:lnTo>
                <a:lnTo>
                  <a:pt x="315" y="390"/>
                </a:lnTo>
                <a:lnTo>
                  <a:pt x="315" y="423"/>
                </a:lnTo>
                <a:lnTo>
                  <a:pt x="313" y="440"/>
                </a:lnTo>
                <a:lnTo>
                  <a:pt x="313" y="457"/>
                </a:lnTo>
                <a:lnTo>
                  <a:pt x="311" y="475"/>
                </a:lnTo>
                <a:lnTo>
                  <a:pt x="309" y="492"/>
                </a:lnTo>
                <a:lnTo>
                  <a:pt x="309" y="507"/>
                </a:lnTo>
                <a:lnTo>
                  <a:pt x="307" y="522"/>
                </a:lnTo>
                <a:lnTo>
                  <a:pt x="305" y="536"/>
                </a:lnTo>
                <a:lnTo>
                  <a:pt x="305" y="549"/>
                </a:lnTo>
                <a:lnTo>
                  <a:pt x="303" y="563"/>
                </a:lnTo>
                <a:lnTo>
                  <a:pt x="301" y="576"/>
                </a:lnTo>
                <a:lnTo>
                  <a:pt x="301" y="588"/>
                </a:lnTo>
                <a:lnTo>
                  <a:pt x="299" y="599"/>
                </a:lnTo>
                <a:lnTo>
                  <a:pt x="298" y="611"/>
                </a:lnTo>
                <a:lnTo>
                  <a:pt x="298" y="620"/>
                </a:lnTo>
                <a:lnTo>
                  <a:pt x="296" y="630"/>
                </a:lnTo>
                <a:lnTo>
                  <a:pt x="294" y="640"/>
                </a:lnTo>
                <a:lnTo>
                  <a:pt x="292" y="647"/>
                </a:lnTo>
                <a:lnTo>
                  <a:pt x="290" y="655"/>
                </a:lnTo>
                <a:lnTo>
                  <a:pt x="290" y="663"/>
                </a:lnTo>
                <a:lnTo>
                  <a:pt x="288" y="670"/>
                </a:lnTo>
                <a:lnTo>
                  <a:pt x="286" y="676"/>
                </a:lnTo>
                <a:lnTo>
                  <a:pt x="284" y="682"/>
                </a:lnTo>
                <a:lnTo>
                  <a:pt x="282" y="688"/>
                </a:lnTo>
                <a:lnTo>
                  <a:pt x="280" y="691"/>
                </a:lnTo>
                <a:lnTo>
                  <a:pt x="278" y="695"/>
                </a:lnTo>
                <a:lnTo>
                  <a:pt x="276" y="699"/>
                </a:lnTo>
                <a:lnTo>
                  <a:pt x="274" y="703"/>
                </a:lnTo>
                <a:lnTo>
                  <a:pt x="273" y="705"/>
                </a:lnTo>
                <a:lnTo>
                  <a:pt x="271" y="707"/>
                </a:lnTo>
                <a:lnTo>
                  <a:pt x="269" y="707"/>
                </a:lnTo>
                <a:lnTo>
                  <a:pt x="267" y="709"/>
                </a:lnTo>
                <a:lnTo>
                  <a:pt x="265" y="709"/>
                </a:lnTo>
                <a:lnTo>
                  <a:pt x="259" y="709"/>
                </a:lnTo>
                <a:lnTo>
                  <a:pt x="255" y="705"/>
                </a:lnTo>
                <a:lnTo>
                  <a:pt x="250" y="703"/>
                </a:lnTo>
                <a:lnTo>
                  <a:pt x="246" y="697"/>
                </a:lnTo>
                <a:lnTo>
                  <a:pt x="240" y="689"/>
                </a:lnTo>
                <a:lnTo>
                  <a:pt x="236" y="682"/>
                </a:lnTo>
                <a:lnTo>
                  <a:pt x="230" y="672"/>
                </a:lnTo>
                <a:lnTo>
                  <a:pt x="227" y="663"/>
                </a:lnTo>
                <a:lnTo>
                  <a:pt x="221" y="649"/>
                </a:lnTo>
                <a:lnTo>
                  <a:pt x="217" y="636"/>
                </a:lnTo>
                <a:lnTo>
                  <a:pt x="211" y="620"/>
                </a:lnTo>
                <a:lnTo>
                  <a:pt x="207" y="605"/>
                </a:lnTo>
                <a:lnTo>
                  <a:pt x="203" y="588"/>
                </a:lnTo>
                <a:lnTo>
                  <a:pt x="198" y="569"/>
                </a:lnTo>
                <a:lnTo>
                  <a:pt x="194" y="547"/>
                </a:lnTo>
                <a:lnTo>
                  <a:pt x="188" y="526"/>
                </a:lnTo>
                <a:lnTo>
                  <a:pt x="179" y="484"/>
                </a:lnTo>
                <a:lnTo>
                  <a:pt x="171" y="442"/>
                </a:lnTo>
                <a:lnTo>
                  <a:pt x="165" y="421"/>
                </a:lnTo>
                <a:lnTo>
                  <a:pt x="161" y="402"/>
                </a:lnTo>
                <a:lnTo>
                  <a:pt x="157" y="382"/>
                </a:lnTo>
                <a:lnTo>
                  <a:pt x="154" y="363"/>
                </a:lnTo>
                <a:lnTo>
                  <a:pt x="148" y="346"/>
                </a:lnTo>
                <a:lnTo>
                  <a:pt x="144" y="329"/>
                </a:lnTo>
                <a:lnTo>
                  <a:pt x="140" y="311"/>
                </a:lnTo>
                <a:lnTo>
                  <a:pt x="138" y="296"/>
                </a:lnTo>
                <a:lnTo>
                  <a:pt x="134" y="281"/>
                </a:lnTo>
                <a:lnTo>
                  <a:pt x="131" y="267"/>
                </a:lnTo>
                <a:lnTo>
                  <a:pt x="129" y="254"/>
                </a:lnTo>
                <a:lnTo>
                  <a:pt x="127" y="240"/>
                </a:lnTo>
                <a:lnTo>
                  <a:pt x="117" y="217"/>
                </a:lnTo>
                <a:lnTo>
                  <a:pt x="107" y="194"/>
                </a:lnTo>
                <a:lnTo>
                  <a:pt x="98" y="173"/>
                </a:lnTo>
                <a:lnTo>
                  <a:pt x="86" y="154"/>
                </a:lnTo>
                <a:lnTo>
                  <a:pt x="81" y="146"/>
                </a:lnTo>
                <a:lnTo>
                  <a:pt x="75" y="137"/>
                </a:lnTo>
                <a:lnTo>
                  <a:pt x="69" y="129"/>
                </a:lnTo>
                <a:lnTo>
                  <a:pt x="63" y="121"/>
                </a:lnTo>
                <a:lnTo>
                  <a:pt x="58" y="116"/>
                </a:lnTo>
                <a:lnTo>
                  <a:pt x="52" y="108"/>
                </a:lnTo>
                <a:lnTo>
                  <a:pt x="44" y="102"/>
                </a:lnTo>
                <a:lnTo>
                  <a:pt x="38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67"/>
          <p:cNvSpPr/>
          <p:nvPr/>
        </p:nvSpPr>
        <p:spPr>
          <a:xfrm>
            <a:off x="5516640" y="2997360"/>
            <a:ext cx="1906560" cy="331560"/>
          </a:xfrm>
          <a:custGeom>
            <a:avLst/>
            <a:gdLst/>
            <a:ahLst/>
            <a:rect l="l" t="t" r="r" b="b"/>
            <a:pathLst>
              <a:path w="2403" h="416">
                <a:moveTo>
                  <a:pt x="2386" y="130"/>
                </a:moveTo>
                <a:lnTo>
                  <a:pt x="2389" y="140"/>
                </a:lnTo>
                <a:lnTo>
                  <a:pt x="2395" y="147"/>
                </a:lnTo>
                <a:lnTo>
                  <a:pt x="2399" y="155"/>
                </a:lnTo>
                <a:lnTo>
                  <a:pt x="2401" y="161"/>
                </a:lnTo>
                <a:lnTo>
                  <a:pt x="2403" y="167"/>
                </a:lnTo>
                <a:lnTo>
                  <a:pt x="2403" y="172"/>
                </a:lnTo>
                <a:lnTo>
                  <a:pt x="2403" y="174"/>
                </a:lnTo>
                <a:lnTo>
                  <a:pt x="2401" y="178"/>
                </a:lnTo>
                <a:lnTo>
                  <a:pt x="2401" y="180"/>
                </a:lnTo>
                <a:lnTo>
                  <a:pt x="2399" y="182"/>
                </a:lnTo>
                <a:lnTo>
                  <a:pt x="2397" y="184"/>
                </a:lnTo>
                <a:lnTo>
                  <a:pt x="2395" y="186"/>
                </a:lnTo>
                <a:lnTo>
                  <a:pt x="2391" y="186"/>
                </a:lnTo>
                <a:lnTo>
                  <a:pt x="2389" y="188"/>
                </a:lnTo>
                <a:lnTo>
                  <a:pt x="2386" y="188"/>
                </a:lnTo>
                <a:lnTo>
                  <a:pt x="2380" y="190"/>
                </a:lnTo>
                <a:lnTo>
                  <a:pt x="2376" y="192"/>
                </a:lnTo>
                <a:lnTo>
                  <a:pt x="2370" y="192"/>
                </a:lnTo>
                <a:lnTo>
                  <a:pt x="2364" y="193"/>
                </a:lnTo>
                <a:lnTo>
                  <a:pt x="2357" y="193"/>
                </a:lnTo>
                <a:lnTo>
                  <a:pt x="2349" y="195"/>
                </a:lnTo>
                <a:lnTo>
                  <a:pt x="2341" y="197"/>
                </a:lnTo>
                <a:lnTo>
                  <a:pt x="2334" y="197"/>
                </a:lnTo>
                <a:lnTo>
                  <a:pt x="2324" y="199"/>
                </a:lnTo>
                <a:lnTo>
                  <a:pt x="2315" y="199"/>
                </a:lnTo>
                <a:lnTo>
                  <a:pt x="2305" y="201"/>
                </a:lnTo>
                <a:lnTo>
                  <a:pt x="2293" y="201"/>
                </a:lnTo>
                <a:lnTo>
                  <a:pt x="2282" y="201"/>
                </a:lnTo>
                <a:lnTo>
                  <a:pt x="2270" y="203"/>
                </a:lnTo>
                <a:lnTo>
                  <a:pt x="2257" y="203"/>
                </a:lnTo>
                <a:lnTo>
                  <a:pt x="2244" y="205"/>
                </a:lnTo>
                <a:lnTo>
                  <a:pt x="2230" y="205"/>
                </a:lnTo>
                <a:lnTo>
                  <a:pt x="2215" y="205"/>
                </a:lnTo>
                <a:lnTo>
                  <a:pt x="2201" y="207"/>
                </a:lnTo>
                <a:lnTo>
                  <a:pt x="2184" y="207"/>
                </a:lnTo>
                <a:lnTo>
                  <a:pt x="2169" y="207"/>
                </a:lnTo>
                <a:lnTo>
                  <a:pt x="2151" y="207"/>
                </a:lnTo>
                <a:lnTo>
                  <a:pt x="2134" y="207"/>
                </a:lnTo>
                <a:lnTo>
                  <a:pt x="2117" y="209"/>
                </a:lnTo>
                <a:lnTo>
                  <a:pt x="2098" y="209"/>
                </a:lnTo>
                <a:lnTo>
                  <a:pt x="2078" y="209"/>
                </a:lnTo>
                <a:lnTo>
                  <a:pt x="2059" y="209"/>
                </a:lnTo>
                <a:lnTo>
                  <a:pt x="1981" y="209"/>
                </a:lnTo>
                <a:lnTo>
                  <a:pt x="1902" y="211"/>
                </a:lnTo>
                <a:lnTo>
                  <a:pt x="1823" y="213"/>
                </a:lnTo>
                <a:lnTo>
                  <a:pt x="1744" y="217"/>
                </a:lnTo>
                <a:lnTo>
                  <a:pt x="1668" y="220"/>
                </a:lnTo>
                <a:lnTo>
                  <a:pt x="1589" y="224"/>
                </a:lnTo>
                <a:lnTo>
                  <a:pt x="1510" y="230"/>
                </a:lnTo>
                <a:lnTo>
                  <a:pt x="1432" y="234"/>
                </a:lnTo>
                <a:lnTo>
                  <a:pt x="1391" y="240"/>
                </a:lnTo>
                <a:lnTo>
                  <a:pt x="1349" y="245"/>
                </a:lnTo>
                <a:lnTo>
                  <a:pt x="1307" y="251"/>
                </a:lnTo>
                <a:lnTo>
                  <a:pt x="1265" y="257"/>
                </a:lnTo>
                <a:lnTo>
                  <a:pt x="1220" y="263"/>
                </a:lnTo>
                <a:lnTo>
                  <a:pt x="1176" y="268"/>
                </a:lnTo>
                <a:lnTo>
                  <a:pt x="1130" y="276"/>
                </a:lnTo>
                <a:lnTo>
                  <a:pt x="1084" y="282"/>
                </a:lnTo>
                <a:lnTo>
                  <a:pt x="1036" y="288"/>
                </a:lnTo>
                <a:lnTo>
                  <a:pt x="990" y="295"/>
                </a:lnTo>
                <a:lnTo>
                  <a:pt x="942" y="303"/>
                </a:lnTo>
                <a:lnTo>
                  <a:pt x="892" y="309"/>
                </a:lnTo>
                <a:lnTo>
                  <a:pt x="842" y="316"/>
                </a:lnTo>
                <a:lnTo>
                  <a:pt x="792" y="324"/>
                </a:lnTo>
                <a:lnTo>
                  <a:pt x="741" y="332"/>
                </a:lnTo>
                <a:lnTo>
                  <a:pt x="691" y="339"/>
                </a:lnTo>
                <a:lnTo>
                  <a:pt x="664" y="343"/>
                </a:lnTo>
                <a:lnTo>
                  <a:pt x="637" y="349"/>
                </a:lnTo>
                <a:lnTo>
                  <a:pt x="612" y="353"/>
                </a:lnTo>
                <a:lnTo>
                  <a:pt x="587" y="357"/>
                </a:lnTo>
                <a:lnTo>
                  <a:pt x="564" y="360"/>
                </a:lnTo>
                <a:lnTo>
                  <a:pt x="541" y="366"/>
                </a:lnTo>
                <a:lnTo>
                  <a:pt x="518" y="370"/>
                </a:lnTo>
                <a:lnTo>
                  <a:pt x="497" y="374"/>
                </a:lnTo>
                <a:lnTo>
                  <a:pt x="476" y="376"/>
                </a:lnTo>
                <a:lnTo>
                  <a:pt x="457" y="380"/>
                </a:lnTo>
                <a:lnTo>
                  <a:pt x="437" y="384"/>
                </a:lnTo>
                <a:lnTo>
                  <a:pt x="418" y="387"/>
                </a:lnTo>
                <a:lnTo>
                  <a:pt x="401" y="389"/>
                </a:lnTo>
                <a:lnTo>
                  <a:pt x="384" y="393"/>
                </a:lnTo>
                <a:lnTo>
                  <a:pt x="366" y="395"/>
                </a:lnTo>
                <a:lnTo>
                  <a:pt x="351" y="397"/>
                </a:lnTo>
                <a:lnTo>
                  <a:pt x="336" y="401"/>
                </a:lnTo>
                <a:lnTo>
                  <a:pt x="322" y="403"/>
                </a:lnTo>
                <a:lnTo>
                  <a:pt x="309" y="405"/>
                </a:lnTo>
                <a:lnTo>
                  <a:pt x="295" y="407"/>
                </a:lnTo>
                <a:lnTo>
                  <a:pt x="284" y="408"/>
                </a:lnTo>
                <a:lnTo>
                  <a:pt x="272" y="408"/>
                </a:lnTo>
                <a:lnTo>
                  <a:pt x="261" y="410"/>
                </a:lnTo>
                <a:lnTo>
                  <a:pt x="251" y="412"/>
                </a:lnTo>
                <a:lnTo>
                  <a:pt x="243" y="412"/>
                </a:lnTo>
                <a:lnTo>
                  <a:pt x="234" y="414"/>
                </a:lnTo>
                <a:lnTo>
                  <a:pt x="226" y="414"/>
                </a:lnTo>
                <a:lnTo>
                  <a:pt x="220" y="416"/>
                </a:lnTo>
                <a:lnTo>
                  <a:pt x="215" y="416"/>
                </a:lnTo>
                <a:lnTo>
                  <a:pt x="209" y="416"/>
                </a:lnTo>
                <a:lnTo>
                  <a:pt x="203" y="416"/>
                </a:lnTo>
                <a:lnTo>
                  <a:pt x="199" y="416"/>
                </a:lnTo>
                <a:lnTo>
                  <a:pt x="186" y="416"/>
                </a:lnTo>
                <a:lnTo>
                  <a:pt x="171" y="414"/>
                </a:lnTo>
                <a:lnTo>
                  <a:pt x="153" y="410"/>
                </a:lnTo>
                <a:lnTo>
                  <a:pt x="138" y="407"/>
                </a:lnTo>
                <a:lnTo>
                  <a:pt x="121" y="401"/>
                </a:lnTo>
                <a:lnTo>
                  <a:pt x="103" y="395"/>
                </a:lnTo>
                <a:lnTo>
                  <a:pt x="88" y="387"/>
                </a:lnTo>
                <a:lnTo>
                  <a:pt x="75" y="378"/>
                </a:lnTo>
                <a:lnTo>
                  <a:pt x="65" y="376"/>
                </a:lnTo>
                <a:lnTo>
                  <a:pt x="57" y="372"/>
                </a:lnTo>
                <a:lnTo>
                  <a:pt x="48" y="368"/>
                </a:lnTo>
                <a:lnTo>
                  <a:pt x="42" y="366"/>
                </a:lnTo>
                <a:lnTo>
                  <a:pt x="34" y="362"/>
                </a:lnTo>
                <a:lnTo>
                  <a:pt x="28" y="359"/>
                </a:lnTo>
                <a:lnTo>
                  <a:pt x="23" y="355"/>
                </a:lnTo>
                <a:lnTo>
                  <a:pt x="17" y="351"/>
                </a:lnTo>
                <a:lnTo>
                  <a:pt x="13" y="347"/>
                </a:lnTo>
                <a:lnTo>
                  <a:pt x="9" y="345"/>
                </a:lnTo>
                <a:lnTo>
                  <a:pt x="5" y="341"/>
                </a:lnTo>
                <a:lnTo>
                  <a:pt x="4" y="337"/>
                </a:lnTo>
                <a:lnTo>
                  <a:pt x="2" y="334"/>
                </a:lnTo>
                <a:lnTo>
                  <a:pt x="0" y="332"/>
                </a:lnTo>
                <a:lnTo>
                  <a:pt x="0" y="328"/>
                </a:lnTo>
                <a:lnTo>
                  <a:pt x="0" y="326"/>
                </a:lnTo>
                <a:lnTo>
                  <a:pt x="0" y="324"/>
                </a:lnTo>
                <a:lnTo>
                  <a:pt x="2" y="320"/>
                </a:lnTo>
                <a:lnTo>
                  <a:pt x="4" y="318"/>
                </a:lnTo>
                <a:lnTo>
                  <a:pt x="7" y="316"/>
                </a:lnTo>
                <a:lnTo>
                  <a:pt x="13" y="313"/>
                </a:lnTo>
                <a:lnTo>
                  <a:pt x="19" y="311"/>
                </a:lnTo>
                <a:lnTo>
                  <a:pt x="27" y="309"/>
                </a:lnTo>
                <a:lnTo>
                  <a:pt x="34" y="307"/>
                </a:lnTo>
                <a:lnTo>
                  <a:pt x="44" y="303"/>
                </a:lnTo>
                <a:lnTo>
                  <a:pt x="55" y="301"/>
                </a:lnTo>
                <a:lnTo>
                  <a:pt x="67" y="299"/>
                </a:lnTo>
                <a:lnTo>
                  <a:pt x="78" y="297"/>
                </a:lnTo>
                <a:lnTo>
                  <a:pt x="92" y="293"/>
                </a:lnTo>
                <a:lnTo>
                  <a:pt x="105" y="291"/>
                </a:lnTo>
                <a:lnTo>
                  <a:pt x="121" y="289"/>
                </a:lnTo>
                <a:lnTo>
                  <a:pt x="138" y="288"/>
                </a:lnTo>
                <a:lnTo>
                  <a:pt x="153" y="284"/>
                </a:lnTo>
                <a:lnTo>
                  <a:pt x="172" y="282"/>
                </a:lnTo>
                <a:lnTo>
                  <a:pt x="192" y="280"/>
                </a:lnTo>
                <a:lnTo>
                  <a:pt x="211" y="276"/>
                </a:lnTo>
                <a:lnTo>
                  <a:pt x="232" y="274"/>
                </a:lnTo>
                <a:lnTo>
                  <a:pt x="253" y="272"/>
                </a:lnTo>
                <a:lnTo>
                  <a:pt x="276" y="268"/>
                </a:lnTo>
                <a:lnTo>
                  <a:pt x="301" y="266"/>
                </a:lnTo>
                <a:lnTo>
                  <a:pt x="326" y="263"/>
                </a:lnTo>
                <a:lnTo>
                  <a:pt x="353" y="259"/>
                </a:lnTo>
                <a:lnTo>
                  <a:pt x="380" y="255"/>
                </a:lnTo>
                <a:lnTo>
                  <a:pt x="409" y="251"/>
                </a:lnTo>
                <a:lnTo>
                  <a:pt x="439" y="247"/>
                </a:lnTo>
                <a:lnTo>
                  <a:pt x="472" y="243"/>
                </a:lnTo>
                <a:lnTo>
                  <a:pt x="504" y="240"/>
                </a:lnTo>
                <a:lnTo>
                  <a:pt x="539" y="234"/>
                </a:lnTo>
                <a:lnTo>
                  <a:pt x="556" y="234"/>
                </a:lnTo>
                <a:lnTo>
                  <a:pt x="574" y="232"/>
                </a:lnTo>
                <a:lnTo>
                  <a:pt x="591" y="230"/>
                </a:lnTo>
                <a:lnTo>
                  <a:pt x="610" y="228"/>
                </a:lnTo>
                <a:lnTo>
                  <a:pt x="629" y="226"/>
                </a:lnTo>
                <a:lnTo>
                  <a:pt x="648" y="222"/>
                </a:lnTo>
                <a:lnTo>
                  <a:pt x="670" y="220"/>
                </a:lnTo>
                <a:lnTo>
                  <a:pt x="691" y="218"/>
                </a:lnTo>
                <a:lnTo>
                  <a:pt x="712" y="215"/>
                </a:lnTo>
                <a:lnTo>
                  <a:pt x="735" y="213"/>
                </a:lnTo>
                <a:lnTo>
                  <a:pt x="756" y="209"/>
                </a:lnTo>
                <a:lnTo>
                  <a:pt x="781" y="205"/>
                </a:lnTo>
                <a:lnTo>
                  <a:pt x="804" y="201"/>
                </a:lnTo>
                <a:lnTo>
                  <a:pt x="829" y="197"/>
                </a:lnTo>
                <a:lnTo>
                  <a:pt x="854" y="193"/>
                </a:lnTo>
                <a:lnTo>
                  <a:pt x="881" y="190"/>
                </a:lnTo>
                <a:lnTo>
                  <a:pt x="906" y="186"/>
                </a:lnTo>
                <a:lnTo>
                  <a:pt x="934" y="180"/>
                </a:lnTo>
                <a:lnTo>
                  <a:pt x="961" y="176"/>
                </a:lnTo>
                <a:lnTo>
                  <a:pt x="990" y="170"/>
                </a:lnTo>
                <a:lnTo>
                  <a:pt x="1019" y="167"/>
                </a:lnTo>
                <a:lnTo>
                  <a:pt x="1048" y="161"/>
                </a:lnTo>
                <a:lnTo>
                  <a:pt x="1078" y="157"/>
                </a:lnTo>
                <a:lnTo>
                  <a:pt x="1109" y="151"/>
                </a:lnTo>
                <a:lnTo>
                  <a:pt x="1142" y="146"/>
                </a:lnTo>
                <a:lnTo>
                  <a:pt x="1174" y="140"/>
                </a:lnTo>
                <a:lnTo>
                  <a:pt x="1207" y="134"/>
                </a:lnTo>
                <a:lnTo>
                  <a:pt x="1240" y="128"/>
                </a:lnTo>
                <a:lnTo>
                  <a:pt x="1274" y="122"/>
                </a:lnTo>
                <a:lnTo>
                  <a:pt x="1309" y="117"/>
                </a:lnTo>
                <a:lnTo>
                  <a:pt x="1345" y="111"/>
                </a:lnTo>
                <a:lnTo>
                  <a:pt x="1382" y="105"/>
                </a:lnTo>
                <a:lnTo>
                  <a:pt x="1416" y="98"/>
                </a:lnTo>
                <a:lnTo>
                  <a:pt x="1449" y="92"/>
                </a:lnTo>
                <a:lnTo>
                  <a:pt x="1483" y="86"/>
                </a:lnTo>
                <a:lnTo>
                  <a:pt x="1516" y="80"/>
                </a:lnTo>
                <a:lnTo>
                  <a:pt x="1547" y="74"/>
                </a:lnTo>
                <a:lnTo>
                  <a:pt x="1577" y="71"/>
                </a:lnTo>
                <a:lnTo>
                  <a:pt x="1608" y="65"/>
                </a:lnTo>
                <a:lnTo>
                  <a:pt x="1637" y="59"/>
                </a:lnTo>
                <a:lnTo>
                  <a:pt x="1666" y="55"/>
                </a:lnTo>
                <a:lnTo>
                  <a:pt x="1693" y="51"/>
                </a:lnTo>
                <a:lnTo>
                  <a:pt x="1720" y="46"/>
                </a:lnTo>
                <a:lnTo>
                  <a:pt x="1746" y="42"/>
                </a:lnTo>
                <a:lnTo>
                  <a:pt x="1771" y="38"/>
                </a:lnTo>
                <a:lnTo>
                  <a:pt x="1794" y="34"/>
                </a:lnTo>
                <a:lnTo>
                  <a:pt x="1817" y="30"/>
                </a:lnTo>
                <a:lnTo>
                  <a:pt x="1840" y="27"/>
                </a:lnTo>
                <a:lnTo>
                  <a:pt x="1862" y="25"/>
                </a:lnTo>
                <a:lnTo>
                  <a:pt x="1883" y="21"/>
                </a:lnTo>
                <a:lnTo>
                  <a:pt x="1904" y="19"/>
                </a:lnTo>
                <a:lnTo>
                  <a:pt x="1923" y="15"/>
                </a:lnTo>
                <a:lnTo>
                  <a:pt x="1940" y="13"/>
                </a:lnTo>
                <a:lnTo>
                  <a:pt x="1958" y="11"/>
                </a:lnTo>
                <a:lnTo>
                  <a:pt x="1975" y="9"/>
                </a:lnTo>
                <a:lnTo>
                  <a:pt x="1990" y="7"/>
                </a:lnTo>
                <a:lnTo>
                  <a:pt x="2006" y="5"/>
                </a:lnTo>
                <a:lnTo>
                  <a:pt x="2019" y="3"/>
                </a:lnTo>
                <a:lnTo>
                  <a:pt x="2032" y="3"/>
                </a:lnTo>
                <a:lnTo>
                  <a:pt x="2044" y="2"/>
                </a:lnTo>
                <a:lnTo>
                  <a:pt x="2055" y="2"/>
                </a:lnTo>
                <a:lnTo>
                  <a:pt x="2067" y="2"/>
                </a:lnTo>
                <a:lnTo>
                  <a:pt x="2077" y="0"/>
                </a:lnTo>
                <a:lnTo>
                  <a:pt x="2084" y="0"/>
                </a:lnTo>
                <a:lnTo>
                  <a:pt x="2100" y="0"/>
                </a:lnTo>
                <a:lnTo>
                  <a:pt x="2117" y="2"/>
                </a:lnTo>
                <a:lnTo>
                  <a:pt x="2130" y="2"/>
                </a:lnTo>
                <a:lnTo>
                  <a:pt x="2146" y="3"/>
                </a:lnTo>
                <a:lnTo>
                  <a:pt x="2174" y="5"/>
                </a:lnTo>
                <a:lnTo>
                  <a:pt x="2201" y="9"/>
                </a:lnTo>
                <a:lnTo>
                  <a:pt x="2226" y="15"/>
                </a:lnTo>
                <a:lnTo>
                  <a:pt x="2251" y="23"/>
                </a:lnTo>
                <a:lnTo>
                  <a:pt x="2274" y="30"/>
                </a:lnTo>
                <a:lnTo>
                  <a:pt x="2297" y="40"/>
                </a:lnTo>
                <a:lnTo>
                  <a:pt x="2307" y="48"/>
                </a:lnTo>
                <a:lnTo>
                  <a:pt x="2315" y="53"/>
                </a:lnTo>
                <a:lnTo>
                  <a:pt x="2324" y="61"/>
                </a:lnTo>
                <a:lnTo>
                  <a:pt x="2330" y="67"/>
                </a:lnTo>
                <a:lnTo>
                  <a:pt x="2338" y="73"/>
                </a:lnTo>
                <a:lnTo>
                  <a:pt x="2343" y="78"/>
                </a:lnTo>
                <a:lnTo>
                  <a:pt x="2355" y="90"/>
                </a:lnTo>
                <a:lnTo>
                  <a:pt x="2366" y="101"/>
                </a:lnTo>
                <a:lnTo>
                  <a:pt x="2374" y="111"/>
                </a:lnTo>
                <a:lnTo>
                  <a:pt x="2380" y="121"/>
                </a:lnTo>
                <a:lnTo>
                  <a:pt x="2386" y="1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矩形 3"/>
          <p:cNvSpPr/>
          <p:nvPr/>
        </p:nvSpPr>
        <p:spPr>
          <a:xfrm>
            <a:off x="2139840" y="2009880"/>
            <a:ext cx="91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u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30"/>
          <p:cNvSpPr/>
          <p:nvPr/>
        </p:nvSpPr>
        <p:spPr>
          <a:xfrm>
            <a:off x="5584680" y="4560840"/>
            <a:ext cx="2284560" cy="498600"/>
          </a:xfrm>
          <a:custGeom>
            <a:avLst/>
            <a:gdLst/>
            <a:ahLst/>
            <a:rect l="l" t="t" r="r" b="b"/>
            <a:pathLst>
              <a:path w="2877" h="628">
                <a:moveTo>
                  <a:pt x="1211" y="171"/>
                </a:moveTo>
                <a:lnTo>
                  <a:pt x="1245" y="183"/>
                </a:lnTo>
                <a:lnTo>
                  <a:pt x="1282" y="194"/>
                </a:lnTo>
                <a:lnTo>
                  <a:pt x="1317" y="206"/>
                </a:lnTo>
                <a:lnTo>
                  <a:pt x="1351" y="215"/>
                </a:lnTo>
                <a:lnTo>
                  <a:pt x="1386" y="225"/>
                </a:lnTo>
                <a:lnTo>
                  <a:pt x="1420" y="235"/>
                </a:lnTo>
                <a:lnTo>
                  <a:pt x="1455" y="242"/>
                </a:lnTo>
                <a:lnTo>
                  <a:pt x="1489" y="250"/>
                </a:lnTo>
                <a:lnTo>
                  <a:pt x="1555" y="265"/>
                </a:lnTo>
                <a:lnTo>
                  <a:pt x="1622" y="279"/>
                </a:lnTo>
                <a:lnTo>
                  <a:pt x="1685" y="290"/>
                </a:lnTo>
                <a:lnTo>
                  <a:pt x="1750" y="302"/>
                </a:lnTo>
                <a:lnTo>
                  <a:pt x="1781" y="306"/>
                </a:lnTo>
                <a:lnTo>
                  <a:pt x="1814" y="309"/>
                </a:lnTo>
                <a:lnTo>
                  <a:pt x="1848" y="313"/>
                </a:lnTo>
                <a:lnTo>
                  <a:pt x="1883" y="317"/>
                </a:lnTo>
                <a:lnTo>
                  <a:pt x="1917" y="319"/>
                </a:lnTo>
                <a:lnTo>
                  <a:pt x="1954" y="319"/>
                </a:lnTo>
                <a:lnTo>
                  <a:pt x="1990" y="321"/>
                </a:lnTo>
                <a:lnTo>
                  <a:pt x="2029" y="321"/>
                </a:lnTo>
                <a:lnTo>
                  <a:pt x="2067" y="321"/>
                </a:lnTo>
                <a:lnTo>
                  <a:pt x="2105" y="319"/>
                </a:lnTo>
                <a:lnTo>
                  <a:pt x="2146" y="319"/>
                </a:lnTo>
                <a:lnTo>
                  <a:pt x="2188" y="317"/>
                </a:lnTo>
                <a:lnTo>
                  <a:pt x="2230" y="313"/>
                </a:lnTo>
                <a:lnTo>
                  <a:pt x="2272" y="309"/>
                </a:lnTo>
                <a:lnTo>
                  <a:pt x="2317" y="306"/>
                </a:lnTo>
                <a:lnTo>
                  <a:pt x="2361" y="302"/>
                </a:lnTo>
                <a:lnTo>
                  <a:pt x="2384" y="300"/>
                </a:lnTo>
                <a:lnTo>
                  <a:pt x="2405" y="298"/>
                </a:lnTo>
                <a:lnTo>
                  <a:pt x="2426" y="298"/>
                </a:lnTo>
                <a:lnTo>
                  <a:pt x="2447" y="296"/>
                </a:lnTo>
                <a:lnTo>
                  <a:pt x="2466" y="296"/>
                </a:lnTo>
                <a:lnTo>
                  <a:pt x="2485" y="294"/>
                </a:lnTo>
                <a:lnTo>
                  <a:pt x="2505" y="292"/>
                </a:lnTo>
                <a:lnTo>
                  <a:pt x="2522" y="292"/>
                </a:lnTo>
                <a:lnTo>
                  <a:pt x="2541" y="290"/>
                </a:lnTo>
                <a:lnTo>
                  <a:pt x="2558" y="288"/>
                </a:lnTo>
                <a:lnTo>
                  <a:pt x="2574" y="288"/>
                </a:lnTo>
                <a:lnTo>
                  <a:pt x="2591" y="286"/>
                </a:lnTo>
                <a:lnTo>
                  <a:pt x="2606" y="284"/>
                </a:lnTo>
                <a:lnTo>
                  <a:pt x="2620" y="284"/>
                </a:lnTo>
                <a:lnTo>
                  <a:pt x="2635" y="283"/>
                </a:lnTo>
                <a:lnTo>
                  <a:pt x="2649" y="283"/>
                </a:lnTo>
                <a:lnTo>
                  <a:pt x="2662" y="281"/>
                </a:lnTo>
                <a:lnTo>
                  <a:pt x="2674" y="279"/>
                </a:lnTo>
                <a:lnTo>
                  <a:pt x="2687" y="279"/>
                </a:lnTo>
                <a:lnTo>
                  <a:pt x="2699" y="277"/>
                </a:lnTo>
                <a:lnTo>
                  <a:pt x="2708" y="275"/>
                </a:lnTo>
                <a:lnTo>
                  <a:pt x="2720" y="275"/>
                </a:lnTo>
                <a:lnTo>
                  <a:pt x="2729" y="273"/>
                </a:lnTo>
                <a:lnTo>
                  <a:pt x="2739" y="271"/>
                </a:lnTo>
                <a:lnTo>
                  <a:pt x="2747" y="271"/>
                </a:lnTo>
                <a:lnTo>
                  <a:pt x="2756" y="269"/>
                </a:lnTo>
                <a:lnTo>
                  <a:pt x="2762" y="269"/>
                </a:lnTo>
                <a:lnTo>
                  <a:pt x="2770" y="267"/>
                </a:lnTo>
                <a:lnTo>
                  <a:pt x="2775" y="265"/>
                </a:lnTo>
                <a:lnTo>
                  <a:pt x="2783" y="265"/>
                </a:lnTo>
                <a:lnTo>
                  <a:pt x="2787" y="263"/>
                </a:lnTo>
                <a:lnTo>
                  <a:pt x="2793" y="261"/>
                </a:lnTo>
                <a:lnTo>
                  <a:pt x="2800" y="261"/>
                </a:lnTo>
                <a:lnTo>
                  <a:pt x="2810" y="263"/>
                </a:lnTo>
                <a:lnTo>
                  <a:pt x="2818" y="263"/>
                </a:lnTo>
                <a:lnTo>
                  <a:pt x="2823" y="263"/>
                </a:lnTo>
                <a:lnTo>
                  <a:pt x="2831" y="265"/>
                </a:lnTo>
                <a:lnTo>
                  <a:pt x="2837" y="267"/>
                </a:lnTo>
                <a:lnTo>
                  <a:pt x="2848" y="271"/>
                </a:lnTo>
                <a:lnTo>
                  <a:pt x="2858" y="275"/>
                </a:lnTo>
                <a:lnTo>
                  <a:pt x="2866" y="279"/>
                </a:lnTo>
                <a:lnTo>
                  <a:pt x="2871" y="283"/>
                </a:lnTo>
                <a:lnTo>
                  <a:pt x="2877" y="288"/>
                </a:lnTo>
                <a:lnTo>
                  <a:pt x="2875" y="292"/>
                </a:lnTo>
                <a:lnTo>
                  <a:pt x="2873" y="294"/>
                </a:lnTo>
                <a:lnTo>
                  <a:pt x="2869" y="300"/>
                </a:lnTo>
                <a:lnTo>
                  <a:pt x="2862" y="306"/>
                </a:lnTo>
                <a:lnTo>
                  <a:pt x="2854" y="311"/>
                </a:lnTo>
                <a:lnTo>
                  <a:pt x="2844" y="317"/>
                </a:lnTo>
                <a:lnTo>
                  <a:pt x="2833" y="325"/>
                </a:lnTo>
                <a:lnTo>
                  <a:pt x="2821" y="334"/>
                </a:lnTo>
                <a:lnTo>
                  <a:pt x="2806" y="342"/>
                </a:lnTo>
                <a:lnTo>
                  <a:pt x="2789" y="352"/>
                </a:lnTo>
                <a:lnTo>
                  <a:pt x="2770" y="361"/>
                </a:lnTo>
                <a:lnTo>
                  <a:pt x="2750" y="373"/>
                </a:lnTo>
                <a:lnTo>
                  <a:pt x="2727" y="384"/>
                </a:lnTo>
                <a:lnTo>
                  <a:pt x="2702" y="394"/>
                </a:lnTo>
                <a:lnTo>
                  <a:pt x="2691" y="402"/>
                </a:lnTo>
                <a:lnTo>
                  <a:pt x="2677" y="407"/>
                </a:lnTo>
                <a:lnTo>
                  <a:pt x="2662" y="413"/>
                </a:lnTo>
                <a:lnTo>
                  <a:pt x="2649" y="419"/>
                </a:lnTo>
                <a:lnTo>
                  <a:pt x="2620" y="434"/>
                </a:lnTo>
                <a:lnTo>
                  <a:pt x="2591" y="448"/>
                </a:lnTo>
                <a:lnTo>
                  <a:pt x="2564" y="461"/>
                </a:lnTo>
                <a:lnTo>
                  <a:pt x="2537" y="473"/>
                </a:lnTo>
                <a:lnTo>
                  <a:pt x="2512" y="486"/>
                </a:lnTo>
                <a:lnTo>
                  <a:pt x="2487" y="498"/>
                </a:lnTo>
                <a:lnTo>
                  <a:pt x="2462" y="509"/>
                </a:lnTo>
                <a:lnTo>
                  <a:pt x="2439" y="519"/>
                </a:lnTo>
                <a:lnTo>
                  <a:pt x="2414" y="528"/>
                </a:lnTo>
                <a:lnTo>
                  <a:pt x="2393" y="538"/>
                </a:lnTo>
                <a:lnTo>
                  <a:pt x="2370" y="547"/>
                </a:lnTo>
                <a:lnTo>
                  <a:pt x="2349" y="557"/>
                </a:lnTo>
                <a:lnTo>
                  <a:pt x="2305" y="572"/>
                </a:lnTo>
                <a:lnTo>
                  <a:pt x="2265" y="590"/>
                </a:lnTo>
                <a:lnTo>
                  <a:pt x="2246" y="593"/>
                </a:lnTo>
                <a:lnTo>
                  <a:pt x="2226" y="597"/>
                </a:lnTo>
                <a:lnTo>
                  <a:pt x="2207" y="603"/>
                </a:lnTo>
                <a:lnTo>
                  <a:pt x="2190" y="607"/>
                </a:lnTo>
                <a:lnTo>
                  <a:pt x="2175" y="609"/>
                </a:lnTo>
                <a:lnTo>
                  <a:pt x="2159" y="613"/>
                </a:lnTo>
                <a:lnTo>
                  <a:pt x="2144" y="617"/>
                </a:lnTo>
                <a:lnTo>
                  <a:pt x="2130" y="618"/>
                </a:lnTo>
                <a:lnTo>
                  <a:pt x="2117" y="620"/>
                </a:lnTo>
                <a:lnTo>
                  <a:pt x="2105" y="622"/>
                </a:lnTo>
                <a:lnTo>
                  <a:pt x="2094" y="624"/>
                </a:lnTo>
                <a:lnTo>
                  <a:pt x="2082" y="626"/>
                </a:lnTo>
                <a:lnTo>
                  <a:pt x="2073" y="626"/>
                </a:lnTo>
                <a:lnTo>
                  <a:pt x="2063" y="628"/>
                </a:lnTo>
                <a:lnTo>
                  <a:pt x="2056" y="628"/>
                </a:lnTo>
                <a:lnTo>
                  <a:pt x="2050" y="628"/>
                </a:lnTo>
                <a:lnTo>
                  <a:pt x="2038" y="628"/>
                </a:lnTo>
                <a:lnTo>
                  <a:pt x="2027" y="626"/>
                </a:lnTo>
                <a:lnTo>
                  <a:pt x="2015" y="624"/>
                </a:lnTo>
                <a:lnTo>
                  <a:pt x="2000" y="620"/>
                </a:lnTo>
                <a:lnTo>
                  <a:pt x="1983" y="617"/>
                </a:lnTo>
                <a:lnTo>
                  <a:pt x="1965" y="613"/>
                </a:lnTo>
                <a:lnTo>
                  <a:pt x="1946" y="607"/>
                </a:lnTo>
                <a:lnTo>
                  <a:pt x="1925" y="601"/>
                </a:lnTo>
                <a:lnTo>
                  <a:pt x="1902" y="593"/>
                </a:lnTo>
                <a:lnTo>
                  <a:pt x="1877" y="586"/>
                </a:lnTo>
                <a:lnTo>
                  <a:pt x="1852" y="578"/>
                </a:lnTo>
                <a:lnTo>
                  <a:pt x="1825" y="569"/>
                </a:lnTo>
                <a:lnTo>
                  <a:pt x="1796" y="557"/>
                </a:lnTo>
                <a:lnTo>
                  <a:pt x="1766" y="547"/>
                </a:lnTo>
                <a:lnTo>
                  <a:pt x="1735" y="536"/>
                </a:lnTo>
                <a:lnTo>
                  <a:pt x="1702" y="524"/>
                </a:lnTo>
                <a:lnTo>
                  <a:pt x="1666" y="511"/>
                </a:lnTo>
                <a:lnTo>
                  <a:pt x="1627" y="498"/>
                </a:lnTo>
                <a:lnTo>
                  <a:pt x="1589" y="484"/>
                </a:lnTo>
                <a:lnTo>
                  <a:pt x="1551" y="469"/>
                </a:lnTo>
                <a:lnTo>
                  <a:pt x="1512" y="455"/>
                </a:lnTo>
                <a:lnTo>
                  <a:pt x="1470" y="440"/>
                </a:lnTo>
                <a:lnTo>
                  <a:pt x="1430" y="425"/>
                </a:lnTo>
                <a:lnTo>
                  <a:pt x="1388" y="407"/>
                </a:lnTo>
                <a:lnTo>
                  <a:pt x="1345" y="392"/>
                </a:lnTo>
                <a:lnTo>
                  <a:pt x="1303" y="375"/>
                </a:lnTo>
                <a:lnTo>
                  <a:pt x="1259" y="355"/>
                </a:lnTo>
                <a:lnTo>
                  <a:pt x="1215" y="338"/>
                </a:lnTo>
                <a:lnTo>
                  <a:pt x="1169" y="319"/>
                </a:lnTo>
                <a:lnTo>
                  <a:pt x="1123" y="302"/>
                </a:lnTo>
                <a:lnTo>
                  <a:pt x="1077" y="283"/>
                </a:lnTo>
                <a:lnTo>
                  <a:pt x="1031" y="261"/>
                </a:lnTo>
                <a:lnTo>
                  <a:pt x="1007" y="254"/>
                </a:lnTo>
                <a:lnTo>
                  <a:pt x="984" y="244"/>
                </a:lnTo>
                <a:lnTo>
                  <a:pt x="961" y="236"/>
                </a:lnTo>
                <a:lnTo>
                  <a:pt x="940" y="229"/>
                </a:lnTo>
                <a:lnTo>
                  <a:pt x="919" y="221"/>
                </a:lnTo>
                <a:lnTo>
                  <a:pt x="898" y="213"/>
                </a:lnTo>
                <a:lnTo>
                  <a:pt x="879" y="208"/>
                </a:lnTo>
                <a:lnTo>
                  <a:pt x="860" y="200"/>
                </a:lnTo>
                <a:lnTo>
                  <a:pt x="840" y="194"/>
                </a:lnTo>
                <a:lnTo>
                  <a:pt x="823" y="187"/>
                </a:lnTo>
                <a:lnTo>
                  <a:pt x="804" y="181"/>
                </a:lnTo>
                <a:lnTo>
                  <a:pt x="789" y="175"/>
                </a:lnTo>
                <a:lnTo>
                  <a:pt x="771" y="169"/>
                </a:lnTo>
                <a:lnTo>
                  <a:pt x="756" y="165"/>
                </a:lnTo>
                <a:lnTo>
                  <a:pt x="739" y="160"/>
                </a:lnTo>
                <a:lnTo>
                  <a:pt x="725" y="156"/>
                </a:lnTo>
                <a:lnTo>
                  <a:pt x="710" y="150"/>
                </a:lnTo>
                <a:lnTo>
                  <a:pt x="697" y="146"/>
                </a:lnTo>
                <a:lnTo>
                  <a:pt x="683" y="142"/>
                </a:lnTo>
                <a:lnTo>
                  <a:pt x="672" y="139"/>
                </a:lnTo>
                <a:lnTo>
                  <a:pt x="658" y="137"/>
                </a:lnTo>
                <a:lnTo>
                  <a:pt x="647" y="133"/>
                </a:lnTo>
                <a:lnTo>
                  <a:pt x="637" y="131"/>
                </a:lnTo>
                <a:lnTo>
                  <a:pt x="626" y="127"/>
                </a:lnTo>
                <a:lnTo>
                  <a:pt x="616" y="125"/>
                </a:lnTo>
                <a:lnTo>
                  <a:pt x="606" y="123"/>
                </a:lnTo>
                <a:lnTo>
                  <a:pt x="599" y="121"/>
                </a:lnTo>
                <a:lnTo>
                  <a:pt x="589" y="121"/>
                </a:lnTo>
                <a:lnTo>
                  <a:pt x="581" y="119"/>
                </a:lnTo>
                <a:lnTo>
                  <a:pt x="576" y="119"/>
                </a:lnTo>
                <a:lnTo>
                  <a:pt x="568" y="119"/>
                </a:lnTo>
                <a:lnTo>
                  <a:pt x="562" y="119"/>
                </a:lnTo>
                <a:lnTo>
                  <a:pt x="551" y="119"/>
                </a:lnTo>
                <a:lnTo>
                  <a:pt x="539" y="119"/>
                </a:lnTo>
                <a:lnTo>
                  <a:pt x="528" y="121"/>
                </a:lnTo>
                <a:lnTo>
                  <a:pt x="516" y="123"/>
                </a:lnTo>
                <a:lnTo>
                  <a:pt x="503" y="125"/>
                </a:lnTo>
                <a:lnTo>
                  <a:pt x="489" y="129"/>
                </a:lnTo>
                <a:lnTo>
                  <a:pt x="478" y="133"/>
                </a:lnTo>
                <a:lnTo>
                  <a:pt x="464" y="137"/>
                </a:lnTo>
                <a:lnTo>
                  <a:pt x="435" y="146"/>
                </a:lnTo>
                <a:lnTo>
                  <a:pt x="407" y="156"/>
                </a:lnTo>
                <a:lnTo>
                  <a:pt x="378" y="169"/>
                </a:lnTo>
                <a:lnTo>
                  <a:pt x="347" y="185"/>
                </a:lnTo>
                <a:lnTo>
                  <a:pt x="332" y="190"/>
                </a:lnTo>
                <a:lnTo>
                  <a:pt x="316" y="198"/>
                </a:lnTo>
                <a:lnTo>
                  <a:pt x="303" y="204"/>
                </a:lnTo>
                <a:lnTo>
                  <a:pt x="290" y="212"/>
                </a:lnTo>
                <a:lnTo>
                  <a:pt x="276" y="217"/>
                </a:lnTo>
                <a:lnTo>
                  <a:pt x="263" y="223"/>
                </a:lnTo>
                <a:lnTo>
                  <a:pt x="251" y="229"/>
                </a:lnTo>
                <a:lnTo>
                  <a:pt x="240" y="233"/>
                </a:lnTo>
                <a:lnTo>
                  <a:pt x="230" y="238"/>
                </a:lnTo>
                <a:lnTo>
                  <a:pt x="220" y="242"/>
                </a:lnTo>
                <a:lnTo>
                  <a:pt x="211" y="246"/>
                </a:lnTo>
                <a:lnTo>
                  <a:pt x="203" y="250"/>
                </a:lnTo>
                <a:lnTo>
                  <a:pt x="196" y="254"/>
                </a:lnTo>
                <a:lnTo>
                  <a:pt x="190" y="256"/>
                </a:lnTo>
                <a:lnTo>
                  <a:pt x="184" y="260"/>
                </a:lnTo>
                <a:lnTo>
                  <a:pt x="178" y="261"/>
                </a:lnTo>
                <a:lnTo>
                  <a:pt x="173" y="263"/>
                </a:lnTo>
                <a:lnTo>
                  <a:pt x="165" y="265"/>
                </a:lnTo>
                <a:lnTo>
                  <a:pt x="159" y="265"/>
                </a:lnTo>
                <a:lnTo>
                  <a:pt x="151" y="265"/>
                </a:lnTo>
                <a:lnTo>
                  <a:pt x="146" y="263"/>
                </a:lnTo>
                <a:lnTo>
                  <a:pt x="138" y="261"/>
                </a:lnTo>
                <a:lnTo>
                  <a:pt x="132" y="260"/>
                </a:lnTo>
                <a:lnTo>
                  <a:pt x="125" y="256"/>
                </a:lnTo>
                <a:lnTo>
                  <a:pt x="119" y="252"/>
                </a:lnTo>
                <a:lnTo>
                  <a:pt x="111" y="248"/>
                </a:lnTo>
                <a:lnTo>
                  <a:pt x="103" y="242"/>
                </a:lnTo>
                <a:lnTo>
                  <a:pt x="98" y="236"/>
                </a:lnTo>
                <a:lnTo>
                  <a:pt x="84" y="223"/>
                </a:lnTo>
                <a:lnTo>
                  <a:pt x="71" y="210"/>
                </a:lnTo>
                <a:lnTo>
                  <a:pt x="63" y="202"/>
                </a:lnTo>
                <a:lnTo>
                  <a:pt x="54" y="194"/>
                </a:lnTo>
                <a:lnTo>
                  <a:pt x="46" y="187"/>
                </a:lnTo>
                <a:lnTo>
                  <a:pt x="40" y="181"/>
                </a:lnTo>
                <a:lnTo>
                  <a:pt x="32" y="173"/>
                </a:lnTo>
                <a:lnTo>
                  <a:pt x="27" y="165"/>
                </a:lnTo>
                <a:lnTo>
                  <a:pt x="21" y="160"/>
                </a:lnTo>
                <a:lnTo>
                  <a:pt x="17" y="152"/>
                </a:lnTo>
                <a:lnTo>
                  <a:pt x="13" y="146"/>
                </a:lnTo>
                <a:lnTo>
                  <a:pt x="9" y="139"/>
                </a:lnTo>
                <a:lnTo>
                  <a:pt x="6" y="133"/>
                </a:lnTo>
                <a:lnTo>
                  <a:pt x="4" y="127"/>
                </a:lnTo>
                <a:lnTo>
                  <a:pt x="2" y="121"/>
                </a:lnTo>
                <a:lnTo>
                  <a:pt x="0" y="116"/>
                </a:lnTo>
                <a:lnTo>
                  <a:pt x="0" y="110"/>
                </a:lnTo>
                <a:lnTo>
                  <a:pt x="0" y="106"/>
                </a:lnTo>
                <a:lnTo>
                  <a:pt x="30" y="104"/>
                </a:lnTo>
                <a:lnTo>
                  <a:pt x="65" y="102"/>
                </a:lnTo>
                <a:lnTo>
                  <a:pt x="98" y="98"/>
                </a:lnTo>
                <a:lnTo>
                  <a:pt x="134" y="94"/>
                </a:lnTo>
                <a:lnTo>
                  <a:pt x="151" y="91"/>
                </a:lnTo>
                <a:lnTo>
                  <a:pt x="171" y="87"/>
                </a:lnTo>
                <a:lnTo>
                  <a:pt x="190" y="83"/>
                </a:lnTo>
                <a:lnTo>
                  <a:pt x="209" y="77"/>
                </a:lnTo>
                <a:lnTo>
                  <a:pt x="228" y="73"/>
                </a:lnTo>
                <a:lnTo>
                  <a:pt x="247" y="66"/>
                </a:lnTo>
                <a:lnTo>
                  <a:pt x="267" y="60"/>
                </a:lnTo>
                <a:lnTo>
                  <a:pt x="288" y="52"/>
                </a:lnTo>
                <a:lnTo>
                  <a:pt x="307" y="46"/>
                </a:lnTo>
                <a:lnTo>
                  <a:pt x="326" y="39"/>
                </a:lnTo>
                <a:lnTo>
                  <a:pt x="345" y="33"/>
                </a:lnTo>
                <a:lnTo>
                  <a:pt x="363" y="27"/>
                </a:lnTo>
                <a:lnTo>
                  <a:pt x="380" y="23"/>
                </a:lnTo>
                <a:lnTo>
                  <a:pt x="397" y="20"/>
                </a:lnTo>
                <a:lnTo>
                  <a:pt x="414" y="16"/>
                </a:lnTo>
                <a:lnTo>
                  <a:pt x="430" y="12"/>
                </a:lnTo>
                <a:lnTo>
                  <a:pt x="445" y="8"/>
                </a:lnTo>
                <a:lnTo>
                  <a:pt x="460" y="6"/>
                </a:lnTo>
                <a:lnTo>
                  <a:pt x="476" y="4"/>
                </a:lnTo>
                <a:lnTo>
                  <a:pt x="489" y="2"/>
                </a:lnTo>
                <a:lnTo>
                  <a:pt x="503" y="2"/>
                </a:lnTo>
                <a:lnTo>
                  <a:pt x="514" y="0"/>
                </a:lnTo>
                <a:lnTo>
                  <a:pt x="528" y="0"/>
                </a:lnTo>
                <a:lnTo>
                  <a:pt x="539" y="0"/>
                </a:lnTo>
                <a:lnTo>
                  <a:pt x="562" y="6"/>
                </a:lnTo>
                <a:lnTo>
                  <a:pt x="585" y="10"/>
                </a:lnTo>
                <a:lnTo>
                  <a:pt x="599" y="12"/>
                </a:lnTo>
                <a:lnTo>
                  <a:pt x="612" y="16"/>
                </a:lnTo>
                <a:lnTo>
                  <a:pt x="626" y="18"/>
                </a:lnTo>
                <a:lnTo>
                  <a:pt x="641" y="20"/>
                </a:lnTo>
                <a:lnTo>
                  <a:pt x="656" y="23"/>
                </a:lnTo>
                <a:lnTo>
                  <a:pt x="672" y="25"/>
                </a:lnTo>
                <a:lnTo>
                  <a:pt x="687" y="27"/>
                </a:lnTo>
                <a:lnTo>
                  <a:pt x="704" y="29"/>
                </a:lnTo>
                <a:lnTo>
                  <a:pt x="721" y="33"/>
                </a:lnTo>
                <a:lnTo>
                  <a:pt x="739" y="35"/>
                </a:lnTo>
                <a:lnTo>
                  <a:pt x="758" y="37"/>
                </a:lnTo>
                <a:lnTo>
                  <a:pt x="779" y="41"/>
                </a:lnTo>
                <a:lnTo>
                  <a:pt x="796" y="45"/>
                </a:lnTo>
                <a:lnTo>
                  <a:pt x="816" y="50"/>
                </a:lnTo>
                <a:lnTo>
                  <a:pt x="837" y="56"/>
                </a:lnTo>
                <a:lnTo>
                  <a:pt x="860" y="62"/>
                </a:lnTo>
                <a:lnTo>
                  <a:pt x="883" y="69"/>
                </a:lnTo>
                <a:lnTo>
                  <a:pt x="906" y="75"/>
                </a:lnTo>
                <a:lnTo>
                  <a:pt x="933" y="83"/>
                </a:lnTo>
                <a:lnTo>
                  <a:pt x="958" y="91"/>
                </a:lnTo>
                <a:lnTo>
                  <a:pt x="986" y="98"/>
                </a:lnTo>
                <a:lnTo>
                  <a:pt x="1015" y="108"/>
                </a:lnTo>
                <a:lnTo>
                  <a:pt x="1044" y="116"/>
                </a:lnTo>
                <a:lnTo>
                  <a:pt x="1075" y="125"/>
                </a:lnTo>
                <a:lnTo>
                  <a:pt x="1107" y="137"/>
                </a:lnTo>
                <a:lnTo>
                  <a:pt x="1140" y="146"/>
                </a:lnTo>
                <a:lnTo>
                  <a:pt x="1174" y="158"/>
                </a:lnTo>
                <a:lnTo>
                  <a:pt x="1211" y="1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31"/>
          <p:cNvSpPr/>
          <p:nvPr/>
        </p:nvSpPr>
        <p:spPr>
          <a:xfrm>
            <a:off x="5611680" y="3730680"/>
            <a:ext cx="542880" cy="880920"/>
          </a:xfrm>
          <a:custGeom>
            <a:avLst/>
            <a:gdLst/>
            <a:ahLst/>
            <a:rect l="l" t="t" r="r" b="b"/>
            <a:pathLst>
              <a:path w="684" h="1112">
                <a:moveTo>
                  <a:pt x="398" y="54"/>
                </a:moveTo>
                <a:lnTo>
                  <a:pt x="400" y="46"/>
                </a:lnTo>
                <a:lnTo>
                  <a:pt x="401" y="39"/>
                </a:lnTo>
                <a:lnTo>
                  <a:pt x="405" y="33"/>
                </a:lnTo>
                <a:lnTo>
                  <a:pt x="409" y="29"/>
                </a:lnTo>
                <a:lnTo>
                  <a:pt x="415" y="23"/>
                </a:lnTo>
                <a:lnTo>
                  <a:pt x="419" y="19"/>
                </a:lnTo>
                <a:lnTo>
                  <a:pt x="425" y="16"/>
                </a:lnTo>
                <a:lnTo>
                  <a:pt x="430" y="12"/>
                </a:lnTo>
                <a:lnTo>
                  <a:pt x="442" y="6"/>
                </a:lnTo>
                <a:lnTo>
                  <a:pt x="453" y="4"/>
                </a:lnTo>
                <a:lnTo>
                  <a:pt x="467" y="2"/>
                </a:lnTo>
                <a:lnTo>
                  <a:pt x="480" y="0"/>
                </a:lnTo>
                <a:lnTo>
                  <a:pt x="496" y="2"/>
                </a:lnTo>
                <a:lnTo>
                  <a:pt x="509" y="4"/>
                </a:lnTo>
                <a:lnTo>
                  <a:pt x="526" y="6"/>
                </a:lnTo>
                <a:lnTo>
                  <a:pt x="542" y="12"/>
                </a:lnTo>
                <a:lnTo>
                  <a:pt x="551" y="16"/>
                </a:lnTo>
                <a:lnTo>
                  <a:pt x="559" y="19"/>
                </a:lnTo>
                <a:lnTo>
                  <a:pt x="568" y="23"/>
                </a:lnTo>
                <a:lnTo>
                  <a:pt x="576" y="29"/>
                </a:lnTo>
                <a:lnTo>
                  <a:pt x="586" y="33"/>
                </a:lnTo>
                <a:lnTo>
                  <a:pt x="593" y="39"/>
                </a:lnTo>
                <a:lnTo>
                  <a:pt x="603" y="46"/>
                </a:lnTo>
                <a:lnTo>
                  <a:pt x="613" y="54"/>
                </a:lnTo>
                <a:lnTo>
                  <a:pt x="626" y="67"/>
                </a:lnTo>
                <a:lnTo>
                  <a:pt x="638" y="81"/>
                </a:lnTo>
                <a:lnTo>
                  <a:pt x="647" y="92"/>
                </a:lnTo>
                <a:lnTo>
                  <a:pt x="657" y="102"/>
                </a:lnTo>
                <a:lnTo>
                  <a:pt x="666" y="112"/>
                </a:lnTo>
                <a:lnTo>
                  <a:pt x="674" y="119"/>
                </a:lnTo>
                <a:lnTo>
                  <a:pt x="680" y="125"/>
                </a:lnTo>
                <a:lnTo>
                  <a:pt x="684" y="131"/>
                </a:lnTo>
                <a:lnTo>
                  <a:pt x="684" y="140"/>
                </a:lnTo>
                <a:lnTo>
                  <a:pt x="682" y="150"/>
                </a:lnTo>
                <a:lnTo>
                  <a:pt x="678" y="160"/>
                </a:lnTo>
                <a:lnTo>
                  <a:pt x="674" y="169"/>
                </a:lnTo>
                <a:lnTo>
                  <a:pt x="666" y="177"/>
                </a:lnTo>
                <a:lnTo>
                  <a:pt x="663" y="181"/>
                </a:lnTo>
                <a:lnTo>
                  <a:pt x="659" y="185"/>
                </a:lnTo>
                <a:lnTo>
                  <a:pt x="655" y="188"/>
                </a:lnTo>
                <a:lnTo>
                  <a:pt x="649" y="192"/>
                </a:lnTo>
                <a:lnTo>
                  <a:pt x="643" y="194"/>
                </a:lnTo>
                <a:lnTo>
                  <a:pt x="636" y="198"/>
                </a:lnTo>
                <a:lnTo>
                  <a:pt x="630" y="202"/>
                </a:lnTo>
                <a:lnTo>
                  <a:pt x="624" y="209"/>
                </a:lnTo>
                <a:lnTo>
                  <a:pt x="616" y="215"/>
                </a:lnTo>
                <a:lnTo>
                  <a:pt x="611" y="223"/>
                </a:lnTo>
                <a:lnTo>
                  <a:pt x="605" y="233"/>
                </a:lnTo>
                <a:lnTo>
                  <a:pt x="599" y="242"/>
                </a:lnTo>
                <a:lnTo>
                  <a:pt x="593" y="254"/>
                </a:lnTo>
                <a:lnTo>
                  <a:pt x="588" y="263"/>
                </a:lnTo>
                <a:lnTo>
                  <a:pt x="582" y="277"/>
                </a:lnTo>
                <a:lnTo>
                  <a:pt x="576" y="288"/>
                </a:lnTo>
                <a:lnTo>
                  <a:pt x="570" y="302"/>
                </a:lnTo>
                <a:lnTo>
                  <a:pt x="565" y="317"/>
                </a:lnTo>
                <a:lnTo>
                  <a:pt x="559" y="330"/>
                </a:lnTo>
                <a:lnTo>
                  <a:pt x="553" y="348"/>
                </a:lnTo>
                <a:lnTo>
                  <a:pt x="547" y="363"/>
                </a:lnTo>
                <a:lnTo>
                  <a:pt x="542" y="380"/>
                </a:lnTo>
                <a:lnTo>
                  <a:pt x="534" y="398"/>
                </a:lnTo>
                <a:lnTo>
                  <a:pt x="528" y="413"/>
                </a:lnTo>
                <a:lnTo>
                  <a:pt x="522" y="428"/>
                </a:lnTo>
                <a:lnTo>
                  <a:pt x="517" y="444"/>
                </a:lnTo>
                <a:lnTo>
                  <a:pt x="511" y="457"/>
                </a:lnTo>
                <a:lnTo>
                  <a:pt x="507" y="471"/>
                </a:lnTo>
                <a:lnTo>
                  <a:pt x="503" y="482"/>
                </a:lnTo>
                <a:lnTo>
                  <a:pt x="499" y="494"/>
                </a:lnTo>
                <a:lnTo>
                  <a:pt x="496" y="505"/>
                </a:lnTo>
                <a:lnTo>
                  <a:pt x="494" y="515"/>
                </a:lnTo>
                <a:lnTo>
                  <a:pt x="492" y="522"/>
                </a:lnTo>
                <a:lnTo>
                  <a:pt x="490" y="530"/>
                </a:lnTo>
                <a:lnTo>
                  <a:pt x="490" y="538"/>
                </a:lnTo>
                <a:lnTo>
                  <a:pt x="490" y="542"/>
                </a:lnTo>
                <a:lnTo>
                  <a:pt x="492" y="547"/>
                </a:lnTo>
                <a:lnTo>
                  <a:pt x="494" y="549"/>
                </a:lnTo>
                <a:lnTo>
                  <a:pt x="494" y="553"/>
                </a:lnTo>
                <a:lnTo>
                  <a:pt x="494" y="555"/>
                </a:lnTo>
                <a:lnTo>
                  <a:pt x="494" y="559"/>
                </a:lnTo>
                <a:lnTo>
                  <a:pt x="496" y="565"/>
                </a:lnTo>
                <a:lnTo>
                  <a:pt x="497" y="568"/>
                </a:lnTo>
                <a:lnTo>
                  <a:pt x="499" y="574"/>
                </a:lnTo>
                <a:lnTo>
                  <a:pt x="501" y="580"/>
                </a:lnTo>
                <a:lnTo>
                  <a:pt x="503" y="588"/>
                </a:lnTo>
                <a:lnTo>
                  <a:pt x="509" y="601"/>
                </a:lnTo>
                <a:lnTo>
                  <a:pt x="519" y="618"/>
                </a:lnTo>
                <a:lnTo>
                  <a:pt x="522" y="626"/>
                </a:lnTo>
                <a:lnTo>
                  <a:pt x="528" y="636"/>
                </a:lnTo>
                <a:lnTo>
                  <a:pt x="534" y="645"/>
                </a:lnTo>
                <a:lnTo>
                  <a:pt x="542" y="655"/>
                </a:lnTo>
                <a:lnTo>
                  <a:pt x="544" y="659"/>
                </a:lnTo>
                <a:lnTo>
                  <a:pt x="545" y="666"/>
                </a:lnTo>
                <a:lnTo>
                  <a:pt x="547" y="672"/>
                </a:lnTo>
                <a:lnTo>
                  <a:pt x="549" y="680"/>
                </a:lnTo>
                <a:lnTo>
                  <a:pt x="551" y="687"/>
                </a:lnTo>
                <a:lnTo>
                  <a:pt x="553" y="695"/>
                </a:lnTo>
                <a:lnTo>
                  <a:pt x="555" y="703"/>
                </a:lnTo>
                <a:lnTo>
                  <a:pt x="557" y="712"/>
                </a:lnTo>
                <a:lnTo>
                  <a:pt x="557" y="724"/>
                </a:lnTo>
                <a:lnTo>
                  <a:pt x="559" y="734"/>
                </a:lnTo>
                <a:lnTo>
                  <a:pt x="561" y="745"/>
                </a:lnTo>
                <a:lnTo>
                  <a:pt x="563" y="757"/>
                </a:lnTo>
                <a:lnTo>
                  <a:pt x="565" y="770"/>
                </a:lnTo>
                <a:lnTo>
                  <a:pt x="565" y="781"/>
                </a:lnTo>
                <a:lnTo>
                  <a:pt x="567" y="795"/>
                </a:lnTo>
                <a:lnTo>
                  <a:pt x="567" y="810"/>
                </a:lnTo>
                <a:lnTo>
                  <a:pt x="568" y="824"/>
                </a:lnTo>
                <a:lnTo>
                  <a:pt x="570" y="839"/>
                </a:lnTo>
                <a:lnTo>
                  <a:pt x="570" y="856"/>
                </a:lnTo>
                <a:lnTo>
                  <a:pt x="572" y="872"/>
                </a:lnTo>
                <a:lnTo>
                  <a:pt x="572" y="889"/>
                </a:lnTo>
                <a:lnTo>
                  <a:pt x="572" y="906"/>
                </a:lnTo>
                <a:lnTo>
                  <a:pt x="574" y="924"/>
                </a:lnTo>
                <a:lnTo>
                  <a:pt x="574" y="943"/>
                </a:lnTo>
                <a:lnTo>
                  <a:pt x="574" y="962"/>
                </a:lnTo>
                <a:lnTo>
                  <a:pt x="576" y="983"/>
                </a:lnTo>
                <a:lnTo>
                  <a:pt x="576" y="1002"/>
                </a:lnTo>
                <a:lnTo>
                  <a:pt x="576" y="1023"/>
                </a:lnTo>
                <a:lnTo>
                  <a:pt x="576" y="1044"/>
                </a:lnTo>
                <a:lnTo>
                  <a:pt x="576" y="1067"/>
                </a:lnTo>
                <a:lnTo>
                  <a:pt x="576" y="1089"/>
                </a:lnTo>
                <a:lnTo>
                  <a:pt x="576" y="1112"/>
                </a:lnTo>
                <a:lnTo>
                  <a:pt x="547" y="1112"/>
                </a:lnTo>
                <a:lnTo>
                  <a:pt x="517" y="1112"/>
                </a:lnTo>
                <a:lnTo>
                  <a:pt x="517" y="1094"/>
                </a:lnTo>
                <a:lnTo>
                  <a:pt x="515" y="1077"/>
                </a:lnTo>
                <a:lnTo>
                  <a:pt x="515" y="1060"/>
                </a:lnTo>
                <a:lnTo>
                  <a:pt x="513" y="1041"/>
                </a:lnTo>
                <a:lnTo>
                  <a:pt x="509" y="1021"/>
                </a:lnTo>
                <a:lnTo>
                  <a:pt x="507" y="1002"/>
                </a:lnTo>
                <a:lnTo>
                  <a:pt x="503" y="983"/>
                </a:lnTo>
                <a:lnTo>
                  <a:pt x="499" y="962"/>
                </a:lnTo>
                <a:lnTo>
                  <a:pt x="496" y="941"/>
                </a:lnTo>
                <a:lnTo>
                  <a:pt x="492" y="918"/>
                </a:lnTo>
                <a:lnTo>
                  <a:pt x="486" y="897"/>
                </a:lnTo>
                <a:lnTo>
                  <a:pt x="480" y="874"/>
                </a:lnTo>
                <a:lnTo>
                  <a:pt x="474" y="849"/>
                </a:lnTo>
                <a:lnTo>
                  <a:pt x="469" y="824"/>
                </a:lnTo>
                <a:lnTo>
                  <a:pt x="463" y="799"/>
                </a:lnTo>
                <a:lnTo>
                  <a:pt x="457" y="772"/>
                </a:lnTo>
                <a:lnTo>
                  <a:pt x="448" y="745"/>
                </a:lnTo>
                <a:lnTo>
                  <a:pt x="440" y="720"/>
                </a:lnTo>
                <a:lnTo>
                  <a:pt x="432" y="697"/>
                </a:lnTo>
                <a:lnTo>
                  <a:pt x="426" y="676"/>
                </a:lnTo>
                <a:lnTo>
                  <a:pt x="419" y="657"/>
                </a:lnTo>
                <a:lnTo>
                  <a:pt x="413" y="638"/>
                </a:lnTo>
                <a:lnTo>
                  <a:pt x="407" y="620"/>
                </a:lnTo>
                <a:lnTo>
                  <a:pt x="403" y="603"/>
                </a:lnTo>
                <a:lnTo>
                  <a:pt x="400" y="590"/>
                </a:lnTo>
                <a:lnTo>
                  <a:pt x="396" y="576"/>
                </a:lnTo>
                <a:lnTo>
                  <a:pt x="392" y="565"/>
                </a:lnTo>
                <a:lnTo>
                  <a:pt x="390" y="553"/>
                </a:lnTo>
                <a:lnTo>
                  <a:pt x="388" y="543"/>
                </a:lnTo>
                <a:lnTo>
                  <a:pt x="386" y="536"/>
                </a:lnTo>
                <a:lnTo>
                  <a:pt x="384" y="530"/>
                </a:lnTo>
                <a:lnTo>
                  <a:pt x="384" y="524"/>
                </a:lnTo>
                <a:lnTo>
                  <a:pt x="384" y="519"/>
                </a:lnTo>
                <a:lnTo>
                  <a:pt x="386" y="513"/>
                </a:lnTo>
                <a:lnTo>
                  <a:pt x="386" y="507"/>
                </a:lnTo>
                <a:lnTo>
                  <a:pt x="386" y="499"/>
                </a:lnTo>
                <a:lnTo>
                  <a:pt x="388" y="492"/>
                </a:lnTo>
                <a:lnTo>
                  <a:pt x="390" y="484"/>
                </a:lnTo>
                <a:lnTo>
                  <a:pt x="392" y="474"/>
                </a:lnTo>
                <a:lnTo>
                  <a:pt x="394" y="465"/>
                </a:lnTo>
                <a:lnTo>
                  <a:pt x="396" y="455"/>
                </a:lnTo>
                <a:lnTo>
                  <a:pt x="400" y="444"/>
                </a:lnTo>
                <a:lnTo>
                  <a:pt x="401" y="432"/>
                </a:lnTo>
                <a:lnTo>
                  <a:pt x="405" y="421"/>
                </a:lnTo>
                <a:lnTo>
                  <a:pt x="409" y="409"/>
                </a:lnTo>
                <a:lnTo>
                  <a:pt x="413" y="396"/>
                </a:lnTo>
                <a:lnTo>
                  <a:pt x="417" y="382"/>
                </a:lnTo>
                <a:lnTo>
                  <a:pt x="421" y="367"/>
                </a:lnTo>
                <a:lnTo>
                  <a:pt x="423" y="352"/>
                </a:lnTo>
                <a:lnTo>
                  <a:pt x="425" y="338"/>
                </a:lnTo>
                <a:lnTo>
                  <a:pt x="426" y="325"/>
                </a:lnTo>
                <a:lnTo>
                  <a:pt x="428" y="313"/>
                </a:lnTo>
                <a:lnTo>
                  <a:pt x="430" y="302"/>
                </a:lnTo>
                <a:lnTo>
                  <a:pt x="432" y="290"/>
                </a:lnTo>
                <a:lnTo>
                  <a:pt x="434" y="281"/>
                </a:lnTo>
                <a:lnTo>
                  <a:pt x="436" y="271"/>
                </a:lnTo>
                <a:lnTo>
                  <a:pt x="436" y="261"/>
                </a:lnTo>
                <a:lnTo>
                  <a:pt x="438" y="254"/>
                </a:lnTo>
                <a:lnTo>
                  <a:pt x="438" y="246"/>
                </a:lnTo>
                <a:lnTo>
                  <a:pt x="438" y="240"/>
                </a:lnTo>
                <a:lnTo>
                  <a:pt x="436" y="234"/>
                </a:lnTo>
                <a:lnTo>
                  <a:pt x="436" y="229"/>
                </a:lnTo>
                <a:lnTo>
                  <a:pt x="434" y="227"/>
                </a:lnTo>
                <a:lnTo>
                  <a:pt x="432" y="223"/>
                </a:lnTo>
                <a:lnTo>
                  <a:pt x="430" y="221"/>
                </a:lnTo>
                <a:lnTo>
                  <a:pt x="426" y="219"/>
                </a:lnTo>
                <a:lnTo>
                  <a:pt x="423" y="217"/>
                </a:lnTo>
                <a:lnTo>
                  <a:pt x="417" y="217"/>
                </a:lnTo>
                <a:lnTo>
                  <a:pt x="411" y="217"/>
                </a:lnTo>
                <a:lnTo>
                  <a:pt x="403" y="217"/>
                </a:lnTo>
                <a:lnTo>
                  <a:pt x="396" y="219"/>
                </a:lnTo>
                <a:lnTo>
                  <a:pt x="388" y="219"/>
                </a:lnTo>
                <a:lnTo>
                  <a:pt x="378" y="221"/>
                </a:lnTo>
                <a:lnTo>
                  <a:pt x="369" y="223"/>
                </a:lnTo>
                <a:lnTo>
                  <a:pt x="357" y="225"/>
                </a:lnTo>
                <a:lnTo>
                  <a:pt x="346" y="227"/>
                </a:lnTo>
                <a:lnTo>
                  <a:pt x="332" y="229"/>
                </a:lnTo>
                <a:lnTo>
                  <a:pt x="319" y="231"/>
                </a:lnTo>
                <a:lnTo>
                  <a:pt x="304" y="233"/>
                </a:lnTo>
                <a:lnTo>
                  <a:pt x="288" y="236"/>
                </a:lnTo>
                <a:lnTo>
                  <a:pt x="273" y="240"/>
                </a:lnTo>
                <a:lnTo>
                  <a:pt x="258" y="246"/>
                </a:lnTo>
                <a:lnTo>
                  <a:pt x="244" y="250"/>
                </a:lnTo>
                <a:lnTo>
                  <a:pt x="231" y="254"/>
                </a:lnTo>
                <a:lnTo>
                  <a:pt x="217" y="257"/>
                </a:lnTo>
                <a:lnTo>
                  <a:pt x="206" y="259"/>
                </a:lnTo>
                <a:lnTo>
                  <a:pt x="194" y="263"/>
                </a:lnTo>
                <a:lnTo>
                  <a:pt x="185" y="265"/>
                </a:lnTo>
                <a:lnTo>
                  <a:pt x="175" y="267"/>
                </a:lnTo>
                <a:lnTo>
                  <a:pt x="165" y="269"/>
                </a:lnTo>
                <a:lnTo>
                  <a:pt x="158" y="271"/>
                </a:lnTo>
                <a:lnTo>
                  <a:pt x="150" y="273"/>
                </a:lnTo>
                <a:lnTo>
                  <a:pt x="144" y="275"/>
                </a:lnTo>
                <a:lnTo>
                  <a:pt x="140" y="275"/>
                </a:lnTo>
                <a:lnTo>
                  <a:pt x="135" y="275"/>
                </a:lnTo>
                <a:lnTo>
                  <a:pt x="133" y="275"/>
                </a:lnTo>
                <a:lnTo>
                  <a:pt x="131" y="275"/>
                </a:lnTo>
                <a:lnTo>
                  <a:pt x="127" y="275"/>
                </a:lnTo>
                <a:lnTo>
                  <a:pt x="123" y="273"/>
                </a:lnTo>
                <a:lnTo>
                  <a:pt x="117" y="271"/>
                </a:lnTo>
                <a:lnTo>
                  <a:pt x="112" y="269"/>
                </a:lnTo>
                <a:lnTo>
                  <a:pt x="104" y="265"/>
                </a:lnTo>
                <a:lnTo>
                  <a:pt x="98" y="261"/>
                </a:lnTo>
                <a:lnTo>
                  <a:pt x="89" y="257"/>
                </a:lnTo>
                <a:lnTo>
                  <a:pt x="81" y="254"/>
                </a:lnTo>
                <a:lnTo>
                  <a:pt x="71" y="248"/>
                </a:lnTo>
                <a:lnTo>
                  <a:pt x="62" y="242"/>
                </a:lnTo>
                <a:lnTo>
                  <a:pt x="50" y="236"/>
                </a:lnTo>
                <a:lnTo>
                  <a:pt x="39" y="231"/>
                </a:lnTo>
                <a:lnTo>
                  <a:pt x="27" y="225"/>
                </a:lnTo>
                <a:lnTo>
                  <a:pt x="14" y="217"/>
                </a:lnTo>
                <a:lnTo>
                  <a:pt x="0" y="209"/>
                </a:lnTo>
                <a:lnTo>
                  <a:pt x="23" y="204"/>
                </a:lnTo>
                <a:lnTo>
                  <a:pt x="46" y="198"/>
                </a:lnTo>
                <a:lnTo>
                  <a:pt x="67" y="192"/>
                </a:lnTo>
                <a:lnTo>
                  <a:pt x="89" y="186"/>
                </a:lnTo>
                <a:lnTo>
                  <a:pt x="110" y="181"/>
                </a:lnTo>
                <a:lnTo>
                  <a:pt x="129" y="175"/>
                </a:lnTo>
                <a:lnTo>
                  <a:pt x="148" y="169"/>
                </a:lnTo>
                <a:lnTo>
                  <a:pt x="167" y="163"/>
                </a:lnTo>
                <a:lnTo>
                  <a:pt x="185" y="158"/>
                </a:lnTo>
                <a:lnTo>
                  <a:pt x="202" y="152"/>
                </a:lnTo>
                <a:lnTo>
                  <a:pt x="217" y="146"/>
                </a:lnTo>
                <a:lnTo>
                  <a:pt x="233" y="142"/>
                </a:lnTo>
                <a:lnTo>
                  <a:pt x="248" y="137"/>
                </a:lnTo>
                <a:lnTo>
                  <a:pt x="263" y="131"/>
                </a:lnTo>
                <a:lnTo>
                  <a:pt x="277" y="127"/>
                </a:lnTo>
                <a:lnTo>
                  <a:pt x="288" y="121"/>
                </a:lnTo>
                <a:lnTo>
                  <a:pt x="300" y="117"/>
                </a:lnTo>
                <a:lnTo>
                  <a:pt x="311" y="112"/>
                </a:lnTo>
                <a:lnTo>
                  <a:pt x="323" y="108"/>
                </a:lnTo>
                <a:lnTo>
                  <a:pt x="332" y="102"/>
                </a:lnTo>
                <a:lnTo>
                  <a:pt x="342" y="98"/>
                </a:lnTo>
                <a:lnTo>
                  <a:pt x="350" y="94"/>
                </a:lnTo>
                <a:lnTo>
                  <a:pt x="357" y="89"/>
                </a:lnTo>
                <a:lnTo>
                  <a:pt x="365" y="85"/>
                </a:lnTo>
                <a:lnTo>
                  <a:pt x="371" y="81"/>
                </a:lnTo>
                <a:lnTo>
                  <a:pt x="377" y="77"/>
                </a:lnTo>
                <a:lnTo>
                  <a:pt x="382" y="73"/>
                </a:lnTo>
                <a:lnTo>
                  <a:pt x="386" y="67"/>
                </a:lnTo>
                <a:lnTo>
                  <a:pt x="390" y="64"/>
                </a:lnTo>
                <a:lnTo>
                  <a:pt x="394" y="60"/>
                </a:lnTo>
                <a:lnTo>
                  <a:pt x="396" y="56"/>
                </a:lnTo>
                <a:lnTo>
                  <a:pt x="398" y="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32"/>
          <p:cNvSpPr/>
          <p:nvPr/>
        </p:nvSpPr>
        <p:spPr>
          <a:xfrm>
            <a:off x="5840280" y="3117960"/>
            <a:ext cx="304920" cy="331560"/>
          </a:xfrm>
          <a:custGeom>
            <a:avLst/>
            <a:gdLst/>
            <a:ahLst/>
            <a:rect l="l" t="t" r="r" b="b"/>
            <a:pathLst>
              <a:path w="384" h="418">
                <a:moveTo>
                  <a:pt x="0" y="27"/>
                </a:moveTo>
                <a:lnTo>
                  <a:pt x="2" y="21"/>
                </a:lnTo>
                <a:lnTo>
                  <a:pt x="4" y="17"/>
                </a:lnTo>
                <a:lnTo>
                  <a:pt x="6" y="13"/>
                </a:lnTo>
                <a:lnTo>
                  <a:pt x="12" y="9"/>
                </a:lnTo>
                <a:lnTo>
                  <a:pt x="18" y="5"/>
                </a:lnTo>
                <a:lnTo>
                  <a:pt x="21" y="3"/>
                </a:lnTo>
                <a:lnTo>
                  <a:pt x="25" y="2"/>
                </a:lnTo>
                <a:lnTo>
                  <a:pt x="31" y="2"/>
                </a:lnTo>
                <a:lnTo>
                  <a:pt x="37" y="2"/>
                </a:lnTo>
                <a:lnTo>
                  <a:pt x="42" y="0"/>
                </a:lnTo>
                <a:lnTo>
                  <a:pt x="48" y="0"/>
                </a:lnTo>
                <a:lnTo>
                  <a:pt x="62" y="0"/>
                </a:lnTo>
                <a:lnTo>
                  <a:pt x="77" y="0"/>
                </a:lnTo>
                <a:lnTo>
                  <a:pt x="90" y="2"/>
                </a:lnTo>
                <a:lnTo>
                  <a:pt x="106" y="2"/>
                </a:lnTo>
                <a:lnTo>
                  <a:pt x="121" y="3"/>
                </a:lnTo>
                <a:lnTo>
                  <a:pt x="140" y="5"/>
                </a:lnTo>
                <a:lnTo>
                  <a:pt x="150" y="7"/>
                </a:lnTo>
                <a:lnTo>
                  <a:pt x="160" y="9"/>
                </a:lnTo>
                <a:lnTo>
                  <a:pt x="169" y="11"/>
                </a:lnTo>
                <a:lnTo>
                  <a:pt x="181" y="13"/>
                </a:lnTo>
                <a:lnTo>
                  <a:pt x="190" y="17"/>
                </a:lnTo>
                <a:lnTo>
                  <a:pt x="198" y="19"/>
                </a:lnTo>
                <a:lnTo>
                  <a:pt x="208" y="23"/>
                </a:lnTo>
                <a:lnTo>
                  <a:pt x="217" y="28"/>
                </a:lnTo>
                <a:lnTo>
                  <a:pt x="234" y="38"/>
                </a:lnTo>
                <a:lnTo>
                  <a:pt x="252" y="50"/>
                </a:lnTo>
                <a:lnTo>
                  <a:pt x="271" y="63"/>
                </a:lnTo>
                <a:lnTo>
                  <a:pt x="288" y="76"/>
                </a:lnTo>
                <a:lnTo>
                  <a:pt x="305" y="90"/>
                </a:lnTo>
                <a:lnTo>
                  <a:pt x="325" y="105"/>
                </a:lnTo>
                <a:lnTo>
                  <a:pt x="336" y="121"/>
                </a:lnTo>
                <a:lnTo>
                  <a:pt x="350" y="136"/>
                </a:lnTo>
                <a:lnTo>
                  <a:pt x="359" y="153"/>
                </a:lnTo>
                <a:lnTo>
                  <a:pt x="367" y="170"/>
                </a:lnTo>
                <a:lnTo>
                  <a:pt x="375" y="188"/>
                </a:lnTo>
                <a:lnTo>
                  <a:pt x="378" y="195"/>
                </a:lnTo>
                <a:lnTo>
                  <a:pt x="380" y="205"/>
                </a:lnTo>
                <a:lnTo>
                  <a:pt x="382" y="213"/>
                </a:lnTo>
                <a:lnTo>
                  <a:pt x="382" y="220"/>
                </a:lnTo>
                <a:lnTo>
                  <a:pt x="384" y="228"/>
                </a:lnTo>
                <a:lnTo>
                  <a:pt x="384" y="236"/>
                </a:lnTo>
                <a:lnTo>
                  <a:pt x="384" y="255"/>
                </a:lnTo>
                <a:lnTo>
                  <a:pt x="384" y="272"/>
                </a:lnTo>
                <a:lnTo>
                  <a:pt x="384" y="289"/>
                </a:lnTo>
                <a:lnTo>
                  <a:pt x="382" y="307"/>
                </a:lnTo>
                <a:lnTo>
                  <a:pt x="380" y="322"/>
                </a:lnTo>
                <a:lnTo>
                  <a:pt x="378" y="337"/>
                </a:lnTo>
                <a:lnTo>
                  <a:pt x="376" y="351"/>
                </a:lnTo>
                <a:lnTo>
                  <a:pt x="373" y="366"/>
                </a:lnTo>
                <a:lnTo>
                  <a:pt x="371" y="374"/>
                </a:lnTo>
                <a:lnTo>
                  <a:pt x="367" y="380"/>
                </a:lnTo>
                <a:lnTo>
                  <a:pt x="365" y="385"/>
                </a:lnTo>
                <a:lnTo>
                  <a:pt x="361" y="391"/>
                </a:lnTo>
                <a:lnTo>
                  <a:pt x="359" y="395"/>
                </a:lnTo>
                <a:lnTo>
                  <a:pt x="355" y="401"/>
                </a:lnTo>
                <a:lnTo>
                  <a:pt x="351" y="405"/>
                </a:lnTo>
                <a:lnTo>
                  <a:pt x="348" y="407"/>
                </a:lnTo>
                <a:lnTo>
                  <a:pt x="342" y="412"/>
                </a:lnTo>
                <a:lnTo>
                  <a:pt x="334" y="416"/>
                </a:lnTo>
                <a:lnTo>
                  <a:pt x="328" y="418"/>
                </a:lnTo>
                <a:lnTo>
                  <a:pt x="325" y="418"/>
                </a:lnTo>
                <a:lnTo>
                  <a:pt x="319" y="418"/>
                </a:lnTo>
                <a:lnTo>
                  <a:pt x="313" y="416"/>
                </a:lnTo>
                <a:lnTo>
                  <a:pt x="307" y="412"/>
                </a:lnTo>
                <a:lnTo>
                  <a:pt x="300" y="407"/>
                </a:lnTo>
                <a:lnTo>
                  <a:pt x="292" y="401"/>
                </a:lnTo>
                <a:lnTo>
                  <a:pt x="282" y="391"/>
                </a:lnTo>
                <a:lnTo>
                  <a:pt x="273" y="382"/>
                </a:lnTo>
                <a:lnTo>
                  <a:pt x="261" y="372"/>
                </a:lnTo>
                <a:lnTo>
                  <a:pt x="250" y="359"/>
                </a:lnTo>
                <a:lnTo>
                  <a:pt x="236" y="345"/>
                </a:lnTo>
                <a:lnTo>
                  <a:pt x="223" y="330"/>
                </a:lnTo>
                <a:lnTo>
                  <a:pt x="209" y="314"/>
                </a:lnTo>
                <a:lnTo>
                  <a:pt x="194" y="297"/>
                </a:lnTo>
                <a:lnTo>
                  <a:pt x="179" y="278"/>
                </a:lnTo>
                <a:lnTo>
                  <a:pt x="161" y="257"/>
                </a:lnTo>
                <a:lnTo>
                  <a:pt x="144" y="236"/>
                </a:lnTo>
                <a:lnTo>
                  <a:pt x="127" y="215"/>
                </a:lnTo>
                <a:lnTo>
                  <a:pt x="112" y="194"/>
                </a:lnTo>
                <a:lnTo>
                  <a:pt x="96" y="174"/>
                </a:lnTo>
                <a:lnTo>
                  <a:pt x="83" y="155"/>
                </a:lnTo>
                <a:lnTo>
                  <a:pt x="69" y="138"/>
                </a:lnTo>
                <a:lnTo>
                  <a:pt x="58" y="121"/>
                </a:lnTo>
                <a:lnTo>
                  <a:pt x="46" y="105"/>
                </a:lnTo>
                <a:lnTo>
                  <a:pt x="37" y="92"/>
                </a:lnTo>
                <a:lnTo>
                  <a:pt x="29" y="78"/>
                </a:lnTo>
                <a:lnTo>
                  <a:pt x="21" y="67"/>
                </a:lnTo>
                <a:lnTo>
                  <a:pt x="16" y="57"/>
                </a:lnTo>
                <a:lnTo>
                  <a:pt x="10" y="48"/>
                </a:lnTo>
                <a:lnTo>
                  <a:pt x="6" y="40"/>
                </a:lnTo>
                <a:lnTo>
                  <a:pt x="2" y="34"/>
                </a:lnTo>
                <a:lnTo>
                  <a:pt x="2" y="30"/>
                </a:lnTo>
                <a:lnTo>
                  <a:pt x="0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33"/>
          <p:cNvSpPr/>
          <p:nvPr/>
        </p:nvSpPr>
        <p:spPr>
          <a:xfrm>
            <a:off x="7077240" y="4094280"/>
            <a:ext cx="465120" cy="241200"/>
          </a:xfrm>
          <a:custGeom>
            <a:avLst/>
            <a:gdLst/>
            <a:ahLst/>
            <a:rect l="l" t="t" r="r" b="b"/>
            <a:pathLst>
              <a:path w="585" h="303">
                <a:moveTo>
                  <a:pt x="0" y="38"/>
                </a:moveTo>
                <a:lnTo>
                  <a:pt x="6" y="35"/>
                </a:lnTo>
                <a:lnTo>
                  <a:pt x="11" y="29"/>
                </a:lnTo>
                <a:lnTo>
                  <a:pt x="17" y="25"/>
                </a:lnTo>
                <a:lnTo>
                  <a:pt x="25" y="21"/>
                </a:lnTo>
                <a:lnTo>
                  <a:pt x="34" y="17"/>
                </a:lnTo>
                <a:lnTo>
                  <a:pt x="42" y="13"/>
                </a:lnTo>
                <a:lnTo>
                  <a:pt x="54" y="12"/>
                </a:lnTo>
                <a:lnTo>
                  <a:pt x="65" y="10"/>
                </a:lnTo>
                <a:lnTo>
                  <a:pt x="77" y="6"/>
                </a:lnTo>
                <a:lnTo>
                  <a:pt x="90" y="4"/>
                </a:lnTo>
                <a:lnTo>
                  <a:pt x="105" y="4"/>
                </a:lnTo>
                <a:lnTo>
                  <a:pt x="121" y="2"/>
                </a:lnTo>
                <a:lnTo>
                  <a:pt x="136" y="0"/>
                </a:lnTo>
                <a:lnTo>
                  <a:pt x="153" y="0"/>
                </a:lnTo>
                <a:lnTo>
                  <a:pt x="173" y="0"/>
                </a:lnTo>
                <a:lnTo>
                  <a:pt x="192" y="0"/>
                </a:lnTo>
                <a:lnTo>
                  <a:pt x="211" y="0"/>
                </a:lnTo>
                <a:lnTo>
                  <a:pt x="232" y="0"/>
                </a:lnTo>
                <a:lnTo>
                  <a:pt x="249" y="0"/>
                </a:lnTo>
                <a:lnTo>
                  <a:pt x="269" y="2"/>
                </a:lnTo>
                <a:lnTo>
                  <a:pt x="286" y="4"/>
                </a:lnTo>
                <a:lnTo>
                  <a:pt x="303" y="6"/>
                </a:lnTo>
                <a:lnTo>
                  <a:pt x="338" y="10"/>
                </a:lnTo>
                <a:lnTo>
                  <a:pt x="353" y="13"/>
                </a:lnTo>
                <a:lnTo>
                  <a:pt x="368" y="17"/>
                </a:lnTo>
                <a:lnTo>
                  <a:pt x="384" y="21"/>
                </a:lnTo>
                <a:lnTo>
                  <a:pt x="399" y="27"/>
                </a:lnTo>
                <a:lnTo>
                  <a:pt x="414" y="33"/>
                </a:lnTo>
                <a:lnTo>
                  <a:pt x="428" y="38"/>
                </a:lnTo>
                <a:lnTo>
                  <a:pt x="441" y="44"/>
                </a:lnTo>
                <a:lnTo>
                  <a:pt x="457" y="52"/>
                </a:lnTo>
                <a:lnTo>
                  <a:pt x="478" y="67"/>
                </a:lnTo>
                <a:lnTo>
                  <a:pt x="497" y="81"/>
                </a:lnTo>
                <a:lnTo>
                  <a:pt x="507" y="90"/>
                </a:lnTo>
                <a:lnTo>
                  <a:pt x="516" y="98"/>
                </a:lnTo>
                <a:lnTo>
                  <a:pt x="526" y="106"/>
                </a:lnTo>
                <a:lnTo>
                  <a:pt x="533" y="113"/>
                </a:lnTo>
                <a:lnTo>
                  <a:pt x="541" y="123"/>
                </a:lnTo>
                <a:lnTo>
                  <a:pt x="549" y="132"/>
                </a:lnTo>
                <a:lnTo>
                  <a:pt x="555" y="140"/>
                </a:lnTo>
                <a:lnTo>
                  <a:pt x="560" y="152"/>
                </a:lnTo>
                <a:lnTo>
                  <a:pt x="566" y="161"/>
                </a:lnTo>
                <a:lnTo>
                  <a:pt x="570" y="173"/>
                </a:lnTo>
                <a:lnTo>
                  <a:pt x="574" y="184"/>
                </a:lnTo>
                <a:lnTo>
                  <a:pt x="576" y="196"/>
                </a:lnTo>
                <a:lnTo>
                  <a:pt x="578" y="207"/>
                </a:lnTo>
                <a:lnTo>
                  <a:pt x="580" y="219"/>
                </a:lnTo>
                <a:lnTo>
                  <a:pt x="581" y="228"/>
                </a:lnTo>
                <a:lnTo>
                  <a:pt x="581" y="238"/>
                </a:lnTo>
                <a:lnTo>
                  <a:pt x="583" y="246"/>
                </a:lnTo>
                <a:lnTo>
                  <a:pt x="583" y="253"/>
                </a:lnTo>
                <a:lnTo>
                  <a:pt x="585" y="261"/>
                </a:lnTo>
                <a:lnTo>
                  <a:pt x="585" y="267"/>
                </a:lnTo>
                <a:lnTo>
                  <a:pt x="585" y="273"/>
                </a:lnTo>
                <a:lnTo>
                  <a:pt x="583" y="278"/>
                </a:lnTo>
                <a:lnTo>
                  <a:pt x="583" y="282"/>
                </a:lnTo>
                <a:lnTo>
                  <a:pt x="583" y="288"/>
                </a:lnTo>
                <a:lnTo>
                  <a:pt x="580" y="294"/>
                </a:lnTo>
                <a:lnTo>
                  <a:pt x="576" y="299"/>
                </a:lnTo>
                <a:lnTo>
                  <a:pt x="574" y="301"/>
                </a:lnTo>
                <a:lnTo>
                  <a:pt x="568" y="303"/>
                </a:lnTo>
                <a:lnTo>
                  <a:pt x="564" y="303"/>
                </a:lnTo>
                <a:lnTo>
                  <a:pt x="558" y="303"/>
                </a:lnTo>
                <a:lnTo>
                  <a:pt x="551" y="301"/>
                </a:lnTo>
                <a:lnTo>
                  <a:pt x="541" y="299"/>
                </a:lnTo>
                <a:lnTo>
                  <a:pt x="532" y="298"/>
                </a:lnTo>
                <a:lnTo>
                  <a:pt x="522" y="294"/>
                </a:lnTo>
                <a:lnTo>
                  <a:pt x="510" y="290"/>
                </a:lnTo>
                <a:lnTo>
                  <a:pt x="497" y="286"/>
                </a:lnTo>
                <a:lnTo>
                  <a:pt x="484" y="280"/>
                </a:lnTo>
                <a:lnTo>
                  <a:pt x="468" y="275"/>
                </a:lnTo>
                <a:lnTo>
                  <a:pt x="451" y="269"/>
                </a:lnTo>
                <a:lnTo>
                  <a:pt x="434" y="261"/>
                </a:lnTo>
                <a:lnTo>
                  <a:pt x="414" y="255"/>
                </a:lnTo>
                <a:lnTo>
                  <a:pt x="395" y="248"/>
                </a:lnTo>
                <a:lnTo>
                  <a:pt x="374" y="240"/>
                </a:lnTo>
                <a:lnTo>
                  <a:pt x="351" y="230"/>
                </a:lnTo>
                <a:lnTo>
                  <a:pt x="328" y="221"/>
                </a:lnTo>
                <a:lnTo>
                  <a:pt x="303" y="211"/>
                </a:lnTo>
                <a:lnTo>
                  <a:pt x="280" y="200"/>
                </a:lnTo>
                <a:lnTo>
                  <a:pt x="255" y="188"/>
                </a:lnTo>
                <a:lnTo>
                  <a:pt x="232" y="177"/>
                </a:lnTo>
                <a:lnTo>
                  <a:pt x="207" y="163"/>
                </a:lnTo>
                <a:lnTo>
                  <a:pt x="182" y="150"/>
                </a:lnTo>
                <a:lnTo>
                  <a:pt x="157" y="134"/>
                </a:lnTo>
                <a:lnTo>
                  <a:pt x="132" y="121"/>
                </a:lnTo>
                <a:lnTo>
                  <a:pt x="105" y="106"/>
                </a:lnTo>
                <a:lnTo>
                  <a:pt x="80" y="88"/>
                </a:lnTo>
                <a:lnTo>
                  <a:pt x="54" y="73"/>
                </a:lnTo>
                <a:lnTo>
                  <a:pt x="0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34"/>
          <p:cNvSpPr/>
          <p:nvPr/>
        </p:nvSpPr>
        <p:spPr>
          <a:xfrm>
            <a:off x="6954840" y="3492360"/>
            <a:ext cx="477720" cy="549360"/>
          </a:xfrm>
          <a:custGeom>
            <a:avLst/>
            <a:gdLst/>
            <a:ahLst/>
            <a:rect l="l" t="t" r="r" b="b"/>
            <a:pathLst>
              <a:path w="603" h="693">
                <a:moveTo>
                  <a:pt x="599" y="169"/>
                </a:moveTo>
                <a:lnTo>
                  <a:pt x="597" y="176"/>
                </a:lnTo>
                <a:lnTo>
                  <a:pt x="593" y="184"/>
                </a:lnTo>
                <a:lnTo>
                  <a:pt x="590" y="194"/>
                </a:lnTo>
                <a:lnTo>
                  <a:pt x="584" y="203"/>
                </a:lnTo>
                <a:lnTo>
                  <a:pt x="578" y="213"/>
                </a:lnTo>
                <a:lnTo>
                  <a:pt x="570" y="224"/>
                </a:lnTo>
                <a:lnTo>
                  <a:pt x="563" y="236"/>
                </a:lnTo>
                <a:lnTo>
                  <a:pt x="555" y="247"/>
                </a:lnTo>
                <a:lnTo>
                  <a:pt x="545" y="259"/>
                </a:lnTo>
                <a:lnTo>
                  <a:pt x="534" y="272"/>
                </a:lnTo>
                <a:lnTo>
                  <a:pt x="524" y="286"/>
                </a:lnTo>
                <a:lnTo>
                  <a:pt x="511" y="301"/>
                </a:lnTo>
                <a:lnTo>
                  <a:pt x="499" y="317"/>
                </a:lnTo>
                <a:lnTo>
                  <a:pt x="486" y="332"/>
                </a:lnTo>
                <a:lnTo>
                  <a:pt x="471" y="347"/>
                </a:lnTo>
                <a:lnTo>
                  <a:pt x="455" y="365"/>
                </a:lnTo>
                <a:lnTo>
                  <a:pt x="438" y="382"/>
                </a:lnTo>
                <a:lnTo>
                  <a:pt x="417" y="401"/>
                </a:lnTo>
                <a:lnTo>
                  <a:pt x="396" y="418"/>
                </a:lnTo>
                <a:lnTo>
                  <a:pt x="373" y="437"/>
                </a:lnTo>
                <a:lnTo>
                  <a:pt x="350" y="455"/>
                </a:lnTo>
                <a:lnTo>
                  <a:pt x="323" y="474"/>
                </a:lnTo>
                <a:lnTo>
                  <a:pt x="296" y="493"/>
                </a:lnTo>
                <a:lnTo>
                  <a:pt x="269" y="514"/>
                </a:lnTo>
                <a:lnTo>
                  <a:pt x="238" y="533"/>
                </a:lnTo>
                <a:lnTo>
                  <a:pt x="208" y="555"/>
                </a:lnTo>
                <a:lnTo>
                  <a:pt x="177" y="576"/>
                </a:lnTo>
                <a:lnTo>
                  <a:pt x="144" y="599"/>
                </a:lnTo>
                <a:lnTo>
                  <a:pt x="110" y="620"/>
                </a:lnTo>
                <a:lnTo>
                  <a:pt x="73" y="643"/>
                </a:lnTo>
                <a:lnTo>
                  <a:pt x="39" y="668"/>
                </a:lnTo>
                <a:lnTo>
                  <a:pt x="0" y="693"/>
                </a:lnTo>
                <a:lnTo>
                  <a:pt x="0" y="652"/>
                </a:lnTo>
                <a:lnTo>
                  <a:pt x="0" y="614"/>
                </a:lnTo>
                <a:lnTo>
                  <a:pt x="33" y="581"/>
                </a:lnTo>
                <a:lnTo>
                  <a:pt x="64" y="551"/>
                </a:lnTo>
                <a:lnTo>
                  <a:pt x="94" y="522"/>
                </a:lnTo>
                <a:lnTo>
                  <a:pt x="121" y="493"/>
                </a:lnTo>
                <a:lnTo>
                  <a:pt x="148" y="464"/>
                </a:lnTo>
                <a:lnTo>
                  <a:pt x="173" y="437"/>
                </a:lnTo>
                <a:lnTo>
                  <a:pt x="196" y="413"/>
                </a:lnTo>
                <a:lnTo>
                  <a:pt x="219" y="388"/>
                </a:lnTo>
                <a:lnTo>
                  <a:pt x="240" y="363"/>
                </a:lnTo>
                <a:lnTo>
                  <a:pt x="259" y="340"/>
                </a:lnTo>
                <a:lnTo>
                  <a:pt x="277" y="318"/>
                </a:lnTo>
                <a:lnTo>
                  <a:pt x="294" y="297"/>
                </a:lnTo>
                <a:lnTo>
                  <a:pt x="309" y="276"/>
                </a:lnTo>
                <a:lnTo>
                  <a:pt x="323" y="257"/>
                </a:lnTo>
                <a:lnTo>
                  <a:pt x="336" y="238"/>
                </a:lnTo>
                <a:lnTo>
                  <a:pt x="348" y="221"/>
                </a:lnTo>
                <a:lnTo>
                  <a:pt x="355" y="207"/>
                </a:lnTo>
                <a:lnTo>
                  <a:pt x="363" y="194"/>
                </a:lnTo>
                <a:lnTo>
                  <a:pt x="371" y="180"/>
                </a:lnTo>
                <a:lnTo>
                  <a:pt x="377" y="167"/>
                </a:lnTo>
                <a:lnTo>
                  <a:pt x="382" y="155"/>
                </a:lnTo>
                <a:lnTo>
                  <a:pt x="386" y="144"/>
                </a:lnTo>
                <a:lnTo>
                  <a:pt x="390" y="132"/>
                </a:lnTo>
                <a:lnTo>
                  <a:pt x="394" y="121"/>
                </a:lnTo>
                <a:lnTo>
                  <a:pt x="396" y="111"/>
                </a:lnTo>
                <a:lnTo>
                  <a:pt x="398" y="102"/>
                </a:lnTo>
                <a:lnTo>
                  <a:pt x="400" y="92"/>
                </a:lnTo>
                <a:lnTo>
                  <a:pt x="400" y="82"/>
                </a:lnTo>
                <a:lnTo>
                  <a:pt x="400" y="75"/>
                </a:lnTo>
                <a:lnTo>
                  <a:pt x="400" y="67"/>
                </a:lnTo>
                <a:lnTo>
                  <a:pt x="398" y="59"/>
                </a:lnTo>
                <a:lnTo>
                  <a:pt x="396" y="52"/>
                </a:lnTo>
                <a:lnTo>
                  <a:pt x="392" y="46"/>
                </a:lnTo>
                <a:lnTo>
                  <a:pt x="388" y="42"/>
                </a:lnTo>
                <a:lnTo>
                  <a:pt x="384" y="38"/>
                </a:lnTo>
                <a:lnTo>
                  <a:pt x="382" y="34"/>
                </a:lnTo>
                <a:lnTo>
                  <a:pt x="380" y="31"/>
                </a:lnTo>
                <a:lnTo>
                  <a:pt x="378" y="27"/>
                </a:lnTo>
                <a:lnTo>
                  <a:pt x="378" y="23"/>
                </a:lnTo>
                <a:lnTo>
                  <a:pt x="378" y="21"/>
                </a:lnTo>
                <a:lnTo>
                  <a:pt x="378" y="17"/>
                </a:lnTo>
                <a:lnTo>
                  <a:pt x="378" y="15"/>
                </a:lnTo>
                <a:lnTo>
                  <a:pt x="380" y="11"/>
                </a:lnTo>
                <a:lnTo>
                  <a:pt x="382" y="9"/>
                </a:lnTo>
                <a:lnTo>
                  <a:pt x="384" y="6"/>
                </a:lnTo>
                <a:lnTo>
                  <a:pt x="388" y="4"/>
                </a:lnTo>
                <a:lnTo>
                  <a:pt x="392" y="2"/>
                </a:lnTo>
                <a:lnTo>
                  <a:pt x="396" y="0"/>
                </a:lnTo>
                <a:lnTo>
                  <a:pt x="402" y="0"/>
                </a:lnTo>
                <a:lnTo>
                  <a:pt x="405" y="0"/>
                </a:lnTo>
                <a:lnTo>
                  <a:pt x="411" y="0"/>
                </a:lnTo>
                <a:lnTo>
                  <a:pt x="419" y="2"/>
                </a:lnTo>
                <a:lnTo>
                  <a:pt x="425" y="4"/>
                </a:lnTo>
                <a:lnTo>
                  <a:pt x="432" y="6"/>
                </a:lnTo>
                <a:lnTo>
                  <a:pt x="448" y="9"/>
                </a:lnTo>
                <a:lnTo>
                  <a:pt x="457" y="13"/>
                </a:lnTo>
                <a:lnTo>
                  <a:pt x="467" y="17"/>
                </a:lnTo>
                <a:lnTo>
                  <a:pt x="476" y="21"/>
                </a:lnTo>
                <a:lnTo>
                  <a:pt x="486" y="27"/>
                </a:lnTo>
                <a:lnTo>
                  <a:pt x="496" y="32"/>
                </a:lnTo>
                <a:lnTo>
                  <a:pt x="505" y="38"/>
                </a:lnTo>
                <a:lnTo>
                  <a:pt x="517" y="44"/>
                </a:lnTo>
                <a:lnTo>
                  <a:pt x="528" y="52"/>
                </a:lnTo>
                <a:lnTo>
                  <a:pt x="538" y="59"/>
                </a:lnTo>
                <a:lnTo>
                  <a:pt x="549" y="67"/>
                </a:lnTo>
                <a:lnTo>
                  <a:pt x="557" y="73"/>
                </a:lnTo>
                <a:lnTo>
                  <a:pt x="567" y="80"/>
                </a:lnTo>
                <a:lnTo>
                  <a:pt x="572" y="88"/>
                </a:lnTo>
                <a:lnTo>
                  <a:pt x="580" y="96"/>
                </a:lnTo>
                <a:lnTo>
                  <a:pt x="586" y="103"/>
                </a:lnTo>
                <a:lnTo>
                  <a:pt x="590" y="111"/>
                </a:lnTo>
                <a:lnTo>
                  <a:pt x="595" y="117"/>
                </a:lnTo>
                <a:lnTo>
                  <a:pt x="597" y="125"/>
                </a:lnTo>
                <a:lnTo>
                  <a:pt x="601" y="132"/>
                </a:lnTo>
                <a:lnTo>
                  <a:pt x="601" y="140"/>
                </a:lnTo>
                <a:lnTo>
                  <a:pt x="603" y="148"/>
                </a:lnTo>
                <a:lnTo>
                  <a:pt x="603" y="153"/>
                </a:lnTo>
                <a:lnTo>
                  <a:pt x="601" y="161"/>
                </a:lnTo>
                <a:lnTo>
                  <a:pt x="599" y="1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135"/>
          <p:cNvSpPr/>
          <p:nvPr/>
        </p:nvSpPr>
        <p:spPr>
          <a:xfrm>
            <a:off x="6324480" y="3927600"/>
            <a:ext cx="630360" cy="574560"/>
          </a:xfrm>
          <a:custGeom>
            <a:avLst/>
            <a:gdLst/>
            <a:ahLst/>
            <a:rect l="l" t="t" r="r" b="b"/>
            <a:pathLst>
              <a:path w="792" h="723">
                <a:moveTo>
                  <a:pt x="2" y="718"/>
                </a:moveTo>
                <a:lnTo>
                  <a:pt x="0" y="716"/>
                </a:lnTo>
                <a:lnTo>
                  <a:pt x="0" y="712"/>
                </a:lnTo>
                <a:lnTo>
                  <a:pt x="0" y="708"/>
                </a:lnTo>
                <a:lnTo>
                  <a:pt x="2" y="704"/>
                </a:lnTo>
                <a:lnTo>
                  <a:pt x="3" y="698"/>
                </a:lnTo>
                <a:lnTo>
                  <a:pt x="7" y="693"/>
                </a:lnTo>
                <a:lnTo>
                  <a:pt x="13" y="687"/>
                </a:lnTo>
                <a:lnTo>
                  <a:pt x="19" y="681"/>
                </a:lnTo>
                <a:lnTo>
                  <a:pt x="26" y="674"/>
                </a:lnTo>
                <a:lnTo>
                  <a:pt x="34" y="666"/>
                </a:lnTo>
                <a:lnTo>
                  <a:pt x="44" y="658"/>
                </a:lnTo>
                <a:lnTo>
                  <a:pt x="55" y="650"/>
                </a:lnTo>
                <a:lnTo>
                  <a:pt x="67" y="641"/>
                </a:lnTo>
                <a:lnTo>
                  <a:pt x="80" y="633"/>
                </a:lnTo>
                <a:lnTo>
                  <a:pt x="94" y="624"/>
                </a:lnTo>
                <a:lnTo>
                  <a:pt x="109" y="614"/>
                </a:lnTo>
                <a:lnTo>
                  <a:pt x="140" y="593"/>
                </a:lnTo>
                <a:lnTo>
                  <a:pt x="170" y="572"/>
                </a:lnTo>
                <a:lnTo>
                  <a:pt x="199" y="549"/>
                </a:lnTo>
                <a:lnTo>
                  <a:pt x="230" y="526"/>
                </a:lnTo>
                <a:lnTo>
                  <a:pt x="259" y="501"/>
                </a:lnTo>
                <a:lnTo>
                  <a:pt x="288" y="474"/>
                </a:lnTo>
                <a:lnTo>
                  <a:pt x="318" y="447"/>
                </a:lnTo>
                <a:lnTo>
                  <a:pt x="349" y="418"/>
                </a:lnTo>
                <a:lnTo>
                  <a:pt x="364" y="405"/>
                </a:lnTo>
                <a:lnTo>
                  <a:pt x="382" y="389"/>
                </a:lnTo>
                <a:lnTo>
                  <a:pt x="399" y="372"/>
                </a:lnTo>
                <a:lnTo>
                  <a:pt x="416" y="353"/>
                </a:lnTo>
                <a:lnTo>
                  <a:pt x="435" y="334"/>
                </a:lnTo>
                <a:lnTo>
                  <a:pt x="455" y="311"/>
                </a:lnTo>
                <a:lnTo>
                  <a:pt x="476" y="288"/>
                </a:lnTo>
                <a:lnTo>
                  <a:pt x="497" y="263"/>
                </a:lnTo>
                <a:lnTo>
                  <a:pt x="518" y="236"/>
                </a:lnTo>
                <a:lnTo>
                  <a:pt x="541" y="207"/>
                </a:lnTo>
                <a:lnTo>
                  <a:pt x="564" y="176"/>
                </a:lnTo>
                <a:lnTo>
                  <a:pt x="589" y="144"/>
                </a:lnTo>
                <a:lnTo>
                  <a:pt x="614" y="109"/>
                </a:lnTo>
                <a:lnTo>
                  <a:pt x="641" y="75"/>
                </a:lnTo>
                <a:lnTo>
                  <a:pt x="668" y="38"/>
                </a:lnTo>
                <a:lnTo>
                  <a:pt x="696" y="0"/>
                </a:lnTo>
                <a:lnTo>
                  <a:pt x="719" y="25"/>
                </a:lnTo>
                <a:lnTo>
                  <a:pt x="744" y="52"/>
                </a:lnTo>
                <a:lnTo>
                  <a:pt x="792" y="103"/>
                </a:lnTo>
                <a:lnTo>
                  <a:pt x="775" y="125"/>
                </a:lnTo>
                <a:lnTo>
                  <a:pt x="760" y="144"/>
                </a:lnTo>
                <a:lnTo>
                  <a:pt x="744" y="165"/>
                </a:lnTo>
                <a:lnTo>
                  <a:pt x="729" y="182"/>
                </a:lnTo>
                <a:lnTo>
                  <a:pt x="714" y="201"/>
                </a:lnTo>
                <a:lnTo>
                  <a:pt x="698" y="221"/>
                </a:lnTo>
                <a:lnTo>
                  <a:pt x="683" y="238"/>
                </a:lnTo>
                <a:lnTo>
                  <a:pt x="670" y="253"/>
                </a:lnTo>
                <a:lnTo>
                  <a:pt x="656" y="270"/>
                </a:lnTo>
                <a:lnTo>
                  <a:pt x="641" y="286"/>
                </a:lnTo>
                <a:lnTo>
                  <a:pt x="627" y="301"/>
                </a:lnTo>
                <a:lnTo>
                  <a:pt x="616" y="317"/>
                </a:lnTo>
                <a:lnTo>
                  <a:pt x="602" y="332"/>
                </a:lnTo>
                <a:lnTo>
                  <a:pt x="589" y="345"/>
                </a:lnTo>
                <a:lnTo>
                  <a:pt x="566" y="372"/>
                </a:lnTo>
                <a:lnTo>
                  <a:pt x="543" y="397"/>
                </a:lnTo>
                <a:lnTo>
                  <a:pt x="520" y="420"/>
                </a:lnTo>
                <a:lnTo>
                  <a:pt x="499" y="441"/>
                </a:lnTo>
                <a:lnTo>
                  <a:pt x="479" y="460"/>
                </a:lnTo>
                <a:lnTo>
                  <a:pt x="460" y="478"/>
                </a:lnTo>
                <a:lnTo>
                  <a:pt x="441" y="495"/>
                </a:lnTo>
                <a:lnTo>
                  <a:pt x="424" y="508"/>
                </a:lnTo>
                <a:lnTo>
                  <a:pt x="408" y="522"/>
                </a:lnTo>
                <a:lnTo>
                  <a:pt x="376" y="547"/>
                </a:lnTo>
                <a:lnTo>
                  <a:pt x="343" y="568"/>
                </a:lnTo>
                <a:lnTo>
                  <a:pt x="311" y="591"/>
                </a:lnTo>
                <a:lnTo>
                  <a:pt x="276" y="610"/>
                </a:lnTo>
                <a:lnTo>
                  <a:pt x="243" y="629"/>
                </a:lnTo>
                <a:lnTo>
                  <a:pt x="209" y="647"/>
                </a:lnTo>
                <a:lnTo>
                  <a:pt x="176" y="664"/>
                </a:lnTo>
                <a:lnTo>
                  <a:pt x="146" y="679"/>
                </a:lnTo>
                <a:lnTo>
                  <a:pt x="130" y="685"/>
                </a:lnTo>
                <a:lnTo>
                  <a:pt x="115" y="693"/>
                </a:lnTo>
                <a:lnTo>
                  <a:pt x="101" y="698"/>
                </a:lnTo>
                <a:lnTo>
                  <a:pt x="90" y="704"/>
                </a:lnTo>
                <a:lnTo>
                  <a:pt x="76" y="708"/>
                </a:lnTo>
                <a:lnTo>
                  <a:pt x="67" y="712"/>
                </a:lnTo>
                <a:lnTo>
                  <a:pt x="55" y="716"/>
                </a:lnTo>
                <a:lnTo>
                  <a:pt x="46" y="718"/>
                </a:lnTo>
                <a:lnTo>
                  <a:pt x="38" y="720"/>
                </a:lnTo>
                <a:lnTo>
                  <a:pt x="30" y="722"/>
                </a:lnTo>
                <a:lnTo>
                  <a:pt x="23" y="723"/>
                </a:lnTo>
                <a:lnTo>
                  <a:pt x="17" y="723"/>
                </a:lnTo>
                <a:lnTo>
                  <a:pt x="11" y="723"/>
                </a:lnTo>
                <a:lnTo>
                  <a:pt x="7" y="722"/>
                </a:lnTo>
                <a:lnTo>
                  <a:pt x="3" y="720"/>
                </a:lnTo>
                <a:lnTo>
                  <a:pt x="2" y="7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36"/>
          <p:cNvSpPr/>
          <p:nvPr/>
        </p:nvSpPr>
        <p:spPr>
          <a:xfrm>
            <a:off x="6305400" y="3730680"/>
            <a:ext cx="497160" cy="511200"/>
          </a:xfrm>
          <a:custGeom>
            <a:avLst/>
            <a:gdLst/>
            <a:ahLst/>
            <a:rect l="l" t="t" r="r" b="b"/>
            <a:pathLst>
              <a:path w="625" h="645">
                <a:moveTo>
                  <a:pt x="207" y="538"/>
                </a:moveTo>
                <a:lnTo>
                  <a:pt x="182" y="553"/>
                </a:lnTo>
                <a:lnTo>
                  <a:pt x="161" y="568"/>
                </a:lnTo>
                <a:lnTo>
                  <a:pt x="140" y="582"/>
                </a:lnTo>
                <a:lnTo>
                  <a:pt x="121" y="593"/>
                </a:lnTo>
                <a:lnTo>
                  <a:pt x="103" y="605"/>
                </a:lnTo>
                <a:lnTo>
                  <a:pt x="88" y="614"/>
                </a:lnTo>
                <a:lnTo>
                  <a:pt x="73" y="622"/>
                </a:lnTo>
                <a:lnTo>
                  <a:pt x="59" y="628"/>
                </a:lnTo>
                <a:lnTo>
                  <a:pt x="48" y="634"/>
                </a:lnTo>
                <a:lnTo>
                  <a:pt x="38" y="638"/>
                </a:lnTo>
                <a:lnTo>
                  <a:pt x="28" y="641"/>
                </a:lnTo>
                <a:lnTo>
                  <a:pt x="21" y="643"/>
                </a:lnTo>
                <a:lnTo>
                  <a:pt x="15" y="645"/>
                </a:lnTo>
                <a:lnTo>
                  <a:pt x="9" y="645"/>
                </a:lnTo>
                <a:lnTo>
                  <a:pt x="5" y="643"/>
                </a:lnTo>
                <a:lnTo>
                  <a:pt x="2" y="641"/>
                </a:lnTo>
                <a:lnTo>
                  <a:pt x="0" y="638"/>
                </a:lnTo>
                <a:lnTo>
                  <a:pt x="0" y="634"/>
                </a:lnTo>
                <a:lnTo>
                  <a:pt x="2" y="630"/>
                </a:lnTo>
                <a:lnTo>
                  <a:pt x="4" y="624"/>
                </a:lnTo>
                <a:lnTo>
                  <a:pt x="5" y="618"/>
                </a:lnTo>
                <a:lnTo>
                  <a:pt x="11" y="611"/>
                </a:lnTo>
                <a:lnTo>
                  <a:pt x="17" y="601"/>
                </a:lnTo>
                <a:lnTo>
                  <a:pt x="23" y="593"/>
                </a:lnTo>
                <a:lnTo>
                  <a:pt x="32" y="582"/>
                </a:lnTo>
                <a:lnTo>
                  <a:pt x="42" y="570"/>
                </a:lnTo>
                <a:lnTo>
                  <a:pt x="53" y="559"/>
                </a:lnTo>
                <a:lnTo>
                  <a:pt x="67" y="545"/>
                </a:lnTo>
                <a:lnTo>
                  <a:pt x="80" y="532"/>
                </a:lnTo>
                <a:lnTo>
                  <a:pt x="98" y="517"/>
                </a:lnTo>
                <a:lnTo>
                  <a:pt x="115" y="501"/>
                </a:lnTo>
                <a:lnTo>
                  <a:pt x="134" y="484"/>
                </a:lnTo>
                <a:lnTo>
                  <a:pt x="153" y="467"/>
                </a:lnTo>
                <a:lnTo>
                  <a:pt x="172" y="448"/>
                </a:lnTo>
                <a:lnTo>
                  <a:pt x="192" y="426"/>
                </a:lnTo>
                <a:lnTo>
                  <a:pt x="213" y="403"/>
                </a:lnTo>
                <a:lnTo>
                  <a:pt x="234" y="378"/>
                </a:lnTo>
                <a:lnTo>
                  <a:pt x="257" y="353"/>
                </a:lnTo>
                <a:lnTo>
                  <a:pt x="282" y="327"/>
                </a:lnTo>
                <a:lnTo>
                  <a:pt x="305" y="296"/>
                </a:lnTo>
                <a:lnTo>
                  <a:pt x="330" y="265"/>
                </a:lnTo>
                <a:lnTo>
                  <a:pt x="357" y="234"/>
                </a:lnTo>
                <a:lnTo>
                  <a:pt x="384" y="200"/>
                </a:lnTo>
                <a:lnTo>
                  <a:pt x="410" y="163"/>
                </a:lnTo>
                <a:lnTo>
                  <a:pt x="439" y="125"/>
                </a:lnTo>
                <a:lnTo>
                  <a:pt x="468" y="87"/>
                </a:lnTo>
                <a:lnTo>
                  <a:pt x="499" y="44"/>
                </a:lnTo>
                <a:lnTo>
                  <a:pt x="514" y="23"/>
                </a:lnTo>
                <a:lnTo>
                  <a:pt x="529" y="0"/>
                </a:lnTo>
                <a:lnTo>
                  <a:pt x="577" y="52"/>
                </a:lnTo>
                <a:lnTo>
                  <a:pt x="602" y="79"/>
                </a:lnTo>
                <a:lnTo>
                  <a:pt x="625" y="106"/>
                </a:lnTo>
                <a:lnTo>
                  <a:pt x="597" y="142"/>
                </a:lnTo>
                <a:lnTo>
                  <a:pt x="568" y="177"/>
                </a:lnTo>
                <a:lnTo>
                  <a:pt x="541" y="211"/>
                </a:lnTo>
                <a:lnTo>
                  <a:pt x="514" y="244"/>
                </a:lnTo>
                <a:lnTo>
                  <a:pt x="487" y="275"/>
                </a:lnTo>
                <a:lnTo>
                  <a:pt x="460" y="304"/>
                </a:lnTo>
                <a:lnTo>
                  <a:pt x="433" y="332"/>
                </a:lnTo>
                <a:lnTo>
                  <a:pt x="407" y="361"/>
                </a:lnTo>
                <a:lnTo>
                  <a:pt x="382" y="386"/>
                </a:lnTo>
                <a:lnTo>
                  <a:pt x="355" y="411"/>
                </a:lnTo>
                <a:lnTo>
                  <a:pt x="330" y="436"/>
                </a:lnTo>
                <a:lnTo>
                  <a:pt x="305" y="459"/>
                </a:lnTo>
                <a:lnTo>
                  <a:pt x="280" y="480"/>
                </a:lnTo>
                <a:lnTo>
                  <a:pt x="255" y="499"/>
                </a:lnTo>
                <a:lnTo>
                  <a:pt x="230" y="519"/>
                </a:lnTo>
                <a:lnTo>
                  <a:pt x="207" y="5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37"/>
          <p:cNvSpPr/>
          <p:nvPr/>
        </p:nvSpPr>
        <p:spPr>
          <a:xfrm>
            <a:off x="6621480" y="3606840"/>
            <a:ext cx="423720" cy="1133280"/>
          </a:xfrm>
          <a:custGeom>
            <a:avLst/>
            <a:gdLst/>
            <a:ahLst/>
            <a:rect l="l" t="t" r="r" b="b"/>
            <a:pathLst>
              <a:path w="534" h="1428">
                <a:moveTo>
                  <a:pt x="370" y="848"/>
                </a:moveTo>
                <a:lnTo>
                  <a:pt x="372" y="821"/>
                </a:lnTo>
                <a:lnTo>
                  <a:pt x="372" y="794"/>
                </a:lnTo>
                <a:lnTo>
                  <a:pt x="372" y="769"/>
                </a:lnTo>
                <a:lnTo>
                  <a:pt x="370" y="743"/>
                </a:lnTo>
                <a:lnTo>
                  <a:pt x="368" y="718"/>
                </a:lnTo>
                <a:lnTo>
                  <a:pt x="365" y="693"/>
                </a:lnTo>
                <a:lnTo>
                  <a:pt x="361" y="666"/>
                </a:lnTo>
                <a:lnTo>
                  <a:pt x="355" y="641"/>
                </a:lnTo>
                <a:lnTo>
                  <a:pt x="349" y="616"/>
                </a:lnTo>
                <a:lnTo>
                  <a:pt x="342" y="591"/>
                </a:lnTo>
                <a:lnTo>
                  <a:pt x="334" y="566"/>
                </a:lnTo>
                <a:lnTo>
                  <a:pt x="326" y="541"/>
                </a:lnTo>
                <a:lnTo>
                  <a:pt x="317" y="518"/>
                </a:lnTo>
                <a:lnTo>
                  <a:pt x="307" y="493"/>
                </a:lnTo>
                <a:lnTo>
                  <a:pt x="297" y="468"/>
                </a:lnTo>
                <a:lnTo>
                  <a:pt x="286" y="443"/>
                </a:lnTo>
                <a:lnTo>
                  <a:pt x="274" y="418"/>
                </a:lnTo>
                <a:lnTo>
                  <a:pt x="263" y="393"/>
                </a:lnTo>
                <a:lnTo>
                  <a:pt x="249" y="370"/>
                </a:lnTo>
                <a:lnTo>
                  <a:pt x="234" y="345"/>
                </a:lnTo>
                <a:lnTo>
                  <a:pt x="221" y="320"/>
                </a:lnTo>
                <a:lnTo>
                  <a:pt x="203" y="297"/>
                </a:lnTo>
                <a:lnTo>
                  <a:pt x="188" y="272"/>
                </a:lnTo>
                <a:lnTo>
                  <a:pt x="169" y="249"/>
                </a:lnTo>
                <a:lnTo>
                  <a:pt x="152" y="226"/>
                </a:lnTo>
                <a:lnTo>
                  <a:pt x="132" y="201"/>
                </a:lnTo>
                <a:lnTo>
                  <a:pt x="111" y="178"/>
                </a:lnTo>
                <a:lnTo>
                  <a:pt x="90" y="155"/>
                </a:lnTo>
                <a:lnTo>
                  <a:pt x="69" y="132"/>
                </a:lnTo>
                <a:lnTo>
                  <a:pt x="46" y="109"/>
                </a:lnTo>
                <a:lnTo>
                  <a:pt x="23" y="86"/>
                </a:lnTo>
                <a:lnTo>
                  <a:pt x="0" y="65"/>
                </a:lnTo>
                <a:lnTo>
                  <a:pt x="29" y="32"/>
                </a:lnTo>
                <a:lnTo>
                  <a:pt x="59" y="0"/>
                </a:lnTo>
                <a:lnTo>
                  <a:pt x="86" y="23"/>
                </a:lnTo>
                <a:lnTo>
                  <a:pt x="115" y="48"/>
                </a:lnTo>
                <a:lnTo>
                  <a:pt x="140" y="71"/>
                </a:lnTo>
                <a:lnTo>
                  <a:pt x="167" y="96"/>
                </a:lnTo>
                <a:lnTo>
                  <a:pt x="190" y="117"/>
                </a:lnTo>
                <a:lnTo>
                  <a:pt x="213" y="140"/>
                </a:lnTo>
                <a:lnTo>
                  <a:pt x="236" y="163"/>
                </a:lnTo>
                <a:lnTo>
                  <a:pt x="257" y="184"/>
                </a:lnTo>
                <a:lnTo>
                  <a:pt x="276" y="205"/>
                </a:lnTo>
                <a:lnTo>
                  <a:pt x="296" y="226"/>
                </a:lnTo>
                <a:lnTo>
                  <a:pt x="313" y="245"/>
                </a:lnTo>
                <a:lnTo>
                  <a:pt x="328" y="265"/>
                </a:lnTo>
                <a:lnTo>
                  <a:pt x="344" y="284"/>
                </a:lnTo>
                <a:lnTo>
                  <a:pt x="357" y="303"/>
                </a:lnTo>
                <a:lnTo>
                  <a:pt x="370" y="320"/>
                </a:lnTo>
                <a:lnTo>
                  <a:pt x="382" y="340"/>
                </a:lnTo>
                <a:lnTo>
                  <a:pt x="393" y="357"/>
                </a:lnTo>
                <a:lnTo>
                  <a:pt x="405" y="374"/>
                </a:lnTo>
                <a:lnTo>
                  <a:pt x="415" y="393"/>
                </a:lnTo>
                <a:lnTo>
                  <a:pt x="424" y="412"/>
                </a:lnTo>
                <a:lnTo>
                  <a:pt x="434" y="432"/>
                </a:lnTo>
                <a:lnTo>
                  <a:pt x="443" y="453"/>
                </a:lnTo>
                <a:lnTo>
                  <a:pt x="453" y="474"/>
                </a:lnTo>
                <a:lnTo>
                  <a:pt x="463" y="495"/>
                </a:lnTo>
                <a:lnTo>
                  <a:pt x="470" y="518"/>
                </a:lnTo>
                <a:lnTo>
                  <a:pt x="478" y="541"/>
                </a:lnTo>
                <a:lnTo>
                  <a:pt x="486" y="564"/>
                </a:lnTo>
                <a:lnTo>
                  <a:pt x="491" y="589"/>
                </a:lnTo>
                <a:lnTo>
                  <a:pt x="499" y="614"/>
                </a:lnTo>
                <a:lnTo>
                  <a:pt x="505" y="639"/>
                </a:lnTo>
                <a:lnTo>
                  <a:pt x="510" y="666"/>
                </a:lnTo>
                <a:lnTo>
                  <a:pt x="514" y="693"/>
                </a:lnTo>
                <a:lnTo>
                  <a:pt x="518" y="720"/>
                </a:lnTo>
                <a:lnTo>
                  <a:pt x="522" y="745"/>
                </a:lnTo>
                <a:lnTo>
                  <a:pt x="526" y="771"/>
                </a:lnTo>
                <a:lnTo>
                  <a:pt x="528" y="796"/>
                </a:lnTo>
                <a:lnTo>
                  <a:pt x="530" y="823"/>
                </a:lnTo>
                <a:lnTo>
                  <a:pt x="532" y="848"/>
                </a:lnTo>
                <a:lnTo>
                  <a:pt x="534" y="898"/>
                </a:lnTo>
                <a:lnTo>
                  <a:pt x="534" y="946"/>
                </a:lnTo>
                <a:lnTo>
                  <a:pt x="534" y="994"/>
                </a:lnTo>
                <a:lnTo>
                  <a:pt x="530" y="1038"/>
                </a:lnTo>
                <a:lnTo>
                  <a:pt x="526" y="1084"/>
                </a:lnTo>
                <a:lnTo>
                  <a:pt x="524" y="1107"/>
                </a:lnTo>
                <a:lnTo>
                  <a:pt x="520" y="1130"/>
                </a:lnTo>
                <a:lnTo>
                  <a:pt x="516" y="1153"/>
                </a:lnTo>
                <a:lnTo>
                  <a:pt x="512" y="1175"/>
                </a:lnTo>
                <a:lnTo>
                  <a:pt x="509" y="1196"/>
                </a:lnTo>
                <a:lnTo>
                  <a:pt x="503" y="1215"/>
                </a:lnTo>
                <a:lnTo>
                  <a:pt x="497" y="1232"/>
                </a:lnTo>
                <a:lnTo>
                  <a:pt x="489" y="1251"/>
                </a:lnTo>
                <a:lnTo>
                  <a:pt x="484" y="1267"/>
                </a:lnTo>
                <a:lnTo>
                  <a:pt x="476" y="1282"/>
                </a:lnTo>
                <a:lnTo>
                  <a:pt x="468" y="1297"/>
                </a:lnTo>
                <a:lnTo>
                  <a:pt x="459" y="1311"/>
                </a:lnTo>
                <a:lnTo>
                  <a:pt x="449" y="1324"/>
                </a:lnTo>
                <a:lnTo>
                  <a:pt x="439" y="1338"/>
                </a:lnTo>
                <a:lnTo>
                  <a:pt x="430" y="1347"/>
                </a:lnTo>
                <a:lnTo>
                  <a:pt x="418" y="1359"/>
                </a:lnTo>
                <a:lnTo>
                  <a:pt x="407" y="1368"/>
                </a:lnTo>
                <a:lnTo>
                  <a:pt x="397" y="1376"/>
                </a:lnTo>
                <a:lnTo>
                  <a:pt x="388" y="1386"/>
                </a:lnTo>
                <a:lnTo>
                  <a:pt x="378" y="1393"/>
                </a:lnTo>
                <a:lnTo>
                  <a:pt x="368" y="1399"/>
                </a:lnTo>
                <a:lnTo>
                  <a:pt x="361" y="1405"/>
                </a:lnTo>
                <a:lnTo>
                  <a:pt x="353" y="1411"/>
                </a:lnTo>
                <a:lnTo>
                  <a:pt x="347" y="1416"/>
                </a:lnTo>
                <a:lnTo>
                  <a:pt x="340" y="1420"/>
                </a:lnTo>
                <a:lnTo>
                  <a:pt x="334" y="1422"/>
                </a:lnTo>
                <a:lnTo>
                  <a:pt x="328" y="1426"/>
                </a:lnTo>
                <a:lnTo>
                  <a:pt x="324" y="1426"/>
                </a:lnTo>
                <a:lnTo>
                  <a:pt x="320" y="1428"/>
                </a:lnTo>
                <a:lnTo>
                  <a:pt x="317" y="1426"/>
                </a:lnTo>
                <a:lnTo>
                  <a:pt x="313" y="1426"/>
                </a:lnTo>
                <a:lnTo>
                  <a:pt x="311" y="1424"/>
                </a:lnTo>
                <a:lnTo>
                  <a:pt x="309" y="1424"/>
                </a:lnTo>
                <a:lnTo>
                  <a:pt x="305" y="1422"/>
                </a:lnTo>
                <a:lnTo>
                  <a:pt x="303" y="1420"/>
                </a:lnTo>
                <a:lnTo>
                  <a:pt x="301" y="1418"/>
                </a:lnTo>
                <a:lnTo>
                  <a:pt x="299" y="1416"/>
                </a:lnTo>
                <a:lnTo>
                  <a:pt x="297" y="1413"/>
                </a:lnTo>
                <a:lnTo>
                  <a:pt x="296" y="1409"/>
                </a:lnTo>
                <a:lnTo>
                  <a:pt x="294" y="1405"/>
                </a:lnTo>
                <a:lnTo>
                  <a:pt x="292" y="1399"/>
                </a:lnTo>
                <a:lnTo>
                  <a:pt x="292" y="1393"/>
                </a:lnTo>
                <a:lnTo>
                  <a:pt x="290" y="1388"/>
                </a:lnTo>
                <a:lnTo>
                  <a:pt x="288" y="1380"/>
                </a:lnTo>
                <a:lnTo>
                  <a:pt x="288" y="1372"/>
                </a:lnTo>
                <a:lnTo>
                  <a:pt x="288" y="1365"/>
                </a:lnTo>
                <a:lnTo>
                  <a:pt x="286" y="1355"/>
                </a:lnTo>
                <a:lnTo>
                  <a:pt x="286" y="1345"/>
                </a:lnTo>
                <a:lnTo>
                  <a:pt x="284" y="1338"/>
                </a:lnTo>
                <a:lnTo>
                  <a:pt x="282" y="1330"/>
                </a:lnTo>
                <a:lnTo>
                  <a:pt x="278" y="1320"/>
                </a:lnTo>
                <a:lnTo>
                  <a:pt x="274" y="1311"/>
                </a:lnTo>
                <a:lnTo>
                  <a:pt x="271" y="1301"/>
                </a:lnTo>
                <a:lnTo>
                  <a:pt x="267" y="1292"/>
                </a:lnTo>
                <a:lnTo>
                  <a:pt x="261" y="1282"/>
                </a:lnTo>
                <a:lnTo>
                  <a:pt x="257" y="1270"/>
                </a:lnTo>
                <a:lnTo>
                  <a:pt x="251" y="1259"/>
                </a:lnTo>
                <a:lnTo>
                  <a:pt x="244" y="1247"/>
                </a:lnTo>
                <a:lnTo>
                  <a:pt x="236" y="1236"/>
                </a:lnTo>
                <a:lnTo>
                  <a:pt x="228" y="1224"/>
                </a:lnTo>
                <a:lnTo>
                  <a:pt x="221" y="1213"/>
                </a:lnTo>
                <a:lnTo>
                  <a:pt x="211" y="1199"/>
                </a:lnTo>
                <a:lnTo>
                  <a:pt x="201" y="1188"/>
                </a:lnTo>
                <a:lnTo>
                  <a:pt x="190" y="1176"/>
                </a:lnTo>
                <a:lnTo>
                  <a:pt x="180" y="1163"/>
                </a:lnTo>
                <a:lnTo>
                  <a:pt x="171" y="1151"/>
                </a:lnTo>
                <a:lnTo>
                  <a:pt x="161" y="1140"/>
                </a:lnTo>
                <a:lnTo>
                  <a:pt x="153" y="1128"/>
                </a:lnTo>
                <a:lnTo>
                  <a:pt x="146" y="1119"/>
                </a:lnTo>
                <a:lnTo>
                  <a:pt x="138" y="1109"/>
                </a:lnTo>
                <a:lnTo>
                  <a:pt x="132" y="1100"/>
                </a:lnTo>
                <a:lnTo>
                  <a:pt x="129" y="1090"/>
                </a:lnTo>
                <a:lnTo>
                  <a:pt x="125" y="1082"/>
                </a:lnTo>
                <a:lnTo>
                  <a:pt x="121" y="1075"/>
                </a:lnTo>
                <a:lnTo>
                  <a:pt x="119" y="1067"/>
                </a:lnTo>
                <a:lnTo>
                  <a:pt x="117" y="1061"/>
                </a:lnTo>
                <a:lnTo>
                  <a:pt x="115" y="1055"/>
                </a:lnTo>
                <a:lnTo>
                  <a:pt x="115" y="1052"/>
                </a:lnTo>
                <a:lnTo>
                  <a:pt x="117" y="1048"/>
                </a:lnTo>
                <a:lnTo>
                  <a:pt x="119" y="1044"/>
                </a:lnTo>
                <a:lnTo>
                  <a:pt x="121" y="1042"/>
                </a:lnTo>
                <a:lnTo>
                  <a:pt x="125" y="1040"/>
                </a:lnTo>
                <a:lnTo>
                  <a:pt x="129" y="1040"/>
                </a:lnTo>
                <a:lnTo>
                  <a:pt x="132" y="1040"/>
                </a:lnTo>
                <a:lnTo>
                  <a:pt x="136" y="1040"/>
                </a:lnTo>
                <a:lnTo>
                  <a:pt x="142" y="1040"/>
                </a:lnTo>
                <a:lnTo>
                  <a:pt x="148" y="1042"/>
                </a:lnTo>
                <a:lnTo>
                  <a:pt x="155" y="1042"/>
                </a:lnTo>
                <a:lnTo>
                  <a:pt x="161" y="1044"/>
                </a:lnTo>
                <a:lnTo>
                  <a:pt x="169" y="1048"/>
                </a:lnTo>
                <a:lnTo>
                  <a:pt x="177" y="1050"/>
                </a:lnTo>
                <a:lnTo>
                  <a:pt x="186" y="1054"/>
                </a:lnTo>
                <a:lnTo>
                  <a:pt x="196" y="1057"/>
                </a:lnTo>
                <a:lnTo>
                  <a:pt x="205" y="1061"/>
                </a:lnTo>
                <a:lnTo>
                  <a:pt x="215" y="1065"/>
                </a:lnTo>
                <a:lnTo>
                  <a:pt x="226" y="1071"/>
                </a:lnTo>
                <a:lnTo>
                  <a:pt x="238" y="1079"/>
                </a:lnTo>
                <a:lnTo>
                  <a:pt x="248" y="1084"/>
                </a:lnTo>
                <a:lnTo>
                  <a:pt x="259" y="1090"/>
                </a:lnTo>
                <a:lnTo>
                  <a:pt x="269" y="1094"/>
                </a:lnTo>
                <a:lnTo>
                  <a:pt x="278" y="1098"/>
                </a:lnTo>
                <a:lnTo>
                  <a:pt x="288" y="1100"/>
                </a:lnTo>
                <a:lnTo>
                  <a:pt x="296" y="1102"/>
                </a:lnTo>
                <a:lnTo>
                  <a:pt x="305" y="1102"/>
                </a:lnTo>
                <a:lnTo>
                  <a:pt x="313" y="1102"/>
                </a:lnTo>
                <a:lnTo>
                  <a:pt x="319" y="1102"/>
                </a:lnTo>
                <a:lnTo>
                  <a:pt x="324" y="1100"/>
                </a:lnTo>
                <a:lnTo>
                  <a:pt x="330" y="1098"/>
                </a:lnTo>
                <a:lnTo>
                  <a:pt x="336" y="1096"/>
                </a:lnTo>
                <a:lnTo>
                  <a:pt x="340" y="1092"/>
                </a:lnTo>
                <a:lnTo>
                  <a:pt x="344" y="1088"/>
                </a:lnTo>
                <a:lnTo>
                  <a:pt x="347" y="1084"/>
                </a:lnTo>
                <a:lnTo>
                  <a:pt x="349" y="1080"/>
                </a:lnTo>
                <a:lnTo>
                  <a:pt x="351" y="1077"/>
                </a:lnTo>
                <a:lnTo>
                  <a:pt x="353" y="1069"/>
                </a:lnTo>
                <a:lnTo>
                  <a:pt x="355" y="1061"/>
                </a:lnTo>
                <a:lnTo>
                  <a:pt x="357" y="1052"/>
                </a:lnTo>
                <a:lnTo>
                  <a:pt x="359" y="1042"/>
                </a:lnTo>
                <a:lnTo>
                  <a:pt x="361" y="1029"/>
                </a:lnTo>
                <a:lnTo>
                  <a:pt x="363" y="1015"/>
                </a:lnTo>
                <a:lnTo>
                  <a:pt x="365" y="1000"/>
                </a:lnTo>
                <a:lnTo>
                  <a:pt x="367" y="983"/>
                </a:lnTo>
                <a:lnTo>
                  <a:pt x="367" y="963"/>
                </a:lnTo>
                <a:lnTo>
                  <a:pt x="368" y="944"/>
                </a:lnTo>
                <a:lnTo>
                  <a:pt x="368" y="923"/>
                </a:lnTo>
                <a:lnTo>
                  <a:pt x="370" y="900"/>
                </a:lnTo>
                <a:lnTo>
                  <a:pt x="370" y="875"/>
                </a:lnTo>
                <a:lnTo>
                  <a:pt x="370" y="8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138"/>
          <p:cNvSpPr/>
          <p:nvPr/>
        </p:nvSpPr>
        <p:spPr>
          <a:xfrm>
            <a:off x="6307200" y="3397320"/>
            <a:ext cx="541440" cy="450720"/>
          </a:xfrm>
          <a:custGeom>
            <a:avLst/>
            <a:gdLst/>
            <a:ahLst/>
            <a:rect l="l" t="t" r="r" b="b"/>
            <a:pathLst>
              <a:path w="683" h="568">
                <a:moveTo>
                  <a:pt x="205" y="393"/>
                </a:moveTo>
                <a:lnTo>
                  <a:pt x="234" y="374"/>
                </a:lnTo>
                <a:lnTo>
                  <a:pt x="261" y="357"/>
                </a:lnTo>
                <a:lnTo>
                  <a:pt x="289" y="336"/>
                </a:lnTo>
                <a:lnTo>
                  <a:pt x="316" y="317"/>
                </a:lnTo>
                <a:lnTo>
                  <a:pt x="343" y="295"/>
                </a:lnTo>
                <a:lnTo>
                  <a:pt x="370" y="272"/>
                </a:lnTo>
                <a:lnTo>
                  <a:pt x="397" y="249"/>
                </a:lnTo>
                <a:lnTo>
                  <a:pt x="424" y="226"/>
                </a:lnTo>
                <a:lnTo>
                  <a:pt x="449" y="201"/>
                </a:lnTo>
                <a:lnTo>
                  <a:pt x="474" y="174"/>
                </a:lnTo>
                <a:lnTo>
                  <a:pt x="501" y="148"/>
                </a:lnTo>
                <a:lnTo>
                  <a:pt x="526" y="121"/>
                </a:lnTo>
                <a:lnTo>
                  <a:pt x="550" y="92"/>
                </a:lnTo>
                <a:lnTo>
                  <a:pt x="574" y="63"/>
                </a:lnTo>
                <a:lnTo>
                  <a:pt x="598" y="32"/>
                </a:lnTo>
                <a:lnTo>
                  <a:pt x="623" y="0"/>
                </a:lnTo>
                <a:lnTo>
                  <a:pt x="629" y="21"/>
                </a:lnTo>
                <a:lnTo>
                  <a:pt x="637" y="42"/>
                </a:lnTo>
                <a:lnTo>
                  <a:pt x="643" y="61"/>
                </a:lnTo>
                <a:lnTo>
                  <a:pt x="648" y="79"/>
                </a:lnTo>
                <a:lnTo>
                  <a:pt x="652" y="96"/>
                </a:lnTo>
                <a:lnTo>
                  <a:pt x="658" y="111"/>
                </a:lnTo>
                <a:lnTo>
                  <a:pt x="662" y="125"/>
                </a:lnTo>
                <a:lnTo>
                  <a:pt x="668" y="138"/>
                </a:lnTo>
                <a:lnTo>
                  <a:pt x="671" y="150"/>
                </a:lnTo>
                <a:lnTo>
                  <a:pt x="673" y="159"/>
                </a:lnTo>
                <a:lnTo>
                  <a:pt x="677" y="169"/>
                </a:lnTo>
                <a:lnTo>
                  <a:pt x="679" y="176"/>
                </a:lnTo>
                <a:lnTo>
                  <a:pt x="681" y="184"/>
                </a:lnTo>
                <a:lnTo>
                  <a:pt x="683" y="190"/>
                </a:lnTo>
                <a:lnTo>
                  <a:pt x="683" y="194"/>
                </a:lnTo>
                <a:lnTo>
                  <a:pt x="683" y="198"/>
                </a:lnTo>
                <a:lnTo>
                  <a:pt x="681" y="201"/>
                </a:lnTo>
                <a:lnTo>
                  <a:pt x="677" y="207"/>
                </a:lnTo>
                <a:lnTo>
                  <a:pt x="673" y="213"/>
                </a:lnTo>
                <a:lnTo>
                  <a:pt x="668" y="219"/>
                </a:lnTo>
                <a:lnTo>
                  <a:pt x="662" y="224"/>
                </a:lnTo>
                <a:lnTo>
                  <a:pt x="654" y="232"/>
                </a:lnTo>
                <a:lnTo>
                  <a:pt x="646" y="240"/>
                </a:lnTo>
                <a:lnTo>
                  <a:pt x="639" y="247"/>
                </a:lnTo>
                <a:lnTo>
                  <a:pt x="629" y="255"/>
                </a:lnTo>
                <a:lnTo>
                  <a:pt x="620" y="263"/>
                </a:lnTo>
                <a:lnTo>
                  <a:pt x="608" y="272"/>
                </a:lnTo>
                <a:lnTo>
                  <a:pt x="595" y="282"/>
                </a:lnTo>
                <a:lnTo>
                  <a:pt x="583" y="294"/>
                </a:lnTo>
                <a:lnTo>
                  <a:pt x="570" y="303"/>
                </a:lnTo>
                <a:lnTo>
                  <a:pt x="554" y="315"/>
                </a:lnTo>
                <a:lnTo>
                  <a:pt x="539" y="328"/>
                </a:lnTo>
                <a:lnTo>
                  <a:pt x="502" y="351"/>
                </a:lnTo>
                <a:lnTo>
                  <a:pt x="466" y="374"/>
                </a:lnTo>
                <a:lnTo>
                  <a:pt x="426" y="395"/>
                </a:lnTo>
                <a:lnTo>
                  <a:pt x="385" y="416"/>
                </a:lnTo>
                <a:lnTo>
                  <a:pt x="343" y="437"/>
                </a:lnTo>
                <a:lnTo>
                  <a:pt x="299" y="457"/>
                </a:lnTo>
                <a:lnTo>
                  <a:pt x="276" y="468"/>
                </a:lnTo>
                <a:lnTo>
                  <a:pt x="253" y="478"/>
                </a:lnTo>
                <a:lnTo>
                  <a:pt x="228" y="487"/>
                </a:lnTo>
                <a:lnTo>
                  <a:pt x="205" y="497"/>
                </a:lnTo>
                <a:lnTo>
                  <a:pt x="180" y="508"/>
                </a:lnTo>
                <a:lnTo>
                  <a:pt x="159" y="520"/>
                </a:lnTo>
                <a:lnTo>
                  <a:pt x="138" y="530"/>
                </a:lnTo>
                <a:lnTo>
                  <a:pt x="119" y="537"/>
                </a:lnTo>
                <a:lnTo>
                  <a:pt x="101" y="545"/>
                </a:lnTo>
                <a:lnTo>
                  <a:pt x="84" y="551"/>
                </a:lnTo>
                <a:lnTo>
                  <a:pt x="71" y="556"/>
                </a:lnTo>
                <a:lnTo>
                  <a:pt x="57" y="560"/>
                </a:lnTo>
                <a:lnTo>
                  <a:pt x="46" y="562"/>
                </a:lnTo>
                <a:lnTo>
                  <a:pt x="36" y="566"/>
                </a:lnTo>
                <a:lnTo>
                  <a:pt x="26" y="566"/>
                </a:lnTo>
                <a:lnTo>
                  <a:pt x="19" y="568"/>
                </a:lnTo>
                <a:lnTo>
                  <a:pt x="13" y="566"/>
                </a:lnTo>
                <a:lnTo>
                  <a:pt x="7" y="566"/>
                </a:lnTo>
                <a:lnTo>
                  <a:pt x="3" y="564"/>
                </a:lnTo>
                <a:lnTo>
                  <a:pt x="0" y="562"/>
                </a:lnTo>
                <a:lnTo>
                  <a:pt x="0" y="560"/>
                </a:lnTo>
                <a:lnTo>
                  <a:pt x="0" y="558"/>
                </a:lnTo>
                <a:lnTo>
                  <a:pt x="0" y="556"/>
                </a:lnTo>
                <a:lnTo>
                  <a:pt x="0" y="555"/>
                </a:lnTo>
                <a:lnTo>
                  <a:pt x="2" y="553"/>
                </a:lnTo>
                <a:lnTo>
                  <a:pt x="2" y="551"/>
                </a:lnTo>
                <a:lnTo>
                  <a:pt x="3" y="547"/>
                </a:lnTo>
                <a:lnTo>
                  <a:pt x="7" y="543"/>
                </a:lnTo>
                <a:lnTo>
                  <a:pt x="13" y="535"/>
                </a:lnTo>
                <a:lnTo>
                  <a:pt x="21" y="528"/>
                </a:lnTo>
                <a:lnTo>
                  <a:pt x="32" y="518"/>
                </a:lnTo>
                <a:lnTo>
                  <a:pt x="44" y="507"/>
                </a:lnTo>
                <a:lnTo>
                  <a:pt x="57" y="495"/>
                </a:lnTo>
                <a:lnTo>
                  <a:pt x="74" y="484"/>
                </a:lnTo>
                <a:lnTo>
                  <a:pt x="92" y="470"/>
                </a:lnTo>
                <a:lnTo>
                  <a:pt x="111" y="457"/>
                </a:lnTo>
                <a:lnTo>
                  <a:pt x="132" y="441"/>
                </a:lnTo>
                <a:lnTo>
                  <a:pt x="153" y="426"/>
                </a:lnTo>
                <a:lnTo>
                  <a:pt x="178" y="409"/>
                </a:lnTo>
                <a:lnTo>
                  <a:pt x="205" y="3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39"/>
          <p:cNvSpPr/>
          <p:nvPr/>
        </p:nvSpPr>
        <p:spPr>
          <a:xfrm>
            <a:off x="6450120" y="3232080"/>
            <a:ext cx="865080" cy="282600"/>
          </a:xfrm>
          <a:custGeom>
            <a:avLst/>
            <a:gdLst/>
            <a:ahLst/>
            <a:rect l="l" t="t" r="r" b="b"/>
            <a:pathLst>
              <a:path w="1090" h="357">
                <a:moveTo>
                  <a:pt x="12" y="314"/>
                </a:moveTo>
                <a:lnTo>
                  <a:pt x="8" y="309"/>
                </a:lnTo>
                <a:lnTo>
                  <a:pt x="4" y="305"/>
                </a:lnTo>
                <a:lnTo>
                  <a:pt x="2" y="301"/>
                </a:lnTo>
                <a:lnTo>
                  <a:pt x="0" y="297"/>
                </a:lnTo>
                <a:lnTo>
                  <a:pt x="0" y="293"/>
                </a:lnTo>
                <a:lnTo>
                  <a:pt x="0" y="289"/>
                </a:lnTo>
                <a:lnTo>
                  <a:pt x="0" y="286"/>
                </a:lnTo>
                <a:lnTo>
                  <a:pt x="2" y="284"/>
                </a:lnTo>
                <a:lnTo>
                  <a:pt x="4" y="280"/>
                </a:lnTo>
                <a:lnTo>
                  <a:pt x="6" y="278"/>
                </a:lnTo>
                <a:lnTo>
                  <a:pt x="10" y="274"/>
                </a:lnTo>
                <a:lnTo>
                  <a:pt x="13" y="272"/>
                </a:lnTo>
                <a:lnTo>
                  <a:pt x="19" y="268"/>
                </a:lnTo>
                <a:lnTo>
                  <a:pt x="23" y="266"/>
                </a:lnTo>
                <a:lnTo>
                  <a:pt x="29" y="264"/>
                </a:lnTo>
                <a:lnTo>
                  <a:pt x="36" y="263"/>
                </a:lnTo>
                <a:lnTo>
                  <a:pt x="40" y="261"/>
                </a:lnTo>
                <a:lnTo>
                  <a:pt x="44" y="259"/>
                </a:lnTo>
                <a:lnTo>
                  <a:pt x="50" y="257"/>
                </a:lnTo>
                <a:lnTo>
                  <a:pt x="56" y="255"/>
                </a:lnTo>
                <a:lnTo>
                  <a:pt x="61" y="253"/>
                </a:lnTo>
                <a:lnTo>
                  <a:pt x="69" y="251"/>
                </a:lnTo>
                <a:lnTo>
                  <a:pt x="77" y="249"/>
                </a:lnTo>
                <a:lnTo>
                  <a:pt x="84" y="247"/>
                </a:lnTo>
                <a:lnTo>
                  <a:pt x="94" y="243"/>
                </a:lnTo>
                <a:lnTo>
                  <a:pt x="104" y="241"/>
                </a:lnTo>
                <a:lnTo>
                  <a:pt x="115" y="238"/>
                </a:lnTo>
                <a:lnTo>
                  <a:pt x="127" y="236"/>
                </a:lnTo>
                <a:lnTo>
                  <a:pt x="138" y="232"/>
                </a:lnTo>
                <a:lnTo>
                  <a:pt x="150" y="228"/>
                </a:lnTo>
                <a:lnTo>
                  <a:pt x="163" y="224"/>
                </a:lnTo>
                <a:lnTo>
                  <a:pt x="177" y="220"/>
                </a:lnTo>
                <a:lnTo>
                  <a:pt x="192" y="215"/>
                </a:lnTo>
                <a:lnTo>
                  <a:pt x="207" y="211"/>
                </a:lnTo>
                <a:lnTo>
                  <a:pt x="223" y="205"/>
                </a:lnTo>
                <a:lnTo>
                  <a:pt x="238" y="201"/>
                </a:lnTo>
                <a:lnTo>
                  <a:pt x="255" y="195"/>
                </a:lnTo>
                <a:lnTo>
                  <a:pt x="273" y="190"/>
                </a:lnTo>
                <a:lnTo>
                  <a:pt x="290" y="184"/>
                </a:lnTo>
                <a:lnTo>
                  <a:pt x="309" y="178"/>
                </a:lnTo>
                <a:lnTo>
                  <a:pt x="328" y="170"/>
                </a:lnTo>
                <a:lnTo>
                  <a:pt x="349" y="165"/>
                </a:lnTo>
                <a:lnTo>
                  <a:pt x="369" y="157"/>
                </a:lnTo>
                <a:lnTo>
                  <a:pt x="390" y="149"/>
                </a:lnTo>
                <a:lnTo>
                  <a:pt x="411" y="142"/>
                </a:lnTo>
                <a:lnTo>
                  <a:pt x="434" y="134"/>
                </a:lnTo>
                <a:lnTo>
                  <a:pt x="457" y="126"/>
                </a:lnTo>
                <a:lnTo>
                  <a:pt x="480" y="119"/>
                </a:lnTo>
                <a:lnTo>
                  <a:pt x="503" y="111"/>
                </a:lnTo>
                <a:lnTo>
                  <a:pt x="526" y="103"/>
                </a:lnTo>
                <a:lnTo>
                  <a:pt x="547" y="96"/>
                </a:lnTo>
                <a:lnTo>
                  <a:pt x="570" y="90"/>
                </a:lnTo>
                <a:lnTo>
                  <a:pt x="591" y="84"/>
                </a:lnTo>
                <a:lnTo>
                  <a:pt x="612" y="76"/>
                </a:lnTo>
                <a:lnTo>
                  <a:pt x="632" y="71"/>
                </a:lnTo>
                <a:lnTo>
                  <a:pt x="653" y="65"/>
                </a:lnTo>
                <a:lnTo>
                  <a:pt x="672" y="61"/>
                </a:lnTo>
                <a:lnTo>
                  <a:pt x="691" y="55"/>
                </a:lnTo>
                <a:lnTo>
                  <a:pt x="708" y="50"/>
                </a:lnTo>
                <a:lnTo>
                  <a:pt x="726" y="46"/>
                </a:lnTo>
                <a:lnTo>
                  <a:pt x="743" y="42"/>
                </a:lnTo>
                <a:lnTo>
                  <a:pt x="760" y="36"/>
                </a:lnTo>
                <a:lnTo>
                  <a:pt x="775" y="32"/>
                </a:lnTo>
                <a:lnTo>
                  <a:pt x="791" y="28"/>
                </a:lnTo>
                <a:lnTo>
                  <a:pt x="806" y="25"/>
                </a:lnTo>
                <a:lnTo>
                  <a:pt x="820" y="23"/>
                </a:lnTo>
                <a:lnTo>
                  <a:pt x="835" y="19"/>
                </a:lnTo>
                <a:lnTo>
                  <a:pt x="847" y="17"/>
                </a:lnTo>
                <a:lnTo>
                  <a:pt x="860" y="13"/>
                </a:lnTo>
                <a:lnTo>
                  <a:pt x="871" y="11"/>
                </a:lnTo>
                <a:lnTo>
                  <a:pt x="883" y="9"/>
                </a:lnTo>
                <a:lnTo>
                  <a:pt x="894" y="7"/>
                </a:lnTo>
                <a:lnTo>
                  <a:pt x="904" y="5"/>
                </a:lnTo>
                <a:lnTo>
                  <a:pt x="914" y="3"/>
                </a:lnTo>
                <a:lnTo>
                  <a:pt x="923" y="3"/>
                </a:lnTo>
                <a:lnTo>
                  <a:pt x="931" y="2"/>
                </a:lnTo>
                <a:lnTo>
                  <a:pt x="939" y="2"/>
                </a:lnTo>
                <a:lnTo>
                  <a:pt x="946" y="2"/>
                </a:lnTo>
                <a:lnTo>
                  <a:pt x="952" y="0"/>
                </a:lnTo>
                <a:lnTo>
                  <a:pt x="960" y="0"/>
                </a:lnTo>
                <a:lnTo>
                  <a:pt x="981" y="0"/>
                </a:lnTo>
                <a:lnTo>
                  <a:pt x="1002" y="0"/>
                </a:lnTo>
                <a:lnTo>
                  <a:pt x="1012" y="0"/>
                </a:lnTo>
                <a:lnTo>
                  <a:pt x="1019" y="2"/>
                </a:lnTo>
                <a:lnTo>
                  <a:pt x="1029" y="2"/>
                </a:lnTo>
                <a:lnTo>
                  <a:pt x="1037" y="2"/>
                </a:lnTo>
                <a:lnTo>
                  <a:pt x="1044" y="2"/>
                </a:lnTo>
                <a:lnTo>
                  <a:pt x="1052" y="3"/>
                </a:lnTo>
                <a:lnTo>
                  <a:pt x="1058" y="3"/>
                </a:lnTo>
                <a:lnTo>
                  <a:pt x="1063" y="5"/>
                </a:lnTo>
                <a:lnTo>
                  <a:pt x="1069" y="7"/>
                </a:lnTo>
                <a:lnTo>
                  <a:pt x="1073" y="9"/>
                </a:lnTo>
                <a:lnTo>
                  <a:pt x="1077" y="11"/>
                </a:lnTo>
                <a:lnTo>
                  <a:pt x="1079" y="13"/>
                </a:lnTo>
                <a:lnTo>
                  <a:pt x="1083" y="19"/>
                </a:lnTo>
                <a:lnTo>
                  <a:pt x="1086" y="25"/>
                </a:lnTo>
                <a:lnTo>
                  <a:pt x="1088" y="32"/>
                </a:lnTo>
                <a:lnTo>
                  <a:pt x="1088" y="40"/>
                </a:lnTo>
                <a:lnTo>
                  <a:pt x="1090" y="48"/>
                </a:lnTo>
                <a:lnTo>
                  <a:pt x="1090" y="53"/>
                </a:lnTo>
                <a:lnTo>
                  <a:pt x="1090" y="59"/>
                </a:lnTo>
                <a:lnTo>
                  <a:pt x="1090" y="65"/>
                </a:lnTo>
                <a:lnTo>
                  <a:pt x="1088" y="69"/>
                </a:lnTo>
                <a:lnTo>
                  <a:pt x="1086" y="71"/>
                </a:lnTo>
                <a:lnTo>
                  <a:pt x="1085" y="73"/>
                </a:lnTo>
                <a:lnTo>
                  <a:pt x="1079" y="76"/>
                </a:lnTo>
                <a:lnTo>
                  <a:pt x="1075" y="80"/>
                </a:lnTo>
                <a:lnTo>
                  <a:pt x="1069" y="82"/>
                </a:lnTo>
                <a:lnTo>
                  <a:pt x="1061" y="86"/>
                </a:lnTo>
                <a:lnTo>
                  <a:pt x="1054" y="90"/>
                </a:lnTo>
                <a:lnTo>
                  <a:pt x="1046" y="94"/>
                </a:lnTo>
                <a:lnTo>
                  <a:pt x="1037" y="97"/>
                </a:lnTo>
                <a:lnTo>
                  <a:pt x="1027" y="101"/>
                </a:lnTo>
                <a:lnTo>
                  <a:pt x="1015" y="107"/>
                </a:lnTo>
                <a:lnTo>
                  <a:pt x="1004" y="111"/>
                </a:lnTo>
                <a:lnTo>
                  <a:pt x="992" y="115"/>
                </a:lnTo>
                <a:lnTo>
                  <a:pt x="977" y="121"/>
                </a:lnTo>
                <a:lnTo>
                  <a:pt x="964" y="126"/>
                </a:lnTo>
                <a:lnTo>
                  <a:pt x="948" y="130"/>
                </a:lnTo>
                <a:lnTo>
                  <a:pt x="931" y="136"/>
                </a:lnTo>
                <a:lnTo>
                  <a:pt x="916" y="142"/>
                </a:lnTo>
                <a:lnTo>
                  <a:pt x="896" y="147"/>
                </a:lnTo>
                <a:lnTo>
                  <a:pt x="877" y="153"/>
                </a:lnTo>
                <a:lnTo>
                  <a:pt x="858" y="161"/>
                </a:lnTo>
                <a:lnTo>
                  <a:pt x="837" y="167"/>
                </a:lnTo>
                <a:lnTo>
                  <a:pt x="816" y="174"/>
                </a:lnTo>
                <a:lnTo>
                  <a:pt x="793" y="180"/>
                </a:lnTo>
                <a:lnTo>
                  <a:pt x="770" y="188"/>
                </a:lnTo>
                <a:lnTo>
                  <a:pt x="747" y="195"/>
                </a:lnTo>
                <a:lnTo>
                  <a:pt x="722" y="203"/>
                </a:lnTo>
                <a:lnTo>
                  <a:pt x="695" y="211"/>
                </a:lnTo>
                <a:lnTo>
                  <a:pt x="668" y="218"/>
                </a:lnTo>
                <a:lnTo>
                  <a:pt x="639" y="228"/>
                </a:lnTo>
                <a:lnTo>
                  <a:pt x="612" y="236"/>
                </a:lnTo>
                <a:lnTo>
                  <a:pt x="584" y="243"/>
                </a:lnTo>
                <a:lnTo>
                  <a:pt x="555" y="253"/>
                </a:lnTo>
                <a:lnTo>
                  <a:pt x="528" y="261"/>
                </a:lnTo>
                <a:lnTo>
                  <a:pt x="501" y="268"/>
                </a:lnTo>
                <a:lnTo>
                  <a:pt x="476" y="276"/>
                </a:lnTo>
                <a:lnTo>
                  <a:pt x="451" y="282"/>
                </a:lnTo>
                <a:lnTo>
                  <a:pt x="428" y="289"/>
                </a:lnTo>
                <a:lnTo>
                  <a:pt x="405" y="295"/>
                </a:lnTo>
                <a:lnTo>
                  <a:pt x="382" y="301"/>
                </a:lnTo>
                <a:lnTo>
                  <a:pt x="361" y="307"/>
                </a:lnTo>
                <a:lnTo>
                  <a:pt x="340" y="312"/>
                </a:lnTo>
                <a:lnTo>
                  <a:pt x="321" y="316"/>
                </a:lnTo>
                <a:lnTo>
                  <a:pt x="301" y="322"/>
                </a:lnTo>
                <a:lnTo>
                  <a:pt x="284" y="326"/>
                </a:lnTo>
                <a:lnTo>
                  <a:pt x="267" y="330"/>
                </a:lnTo>
                <a:lnTo>
                  <a:pt x="250" y="334"/>
                </a:lnTo>
                <a:lnTo>
                  <a:pt x="234" y="337"/>
                </a:lnTo>
                <a:lnTo>
                  <a:pt x="221" y="341"/>
                </a:lnTo>
                <a:lnTo>
                  <a:pt x="205" y="343"/>
                </a:lnTo>
                <a:lnTo>
                  <a:pt x="192" y="347"/>
                </a:lnTo>
                <a:lnTo>
                  <a:pt x="180" y="349"/>
                </a:lnTo>
                <a:lnTo>
                  <a:pt x="169" y="351"/>
                </a:lnTo>
                <a:lnTo>
                  <a:pt x="157" y="353"/>
                </a:lnTo>
                <a:lnTo>
                  <a:pt x="148" y="353"/>
                </a:lnTo>
                <a:lnTo>
                  <a:pt x="138" y="355"/>
                </a:lnTo>
                <a:lnTo>
                  <a:pt x="131" y="355"/>
                </a:lnTo>
                <a:lnTo>
                  <a:pt x="123" y="357"/>
                </a:lnTo>
                <a:lnTo>
                  <a:pt x="115" y="357"/>
                </a:lnTo>
                <a:lnTo>
                  <a:pt x="109" y="355"/>
                </a:lnTo>
                <a:lnTo>
                  <a:pt x="104" y="355"/>
                </a:lnTo>
                <a:lnTo>
                  <a:pt x="100" y="355"/>
                </a:lnTo>
                <a:lnTo>
                  <a:pt x="96" y="353"/>
                </a:lnTo>
                <a:lnTo>
                  <a:pt x="83" y="349"/>
                </a:lnTo>
                <a:lnTo>
                  <a:pt x="71" y="343"/>
                </a:lnTo>
                <a:lnTo>
                  <a:pt x="60" y="339"/>
                </a:lnTo>
                <a:lnTo>
                  <a:pt x="50" y="334"/>
                </a:lnTo>
                <a:lnTo>
                  <a:pt x="40" y="328"/>
                </a:lnTo>
                <a:lnTo>
                  <a:pt x="31" y="324"/>
                </a:lnTo>
                <a:lnTo>
                  <a:pt x="12" y="3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40"/>
          <p:cNvSpPr/>
          <p:nvPr/>
        </p:nvSpPr>
        <p:spPr>
          <a:xfrm>
            <a:off x="6961320" y="2782800"/>
            <a:ext cx="412560" cy="389160"/>
          </a:xfrm>
          <a:custGeom>
            <a:avLst/>
            <a:gdLst/>
            <a:ahLst/>
            <a:rect l="l" t="t" r="r" b="b"/>
            <a:pathLst>
              <a:path w="518" h="492">
                <a:moveTo>
                  <a:pt x="2" y="490"/>
                </a:moveTo>
                <a:lnTo>
                  <a:pt x="0" y="486"/>
                </a:lnTo>
                <a:lnTo>
                  <a:pt x="0" y="482"/>
                </a:lnTo>
                <a:lnTo>
                  <a:pt x="0" y="478"/>
                </a:lnTo>
                <a:lnTo>
                  <a:pt x="2" y="473"/>
                </a:lnTo>
                <a:lnTo>
                  <a:pt x="6" y="465"/>
                </a:lnTo>
                <a:lnTo>
                  <a:pt x="10" y="459"/>
                </a:lnTo>
                <a:lnTo>
                  <a:pt x="15" y="450"/>
                </a:lnTo>
                <a:lnTo>
                  <a:pt x="21" y="442"/>
                </a:lnTo>
                <a:lnTo>
                  <a:pt x="29" y="432"/>
                </a:lnTo>
                <a:lnTo>
                  <a:pt x="36" y="423"/>
                </a:lnTo>
                <a:lnTo>
                  <a:pt x="46" y="411"/>
                </a:lnTo>
                <a:lnTo>
                  <a:pt x="58" y="400"/>
                </a:lnTo>
                <a:lnTo>
                  <a:pt x="69" y="386"/>
                </a:lnTo>
                <a:lnTo>
                  <a:pt x="81" y="373"/>
                </a:lnTo>
                <a:lnTo>
                  <a:pt x="96" y="359"/>
                </a:lnTo>
                <a:lnTo>
                  <a:pt x="111" y="346"/>
                </a:lnTo>
                <a:lnTo>
                  <a:pt x="123" y="332"/>
                </a:lnTo>
                <a:lnTo>
                  <a:pt x="136" y="321"/>
                </a:lnTo>
                <a:lnTo>
                  <a:pt x="148" y="307"/>
                </a:lnTo>
                <a:lnTo>
                  <a:pt x="159" y="296"/>
                </a:lnTo>
                <a:lnTo>
                  <a:pt x="182" y="271"/>
                </a:lnTo>
                <a:lnTo>
                  <a:pt x="202" y="248"/>
                </a:lnTo>
                <a:lnTo>
                  <a:pt x="221" y="225"/>
                </a:lnTo>
                <a:lnTo>
                  <a:pt x="236" y="204"/>
                </a:lnTo>
                <a:lnTo>
                  <a:pt x="251" y="183"/>
                </a:lnTo>
                <a:lnTo>
                  <a:pt x="267" y="162"/>
                </a:lnTo>
                <a:lnTo>
                  <a:pt x="273" y="154"/>
                </a:lnTo>
                <a:lnTo>
                  <a:pt x="278" y="148"/>
                </a:lnTo>
                <a:lnTo>
                  <a:pt x="282" y="140"/>
                </a:lnTo>
                <a:lnTo>
                  <a:pt x="286" y="133"/>
                </a:lnTo>
                <a:lnTo>
                  <a:pt x="290" y="125"/>
                </a:lnTo>
                <a:lnTo>
                  <a:pt x="292" y="117"/>
                </a:lnTo>
                <a:lnTo>
                  <a:pt x="294" y="112"/>
                </a:lnTo>
                <a:lnTo>
                  <a:pt x="296" y="104"/>
                </a:lnTo>
                <a:lnTo>
                  <a:pt x="297" y="98"/>
                </a:lnTo>
                <a:lnTo>
                  <a:pt x="297" y="91"/>
                </a:lnTo>
                <a:lnTo>
                  <a:pt x="297" y="85"/>
                </a:lnTo>
                <a:lnTo>
                  <a:pt x="296" y="79"/>
                </a:lnTo>
                <a:lnTo>
                  <a:pt x="294" y="68"/>
                </a:lnTo>
                <a:lnTo>
                  <a:pt x="290" y="58"/>
                </a:lnTo>
                <a:lnTo>
                  <a:pt x="286" y="48"/>
                </a:lnTo>
                <a:lnTo>
                  <a:pt x="284" y="41"/>
                </a:lnTo>
                <a:lnTo>
                  <a:pt x="282" y="33"/>
                </a:lnTo>
                <a:lnTo>
                  <a:pt x="282" y="27"/>
                </a:lnTo>
                <a:lnTo>
                  <a:pt x="282" y="20"/>
                </a:lnTo>
                <a:lnTo>
                  <a:pt x="284" y="16"/>
                </a:lnTo>
                <a:lnTo>
                  <a:pt x="286" y="10"/>
                </a:lnTo>
                <a:lnTo>
                  <a:pt x="290" y="6"/>
                </a:lnTo>
                <a:lnTo>
                  <a:pt x="292" y="2"/>
                </a:lnTo>
                <a:lnTo>
                  <a:pt x="296" y="2"/>
                </a:lnTo>
                <a:lnTo>
                  <a:pt x="299" y="0"/>
                </a:lnTo>
                <a:lnTo>
                  <a:pt x="305" y="0"/>
                </a:lnTo>
                <a:lnTo>
                  <a:pt x="311" y="0"/>
                </a:lnTo>
                <a:lnTo>
                  <a:pt x="317" y="0"/>
                </a:lnTo>
                <a:lnTo>
                  <a:pt x="324" y="2"/>
                </a:lnTo>
                <a:lnTo>
                  <a:pt x="332" y="4"/>
                </a:lnTo>
                <a:lnTo>
                  <a:pt x="340" y="8"/>
                </a:lnTo>
                <a:lnTo>
                  <a:pt x="349" y="10"/>
                </a:lnTo>
                <a:lnTo>
                  <a:pt x="359" y="14"/>
                </a:lnTo>
                <a:lnTo>
                  <a:pt x="368" y="20"/>
                </a:lnTo>
                <a:lnTo>
                  <a:pt x="378" y="25"/>
                </a:lnTo>
                <a:lnTo>
                  <a:pt x="388" y="31"/>
                </a:lnTo>
                <a:lnTo>
                  <a:pt x="399" y="37"/>
                </a:lnTo>
                <a:lnTo>
                  <a:pt x="411" y="45"/>
                </a:lnTo>
                <a:lnTo>
                  <a:pt x="420" y="52"/>
                </a:lnTo>
                <a:lnTo>
                  <a:pt x="432" y="60"/>
                </a:lnTo>
                <a:lnTo>
                  <a:pt x="441" y="66"/>
                </a:lnTo>
                <a:lnTo>
                  <a:pt x="451" y="73"/>
                </a:lnTo>
                <a:lnTo>
                  <a:pt x="459" y="81"/>
                </a:lnTo>
                <a:lnTo>
                  <a:pt x="466" y="89"/>
                </a:lnTo>
                <a:lnTo>
                  <a:pt x="474" y="94"/>
                </a:lnTo>
                <a:lnTo>
                  <a:pt x="482" y="102"/>
                </a:lnTo>
                <a:lnTo>
                  <a:pt x="488" y="108"/>
                </a:lnTo>
                <a:lnTo>
                  <a:pt x="495" y="116"/>
                </a:lnTo>
                <a:lnTo>
                  <a:pt x="499" y="121"/>
                </a:lnTo>
                <a:lnTo>
                  <a:pt x="505" y="127"/>
                </a:lnTo>
                <a:lnTo>
                  <a:pt x="509" y="133"/>
                </a:lnTo>
                <a:lnTo>
                  <a:pt x="512" y="139"/>
                </a:lnTo>
                <a:lnTo>
                  <a:pt x="514" y="144"/>
                </a:lnTo>
                <a:lnTo>
                  <a:pt x="518" y="148"/>
                </a:lnTo>
                <a:lnTo>
                  <a:pt x="518" y="154"/>
                </a:lnTo>
                <a:lnTo>
                  <a:pt x="516" y="160"/>
                </a:lnTo>
                <a:lnTo>
                  <a:pt x="514" y="165"/>
                </a:lnTo>
                <a:lnTo>
                  <a:pt x="511" y="171"/>
                </a:lnTo>
                <a:lnTo>
                  <a:pt x="507" y="177"/>
                </a:lnTo>
                <a:lnTo>
                  <a:pt x="503" y="183"/>
                </a:lnTo>
                <a:lnTo>
                  <a:pt x="497" y="188"/>
                </a:lnTo>
                <a:lnTo>
                  <a:pt x="491" y="196"/>
                </a:lnTo>
                <a:lnTo>
                  <a:pt x="486" y="202"/>
                </a:lnTo>
                <a:lnTo>
                  <a:pt x="478" y="210"/>
                </a:lnTo>
                <a:lnTo>
                  <a:pt x="470" y="217"/>
                </a:lnTo>
                <a:lnTo>
                  <a:pt x="463" y="223"/>
                </a:lnTo>
                <a:lnTo>
                  <a:pt x="453" y="231"/>
                </a:lnTo>
                <a:lnTo>
                  <a:pt x="443" y="238"/>
                </a:lnTo>
                <a:lnTo>
                  <a:pt x="432" y="246"/>
                </a:lnTo>
                <a:lnTo>
                  <a:pt x="422" y="254"/>
                </a:lnTo>
                <a:lnTo>
                  <a:pt x="393" y="269"/>
                </a:lnTo>
                <a:lnTo>
                  <a:pt x="367" y="284"/>
                </a:lnTo>
                <a:lnTo>
                  <a:pt x="336" y="304"/>
                </a:lnTo>
                <a:lnTo>
                  <a:pt x="305" y="321"/>
                </a:lnTo>
                <a:lnTo>
                  <a:pt x="273" y="342"/>
                </a:lnTo>
                <a:lnTo>
                  <a:pt x="240" y="363"/>
                </a:lnTo>
                <a:lnTo>
                  <a:pt x="205" y="386"/>
                </a:lnTo>
                <a:lnTo>
                  <a:pt x="171" y="411"/>
                </a:lnTo>
                <a:lnTo>
                  <a:pt x="154" y="423"/>
                </a:lnTo>
                <a:lnTo>
                  <a:pt x="136" y="432"/>
                </a:lnTo>
                <a:lnTo>
                  <a:pt x="121" y="444"/>
                </a:lnTo>
                <a:lnTo>
                  <a:pt x="106" y="451"/>
                </a:lnTo>
                <a:lnTo>
                  <a:pt x="92" y="461"/>
                </a:lnTo>
                <a:lnTo>
                  <a:pt x="79" y="467"/>
                </a:lnTo>
                <a:lnTo>
                  <a:pt x="67" y="474"/>
                </a:lnTo>
                <a:lnTo>
                  <a:pt x="56" y="478"/>
                </a:lnTo>
                <a:lnTo>
                  <a:pt x="44" y="484"/>
                </a:lnTo>
                <a:lnTo>
                  <a:pt x="36" y="488"/>
                </a:lnTo>
                <a:lnTo>
                  <a:pt x="27" y="490"/>
                </a:lnTo>
                <a:lnTo>
                  <a:pt x="21" y="492"/>
                </a:lnTo>
                <a:lnTo>
                  <a:pt x="13" y="492"/>
                </a:lnTo>
                <a:lnTo>
                  <a:pt x="10" y="492"/>
                </a:lnTo>
                <a:lnTo>
                  <a:pt x="6" y="492"/>
                </a:lnTo>
                <a:lnTo>
                  <a:pt x="2" y="4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41"/>
          <p:cNvSpPr/>
          <p:nvPr/>
        </p:nvSpPr>
        <p:spPr>
          <a:xfrm>
            <a:off x="6553080" y="2921040"/>
            <a:ext cx="255600" cy="301680"/>
          </a:xfrm>
          <a:custGeom>
            <a:avLst/>
            <a:gdLst/>
            <a:ahLst/>
            <a:rect l="l" t="t" r="r" b="b"/>
            <a:pathLst>
              <a:path w="320" h="380">
                <a:moveTo>
                  <a:pt x="49" y="0"/>
                </a:moveTo>
                <a:lnTo>
                  <a:pt x="63" y="0"/>
                </a:lnTo>
                <a:lnTo>
                  <a:pt x="76" y="2"/>
                </a:lnTo>
                <a:lnTo>
                  <a:pt x="92" y="6"/>
                </a:lnTo>
                <a:lnTo>
                  <a:pt x="105" y="12"/>
                </a:lnTo>
                <a:lnTo>
                  <a:pt x="115" y="15"/>
                </a:lnTo>
                <a:lnTo>
                  <a:pt x="122" y="19"/>
                </a:lnTo>
                <a:lnTo>
                  <a:pt x="130" y="23"/>
                </a:lnTo>
                <a:lnTo>
                  <a:pt x="140" y="27"/>
                </a:lnTo>
                <a:lnTo>
                  <a:pt x="149" y="33"/>
                </a:lnTo>
                <a:lnTo>
                  <a:pt x="159" y="38"/>
                </a:lnTo>
                <a:lnTo>
                  <a:pt x="170" y="46"/>
                </a:lnTo>
                <a:lnTo>
                  <a:pt x="180" y="52"/>
                </a:lnTo>
                <a:lnTo>
                  <a:pt x="191" y="60"/>
                </a:lnTo>
                <a:lnTo>
                  <a:pt x="201" y="67"/>
                </a:lnTo>
                <a:lnTo>
                  <a:pt x="213" y="75"/>
                </a:lnTo>
                <a:lnTo>
                  <a:pt x="220" y="83"/>
                </a:lnTo>
                <a:lnTo>
                  <a:pt x="230" y="90"/>
                </a:lnTo>
                <a:lnTo>
                  <a:pt x="239" y="96"/>
                </a:lnTo>
                <a:lnTo>
                  <a:pt x="255" y="111"/>
                </a:lnTo>
                <a:lnTo>
                  <a:pt x="268" y="127"/>
                </a:lnTo>
                <a:lnTo>
                  <a:pt x="280" y="140"/>
                </a:lnTo>
                <a:lnTo>
                  <a:pt x="291" y="156"/>
                </a:lnTo>
                <a:lnTo>
                  <a:pt x="301" y="171"/>
                </a:lnTo>
                <a:lnTo>
                  <a:pt x="305" y="180"/>
                </a:lnTo>
                <a:lnTo>
                  <a:pt x="309" y="190"/>
                </a:lnTo>
                <a:lnTo>
                  <a:pt x="310" y="200"/>
                </a:lnTo>
                <a:lnTo>
                  <a:pt x="314" y="209"/>
                </a:lnTo>
                <a:lnTo>
                  <a:pt x="318" y="228"/>
                </a:lnTo>
                <a:lnTo>
                  <a:pt x="320" y="248"/>
                </a:lnTo>
                <a:lnTo>
                  <a:pt x="320" y="265"/>
                </a:lnTo>
                <a:lnTo>
                  <a:pt x="318" y="282"/>
                </a:lnTo>
                <a:lnTo>
                  <a:pt x="316" y="299"/>
                </a:lnTo>
                <a:lnTo>
                  <a:pt x="312" y="315"/>
                </a:lnTo>
                <a:lnTo>
                  <a:pt x="307" y="328"/>
                </a:lnTo>
                <a:lnTo>
                  <a:pt x="301" y="340"/>
                </a:lnTo>
                <a:lnTo>
                  <a:pt x="295" y="351"/>
                </a:lnTo>
                <a:lnTo>
                  <a:pt x="289" y="361"/>
                </a:lnTo>
                <a:lnTo>
                  <a:pt x="286" y="365"/>
                </a:lnTo>
                <a:lnTo>
                  <a:pt x="282" y="369"/>
                </a:lnTo>
                <a:lnTo>
                  <a:pt x="278" y="372"/>
                </a:lnTo>
                <a:lnTo>
                  <a:pt x="276" y="374"/>
                </a:lnTo>
                <a:lnTo>
                  <a:pt x="272" y="376"/>
                </a:lnTo>
                <a:lnTo>
                  <a:pt x="270" y="378"/>
                </a:lnTo>
                <a:lnTo>
                  <a:pt x="266" y="378"/>
                </a:lnTo>
                <a:lnTo>
                  <a:pt x="264" y="380"/>
                </a:lnTo>
                <a:lnTo>
                  <a:pt x="261" y="378"/>
                </a:lnTo>
                <a:lnTo>
                  <a:pt x="255" y="376"/>
                </a:lnTo>
                <a:lnTo>
                  <a:pt x="249" y="374"/>
                </a:lnTo>
                <a:lnTo>
                  <a:pt x="241" y="369"/>
                </a:lnTo>
                <a:lnTo>
                  <a:pt x="234" y="363"/>
                </a:lnTo>
                <a:lnTo>
                  <a:pt x="226" y="357"/>
                </a:lnTo>
                <a:lnTo>
                  <a:pt x="218" y="347"/>
                </a:lnTo>
                <a:lnTo>
                  <a:pt x="209" y="338"/>
                </a:lnTo>
                <a:lnTo>
                  <a:pt x="199" y="328"/>
                </a:lnTo>
                <a:lnTo>
                  <a:pt x="188" y="315"/>
                </a:lnTo>
                <a:lnTo>
                  <a:pt x="176" y="301"/>
                </a:lnTo>
                <a:lnTo>
                  <a:pt x="165" y="286"/>
                </a:lnTo>
                <a:lnTo>
                  <a:pt x="151" y="269"/>
                </a:lnTo>
                <a:lnTo>
                  <a:pt x="138" y="251"/>
                </a:lnTo>
                <a:lnTo>
                  <a:pt x="124" y="230"/>
                </a:lnTo>
                <a:lnTo>
                  <a:pt x="109" y="209"/>
                </a:lnTo>
                <a:lnTo>
                  <a:pt x="94" y="190"/>
                </a:lnTo>
                <a:lnTo>
                  <a:pt x="80" y="171"/>
                </a:lnTo>
                <a:lnTo>
                  <a:pt x="67" y="154"/>
                </a:lnTo>
                <a:lnTo>
                  <a:pt x="55" y="138"/>
                </a:lnTo>
                <a:lnTo>
                  <a:pt x="44" y="123"/>
                </a:lnTo>
                <a:lnTo>
                  <a:pt x="36" y="108"/>
                </a:lnTo>
                <a:lnTo>
                  <a:pt x="26" y="96"/>
                </a:lnTo>
                <a:lnTo>
                  <a:pt x="19" y="83"/>
                </a:lnTo>
                <a:lnTo>
                  <a:pt x="13" y="73"/>
                </a:lnTo>
                <a:lnTo>
                  <a:pt x="7" y="61"/>
                </a:lnTo>
                <a:lnTo>
                  <a:pt x="3" y="54"/>
                </a:lnTo>
                <a:lnTo>
                  <a:pt x="1" y="46"/>
                </a:lnTo>
                <a:lnTo>
                  <a:pt x="0" y="38"/>
                </a:lnTo>
                <a:lnTo>
                  <a:pt x="0" y="33"/>
                </a:lnTo>
                <a:lnTo>
                  <a:pt x="0" y="29"/>
                </a:lnTo>
                <a:lnTo>
                  <a:pt x="1" y="27"/>
                </a:lnTo>
                <a:lnTo>
                  <a:pt x="9" y="17"/>
                </a:lnTo>
                <a:lnTo>
                  <a:pt x="15" y="12"/>
                </a:lnTo>
                <a:lnTo>
                  <a:pt x="21" y="8"/>
                </a:lnTo>
                <a:lnTo>
                  <a:pt x="26" y="6"/>
                </a:lnTo>
                <a:lnTo>
                  <a:pt x="32" y="2"/>
                </a:lnTo>
                <a:lnTo>
                  <a:pt x="40" y="0"/>
                </a:lnTo>
                <a:lnTo>
                  <a:pt x="49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组合 2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grpSp>
          <p:nvGrpSpPr>
            <p:cNvPr id="159" name="组合 8"/>
            <p:cNvGrpSpPr/>
            <p:nvPr/>
          </p:nvGrpSpPr>
          <p:grpSpPr>
            <a:xfrm>
              <a:off x="1400040" y="3975120"/>
              <a:ext cx="2840040" cy="1572480"/>
              <a:chOff x="1400040" y="3975120"/>
              <a:chExt cx="2840040" cy="1572480"/>
            </a:xfrm>
          </p:grpSpPr>
          <p:pic>
            <p:nvPicPr>
              <p:cNvPr id="160" name="图示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0040" y="3975120"/>
                <a:ext cx="2840040" cy="157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矩形 2"/>
              <p:cNvSpPr/>
              <p:nvPr/>
            </p:nvSpPr>
            <p:spPr>
              <a:xfrm>
                <a:off x="1444680" y="4588200"/>
                <a:ext cx="2766600" cy="551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“  ”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上面点、撇对称，弯钩略呈弧形。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2" name="Picture 36" descr=""/>
            <p:cNvPicPr/>
            <p:nvPr/>
          </p:nvPicPr>
          <p:blipFill>
            <a:blip r:embed="rId2"/>
            <a:stretch/>
          </p:blipFill>
          <p:spPr>
            <a:xfrm>
              <a:off x="1813680" y="4770720"/>
              <a:ext cx="214560" cy="281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猿   麋   耶   瞑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碣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1540800" y="236520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u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3265200" y="237348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9"/>
          <p:cNvSpPr/>
          <p:nvPr/>
        </p:nvSpPr>
        <p:spPr>
          <a:xfrm>
            <a:off x="4809600" y="2379600"/>
            <a:ext cx="7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0"/>
          <p:cNvSpPr/>
          <p:nvPr/>
        </p:nvSpPr>
        <p:spPr>
          <a:xfrm>
            <a:off x="6051600" y="240048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í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1"/>
          <p:cNvSpPr/>
          <p:nvPr/>
        </p:nvSpPr>
        <p:spPr>
          <a:xfrm>
            <a:off x="1711800" y="3738600"/>
            <a:ext cx="7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3117600" y="372276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uā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71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4:20:22Z</dcterms:modified>
  <cp:revision>5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